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2"/>
          <p:cNvSpPr>
            <a:spLocks noGrp="1"/>
          </p:cNvSpPr>
          <p:nvPr>
            <p:ph type="dt" idx="46"/>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3"/>
          <p:cNvSpPr>
            <a:spLocks noGrp="1"/>
          </p:cNvSpPr>
          <p:nvPr>
            <p:ph type="sldImg"/>
          </p:nvPr>
        </p:nvSpPr>
        <p:spPr>
          <a:xfrm>
            <a:off x="91116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1" name="PlaceHolder 4"/>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2" name="PlaceHolder 5"/>
          <p:cNvSpPr>
            <a:spLocks noGrp="1"/>
          </p:cNvSpPr>
          <p:nvPr>
            <p:ph type="ftr" idx="47"/>
          </p:nvPr>
        </p:nvSpPr>
        <p:spPr>
          <a:xfrm>
            <a:off x="0" y="9421920"/>
            <a:ext cx="2938320" cy="495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6"/>
          <p:cNvSpPr>
            <a:spLocks noGrp="1"/>
          </p:cNvSpPr>
          <p:nvPr>
            <p:ph type="sldNum" idx="48"/>
          </p:nvPr>
        </p:nvSpPr>
        <p:spPr>
          <a:xfrm>
            <a:off x="3841920" y="942192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6317-1B48-4AD2-AB39-BC6642874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11160" y="744480"/>
            <a:ext cx="4959360" cy="3719520"/>
          </a:xfrm>
          <a:prstGeom prst="rect">
            <a:avLst/>
          </a:prstGeom>
          <a:ln w="0">
            <a:noFill/>
          </a:ln>
        </p:spPr>
      </p:sp>
      <p:sp>
        <p:nvSpPr>
          <p:cNvPr id="754"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5"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7CEF-66D0-4667-AF5F-C3FA83624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5F577-C605-46F9-954A-0D2DACF5B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E76C2-46D9-48ED-B789-B95A48AAA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BEE80-B720-42E7-BD42-37408A82C2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63003F-C560-4AEA-914B-6C13B47D37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120780-3C1F-46DE-BBFA-0670933FD1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F1F62-862C-45C6-AAD8-0441A2A15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D1C56-B4F4-470B-B08F-5DD331DEA3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FAFB9-3AA5-4777-A2A4-FDA852D9E7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BDFAC8-EC26-4184-BFC8-3EFBAE80E5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0175C9-3BDD-41CD-9D04-80A3A4BC40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C07E26-CEB7-44C9-AE12-79AF37851D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DC4883-7401-4A13-BB3B-2310D9F853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AB8B3-A0D4-4A27-B3A8-24950A18B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F72063-EF2E-4A1D-A0D6-77B0A0ACDE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F50D0D-334A-4648-8053-F4D15ECE53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69744B-851D-4588-9096-D4E11DADEB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02D2F4-A569-4123-92F1-587C6C925E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39C818-AF10-4821-92D0-CA0F3EB1F7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3C8731-903A-4351-87B0-5721A5685D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809370-9243-4812-9FD3-696AC30F00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0F86BD-13BC-49B7-A9FA-0E764ED4C0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EF7BEF-07B1-43A7-ABC7-D5870B706B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6315AC-6D75-416F-ACBD-2C77EB889FB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C0A6E-E2D7-4457-A925-8F791202E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2084BF-F5C1-46CE-B734-B5A4D6D643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0135E2A-984B-466B-B66D-E62DEAD464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59BD67-1C96-4F9F-8C41-4390F2E479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071133-C76C-472B-A537-94227EBA40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C66B26-7A08-4811-BC90-41AF71C523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CA40F8-7A4C-4747-8D37-40B1502252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1796AF-9808-45C6-A7CF-C9C2BBD8D4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26683D-5EDF-4BF0-B426-18A1064F78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FD217E-DF92-494F-B4D4-AFC53C8B44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29CAB5-453F-4B8D-81E5-649AE4C0E0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1C686-3FC3-4154-802D-17A576760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42F405-4FC9-4340-AB81-7E27C50156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92391F-E9C9-48C1-8996-8C565EC958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A21D61-F3F6-46EB-B01E-5B8C828520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354BCF9-59E6-4AA7-A56E-6C1EDE6C67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D83464D-1A63-4198-8DD2-9DFD6D6B13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6E6BF14-FE0A-47BB-9E05-1499ADE627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A0DE357-D503-402D-A466-DC045E05E5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D5F4F9A-53B6-48EE-B383-7EB2775790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9A95172-3285-4CDF-95D6-C89361B329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A527A22-5C20-499A-B799-B94BD5CC41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4FC94-2099-4EDC-9ABD-DBFA05745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6A8629B-F023-4280-B954-8D1966AC3D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52CB195-D7FF-40A0-907D-BA5910D476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02B3BFD-EB35-4DA3-8BB9-1B20987F1F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D70B90C-91FE-49CF-8F11-47DBD81CF0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9ADD1DA-3720-496C-AC89-8926F7209F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E9E36DC3-C037-467F-A5FE-C3411320E6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A6C5CC4E-5483-44A2-B859-60B0855163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ADEF9DAB-9872-4168-BB4D-FBF2498496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4ED34BD8-7F04-4B91-A045-684174D2DD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24A11C20-707C-4433-8290-4B3FEBAD49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A86FA-0A37-44FC-9DAD-70D2ACD44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DF1E2A15-E9C5-4657-8D4F-6AC7B6347A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3AE66CA7-C616-4B6C-AACF-97F2C28739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EB6B8A5C-1945-4ACD-8F24-23535AAA86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B4D16E0B-0927-4B75-B3D8-043C5371BA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2A45FAEC-B54F-467C-A5B4-7AFCD5092E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DDE0175B-E4EC-4AD1-BCEF-354B2B7812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599867D4-2040-45C9-9D97-2D8DEDDE60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C77AD9E-6FF7-40A1-9689-8E8711D1B9E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6052E3-193C-495C-B5B7-9D3870E748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874F60-E5CA-42B1-9F4D-14B8CF028A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C7DE9-090B-43F4-A869-179336031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57C045-1D60-4F90-9319-B6C1B9856C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759D63D-D467-415A-BCA1-9E230945DE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133EEB-7CC0-4A5E-84A7-10F38123B9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2F1CED-4F30-48AF-810F-8DDF540B4F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440C17-11CA-4E64-A0F2-1211EEF326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EB00F9-EAB2-4D9C-BE66-F2478AC5D5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6A5536-53F6-4E1B-82E4-98287F8492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A206CC5-54F4-4705-96E8-6442696822E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1FF7CB1-96AB-4343-BBF7-5FED06F5932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7DF56F67-470F-4E34-BB6F-807960F2B8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1AB11-F55D-4F3F-A64C-89DE74A21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A108F4FD-17F6-4F20-BFB6-11B01C8E17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C46E28CF-F2A3-4F85-9A59-35EC434237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D269090F-5160-4826-BF61-3C547522AC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22D425C8-80CB-4F9B-B484-F276D6E961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87F19C62-4307-4294-BACB-374B09EC04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935ED804-F71B-4366-BE37-7EBEF2B09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61DA35A6-22EC-4F69-9C31-F36B0D07AB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E6E0761A-05A3-4022-B8EC-D88B0D3AB8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E0D418C2-CD86-4442-92B7-F9D9DDF9DF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EB476F25-D8C0-4DBA-9061-DFC35EFD8B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6C60D-A029-4B7A-A0CC-FB046074D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9A6AB086-817A-4A45-9A8E-848183B086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80054-8CAA-4585-B807-4210DB485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7E1F5-2C12-4B55-9156-E0C3E45D3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7C746-D767-4797-968F-38C88E403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2D674-6B2B-4A34-8B45-8D4D96896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D57BB-B451-40B1-804C-CD48C5944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6E7A9-1D0A-4A2E-BBD0-5726CFE1B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5CA93-8DFE-4803-81F4-9A8C0CFBE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F449BD-052E-4E8A-90D7-99987D9896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B4EEB-4A4B-44D0-9FB5-20D96F032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AE90F4-FBD0-4CA2-92D2-E4CA076751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DE62E-7267-41A0-B67D-3A8FB64A2D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1A435-E178-4E06-AB70-03961C59D4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2849E-2B02-4AEA-9872-23BA498D0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5F10D-4744-4A2E-A3C9-96E0811EE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A15C2-1EF2-496B-A46C-552C9C3EA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1ABCA-1AEC-454B-988C-2803B83E6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6350C-DFC9-4560-BCE5-63AD096BF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2B6BD-F6BF-4329-AA7C-0348B5A8C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C314D9-B9DD-4CD6-A684-2987B10B6F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9C478C-FB8C-49E4-B767-A2F36EFED6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936D8E-7D43-433C-BA69-D083F5D313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D548A-823D-409B-9A4C-793927491A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92A18-A499-4BED-8127-0749D3816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50A2A-2B04-4804-9126-CB7B34E96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DE64A-6ED9-4382-A592-1023D63AB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DB21DA-0ABD-494B-AB3F-4031227559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05D286-2ACC-4052-AE9E-5BD8CA18C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B2573-6B7F-43E7-B418-EAB61B219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F149C-0D61-44B6-82C3-AB81F360C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150F1-1320-45B9-8764-1BA527F00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9B9972-A138-4EDC-9C59-690187148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A56A18-254C-4818-B791-31351C2E33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EFB9EE-8DEC-4DD8-B444-6091927C4D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1733D8-7A5B-4149-A89B-C703B664C0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BE5BD-FA28-45E5-941B-DC5DDC305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09A263-84F2-4E6E-B7CB-180FB4DDF0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05423F-96A4-40AA-8284-7A55AA569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0B8F2-1F48-462B-B346-009335AF6A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206AC-F1C9-41B9-B73A-57D6529C0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6DEA2B-D1CC-47FC-96EA-2C09AB02B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31A7D-D729-4AB9-8598-6992DC5DD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8993F-EEA6-4E3C-B4A7-981E03475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056D2-9FBD-4E06-A50C-C90E1BEF1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4CF26-3053-4CA9-B4A0-8E25EB99A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682458-0A8C-45B7-ACDB-690A0D65BB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9487B-1D77-4F5B-8152-133A3F4C5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039BED-91D2-42EA-A6E5-94760184DA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C85583-0991-4AD0-930D-B67971E62B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01B46-90FB-4032-AC49-C686A492E7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352933-4BAD-4142-A371-BF81E1C36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06E7B4-5069-4D88-BD61-BECD0A1CE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6B180E-F43E-4A57-9DD5-F6D760077F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7177ED-2C99-4BAC-A46E-89C230B56B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E409A-0871-4C22-A28A-3FF41034C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96C49-54D6-4124-A4E8-77A89CC9C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A7B72-2F87-4270-A34D-A639C6B48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3FB3-C293-4AD6-B95E-50A9022F6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3074C-F218-4B3A-B8C3-98ECC1B229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DA9E1A-A9F4-44E1-9DCD-440D02C17B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990C75-D66F-4D14-AF7A-0A0A9D93CA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86B9E3E1-DDCE-48B9-B47D-FC8BF7708D2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496BB281-6E8E-4772-831E-DA088303395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7A43FB92-09D0-4096-A7F2-EDBC36F505C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97FF5C18-0292-482F-AAD8-0E3BD5CFEFD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3ABE190A-1FBB-4312-A6FD-45E8BE039E2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6152A59E-AB0E-46A9-93CF-58FBA628AC8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E4721C00-1699-4F8B-BCCC-9177E41046C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2F1DA-D750-4614-A642-1986E3B9D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D4BD0F3E-C635-46C0-8776-669232E8485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FE70E3C3-F378-4946-A1B0-3A9FDE778CE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DF94ACA1-42C7-40A3-A382-CE285B8C3E4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31DCAC69-6789-4140-A341-0CEB8A8714A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E7F78F9A-3015-4039-8B8E-8D54A39F1DE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A8E863-BBD0-4830-91CE-4942E7218F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0C2AB-499B-4362-BAA0-E865FE8FD5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F371D8-399D-495B-B2B8-A322B57455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332D0B-A322-4A57-8390-3C46580DE1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35B3B4-B478-4BD1-863B-ECBDEC80CB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280F-1ADB-4223-A282-BDA47332A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62A591-EC1F-4C68-8CBC-117877F3DA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708BEF-80FA-42E6-83EB-57FA8B0DF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3931BE-F400-4F13-84C4-908CAC9D10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D28B2-8A98-488C-A0F9-153BCEE03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F510A2-715A-40EA-B0DD-1F4F6799E9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6CF293-400B-4618-A94F-D3F49EA70C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14F77C-2E11-4720-A010-FAC9F8F1EE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990C1D-225E-4B29-A9AA-B58A127DBD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ECFAD9-42F1-4189-9C4C-BB8070274F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635251-025E-4F1E-9BC8-89713DFE62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501A-ABE8-40D6-845D-809F6EE66E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16" descr="Cover Page Corporate Arabic August 2008"/>
          <p:cNvPicPr/>
          <p:nvPr/>
        </p:nvPicPr>
        <p:blipFill>
          <a:blip r:embed="rId2"/>
          <a:stretch/>
        </p:blipFill>
        <p:spPr>
          <a:xfrm>
            <a:off x="0" y="0"/>
            <a:ext cx="9177480" cy="688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9" descr="Header 2 Arabic Power Point"/>
          <p:cNvPicPr/>
          <p:nvPr/>
        </p:nvPicPr>
        <p:blipFill>
          <a:blip r:embed="rId2"/>
          <a:stretch/>
        </p:blipFill>
        <p:spPr>
          <a:xfrm>
            <a:off x="0" y="-1440"/>
            <a:ext cx="9144000" cy="6859440"/>
          </a:xfrm>
          <a:prstGeom prst="rect">
            <a:avLst/>
          </a:prstGeom>
          <a:ln w="0">
            <a:noFill/>
          </a:ln>
        </p:spPr>
      </p:pic>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4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46"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FE82-26E1-4CF1-8632-702B3228DD4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9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93"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5"/>
          <p:cNvSpPr>
            <a:spLocks noGrp="1"/>
          </p:cNvSpPr>
          <p:nvPr>
            <p:ph type="sldNum" idx="33"/>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D3D1-6BEE-46FF-84D7-7D62DCCC84F5}"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4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45" name="PlaceHolder 3"/>
          <p:cNvSpPr>
            <a:spLocks noGrp="1"/>
          </p:cNvSpPr>
          <p:nvPr>
            <p:ph type="sldNum" idx="3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EF3B-41A3-4E1A-8E4A-673960B4E8C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546"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ftr" idx="36"/>
          </p:nvPr>
        </p:nvSpPr>
        <p:spPr>
          <a:xfrm>
            <a:off x="301320" y="6409800"/>
            <a:ext cx="33829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9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97" name="PlaceHolder 3"/>
          <p:cNvSpPr>
            <a:spLocks noGrp="1"/>
          </p:cNvSpPr>
          <p:nvPr>
            <p:ph type="sldNum" idx="37"/>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45C8-5FDF-4BFC-8B67-5569A0317B1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598" name="PlaceHolder 4"/>
          <p:cNvSpPr>
            <a:spLocks noGrp="1"/>
          </p:cNvSpPr>
          <p:nvPr>
            <p:ph type="dt" idx="38"/>
          </p:nvPr>
        </p:nvSpPr>
        <p:spPr>
          <a:xfrm>
            <a:off x="578808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5"/>
          <p:cNvSpPr>
            <a:spLocks noGrp="1"/>
          </p:cNvSpPr>
          <p:nvPr>
            <p:ph type="ftr" idx="39"/>
          </p:nvPr>
        </p:nvSpPr>
        <p:spPr>
          <a:xfrm>
            <a:off x="301320" y="6409800"/>
            <a:ext cx="35845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Picture 9" descr="Header 2 Arabic Power Point"/>
          <p:cNvPicPr/>
          <p:nvPr/>
        </p:nvPicPr>
        <p:blipFill>
          <a:blip r:embed="rId2"/>
          <a:stretch/>
        </p:blipFill>
        <p:spPr>
          <a:xfrm>
            <a:off x="0" y="-1440"/>
            <a:ext cx="9144000" cy="6859440"/>
          </a:xfrm>
          <a:prstGeom prst="rect">
            <a:avLst/>
          </a:prstGeom>
          <a:ln w="0">
            <a:noFill/>
          </a:ln>
        </p:spPr>
      </p:pic>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4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8"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PlaceHolder 5"/>
          <p:cNvSpPr>
            <a:spLocks noGrp="1"/>
          </p:cNvSpPr>
          <p:nvPr>
            <p:ph type="sldNum" idx="4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581B-39F3-45BA-82B9-0418949C9EA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9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98" name="PlaceHolder 3"/>
          <p:cNvSpPr>
            <a:spLocks noGrp="1"/>
          </p:cNvSpPr>
          <p:nvPr>
            <p:ph type="sldNum" idx="43"/>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4DBD-BE99-4E62-AED6-1DBA18BF621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699" name="PlaceHolder 4"/>
          <p:cNvSpPr>
            <a:spLocks noGrp="1"/>
          </p:cNvSpPr>
          <p:nvPr>
            <p:ph type="dt" idx="44"/>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5"/>
          <p:cNvSpPr>
            <a:spLocks noGrp="1"/>
          </p:cNvSpPr>
          <p:nvPr>
            <p:ph type="ftr" idx="45"/>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C974-3A6F-4FC0-B039-76CD3386A9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11" descr="Header Arabic Power Point August 2008"/>
          <p:cNvPicPr/>
          <p:nvPr/>
        </p:nvPicPr>
        <p:blipFill>
          <a:blip r:embed="rId2"/>
          <a:stretch/>
        </p:blipFill>
        <p:spPr>
          <a:xfrm>
            <a:off x="0" y="0"/>
            <a:ext cx="9177480" cy="688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2DD2-588D-477D-AB3D-710AD9F960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9" descr="Header 2 Arabic Power Point"/>
          <p:cNvPicPr/>
          <p:nvPr/>
        </p:nvPicPr>
        <p:blipFill>
          <a:blip r:embed="rId2"/>
          <a:stretch/>
        </p:blipFill>
        <p:spPr>
          <a:xfrm>
            <a:off x="0" y="-144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2"/>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3"/>
          <p:cNvSpPr>
            <a:spLocks noGrp="1"/>
          </p:cNvSpPr>
          <p:nvPr>
            <p:ph type="sldNum" idx="1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20E1-DE93-4820-9D3A-383B1BD7ED6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138"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9"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40" name="Picture 9" descr="Header 2 Arabic Power Point"/>
          <p:cNvPicPr/>
          <p:nvPr/>
        </p:nvPicPr>
        <p:blipFill>
          <a:blip r:embed="rId2"/>
          <a:stretch/>
        </p:blipFill>
        <p:spPr>
          <a:xfrm>
            <a:off x="0" y="-144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7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8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88" name="PlaceHolder 3"/>
          <p:cNvSpPr>
            <a:spLocks noGrp="1"/>
          </p:cNvSpPr>
          <p:nvPr>
            <p:ph type="dt" idx="13"/>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138B-3A11-4A4A-8603-4A56DFA083FF}"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2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9" descr="Header 2 Arabic Power Point"/>
          <p:cNvPicPr/>
          <p:nvPr/>
        </p:nvPicPr>
        <p:blipFill>
          <a:blip r:embed="rId2"/>
          <a:stretch/>
        </p:blipFill>
        <p:spPr>
          <a:xfrm>
            <a:off x="0" y="-1440"/>
            <a:ext cx="9144000" cy="6859440"/>
          </a:xfrm>
          <a:prstGeom prst="rect">
            <a:avLst/>
          </a:prstGeom>
          <a:ln w="0">
            <a:noFill/>
          </a:ln>
        </p:spPr>
      </p:pic>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3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39"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CE95-918E-46BC-8D31-F1E926B426B8}"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9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91" name="PlaceHolder 3"/>
          <p:cNvSpPr>
            <a:spLocks noGrp="1"/>
          </p:cNvSpPr>
          <p:nvPr>
            <p:ph type="ftr" idx="19"/>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4"/>
          <p:cNvSpPr>
            <a:spLocks noGrp="1"/>
          </p:cNvSpPr>
          <p:nvPr>
            <p:ph type="dt" idx="20"/>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1"/>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C02E-ED5E-4C46-A301-AC153A2278E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3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Picture 9" descr="Header 2 Arabic Power Point"/>
          <p:cNvPicPr/>
          <p:nvPr/>
        </p:nvPicPr>
        <p:blipFill>
          <a:blip r:embed="rId2"/>
          <a:stretch/>
        </p:blipFill>
        <p:spPr>
          <a:xfrm>
            <a:off x="0" y="-1440"/>
            <a:ext cx="9144000" cy="6859440"/>
          </a:xfrm>
          <a:prstGeom prst="rect">
            <a:avLst/>
          </a:prstGeom>
          <a:ln w="0">
            <a:noFill/>
          </a:ln>
        </p:spPr>
      </p:pic>
      <p:sp>
        <p:nvSpPr>
          <p:cNvPr id="340"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4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43" name="PlaceHolder 3"/>
          <p:cNvSpPr>
            <a:spLocks noGrp="1"/>
          </p:cNvSpPr>
          <p:nvPr>
            <p:ph type="dt" idx="22"/>
          </p:nvPr>
        </p:nvSpPr>
        <p:spPr>
          <a:xfrm>
            <a:off x="5791320" y="6409800"/>
            <a:ext cx="30448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4"/>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5A1E-C3FF-4990-8413-DA431C4986C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82"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9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95" name="PlaceHolder 3"/>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ftr" idx="26"/>
          </p:nvPr>
        </p:nvSpPr>
        <p:spPr>
          <a:xfrm>
            <a:off x="304920" y="6409800"/>
            <a:ext cx="35812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27"/>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D7FA-0DB2-4902-B186-5B528F3F244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90720" y="1828800"/>
            <a:ext cx="7772400" cy="327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ffff"/>
                </a:solidFill>
                <a:latin typeface="Arial"/>
              </a:rPr>
              <a:t>عرض تقديمي لقرار مجلس منظمة الجمارك العالمية بشأن جهدها المتواصل في التعامل مع تبعات الأزمة العالمية والتباطؤ الاقتصادي العالمي</a:t>
            </a:r>
            <a:br>
              <a:rPr sz="96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TextBox 2"/>
          <p:cNvSpPr/>
          <p:nvPr/>
        </p:nvSpPr>
        <p:spPr>
          <a:xfrm>
            <a:off x="0" y="914400"/>
            <a:ext cx="9144000" cy="63118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 اصدر مجلس المنظمة قرارا في حزيران/ يونيو </a:t>
            </a:r>
            <a:r>
              <a:rPr b="0" lang="ar-LB" sz="2400" spc="-1" strike="noStrike">
                <a:solidFill>
                  <a:srgbClr val="000000"/>
                </a:solidFill>
                <a:latin typeface="Arial"/>
              </a:rPr>
              <a:t>2009</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rPr>
              <a:t>يلحظ القرار الأمور التالية: </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ea typeface="Arial"/>
              </a:rPr>
              <a:t>- إعلان المنظمة حول الأزمة المالية العالمية والذي أصدرته في بيونس ايرس عام  </a:t>
            </a:r>
            <a:r>
              <a:rPr b="0" lang="ar-LB" sz="2400" spc="-1" strike="noStrike">
                <a:solidFill>
                  <a:srgbClr val="000000"/>
                </a:solidFill>
                <a:latin typeface="Arial"/>
                <a:ea typeface="Arial"/>
              </a:rPr>
              <a:t>2008</a:t>
            </a:r>
            <a:endParaRPr b="0" lang="en-US" sz="24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ea typeface="Arial"/>
              </a:rPr>
              <a:t>- المكاتبة التي وجهت إلى مجموعة العشرين قبيل انعقاد قمتها بلندن  والذي أرسل من بروكسل في نيسان/ ابريل </a:t>
            </a:r>
            <a:r>
              <a:rPr b="0" lang="ar-LB" sz="2400" spc="-1" strike="noStrike">
                <a:solidFill>
                  <a:srgbClr val="000000"/>
                </a:solidFill>
                <a:latin typeface="Arial"/>
                <a:ea typeface="Arial"/>
              </a:rPr>
              <a:t>2009</a:t>
            </a:r>
            <a:endParaRPr b="0" lang="en-US" sz="24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ea typeface="Arial"/>
              </a:rPr>
              <a:t>- التوصية الأولى من المنظمة إلى مجموعة العشرين بشأن قيام السلطات المحلية  بدعم وتطوير إجراءات تسهيل التجارة بما يتماشى مع المستويات المعتمدة من قبل المنظمات والهيئات العالمية المعنية </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ea typeface="Arial"/>
              </a:rPr>
              <a:t>- التوصية الثانية بشأن قيام الاقتصادات المتقدمة والمنظمات المانحة للمعونة  بدعم البرامج التي تساهم في تطوير وبناء قدرات الجمارك في البلدان النامية بما فيها توفير البنى التحتية اللازمة لتسهيل وزيادة التجارة والاستثمار على الصعيد العالم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28240" y="1294920"/>
            <a:ext cx="8534520" cy="5334120"/>
          </a:xfrm>
          <a:prstGeom prst="rect">
            <a:avLst/>
          </a:prstGeom>
          <a:noFill/>
          <a:ln w="0">
            <a:noFill/>
          </a:ln>
        </p:spPr>
        <p:txBody>
          <a:bodyPr anchor="b">
            <a:noAutofit/>
          </a:bodyPr>
          <a:p>
            <a:pPr marL="39384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Arial"/>
                <a:ea typeface="Arial"/>
              </a:rPr>
              <a:t>- التوصية الثالثة إلى مجموعة العشرين والتي تدعو إلى تشجيع منظمة الجمارك العالمية وغيرها من المنظمات المعنية  في رصد مسارات التجارة العالمية وتعيين الممارسات الأفضل التي من شأنها أن تساهم في استدامة النظام التجاري العالمي. </a:t>
            </a:r>
            <a:br>
              <a:rPr sz="2200"/>
            </a:br>
            <a:br>
              <a:rPr sz="2200"/>
            </a:br>
            <a:r>
              <a:rPr b="0" lang="ar-LB" sz="2200" spc="-1" strike="noStrike">
                <a:solidFill>
                  <a:srgbClr val="000000"/>
                </a:solidFill>
                <a:latin typeface="Arial"/>
                <a:ea typeface="Arial"/>
              </a:rPr>
              <a:t>- قيام مجموعة العشرين بإصدار تعميم في </a:t>
            </a:r>
            <a:r>
              <a:rPr b="0" lang="ar-LB" sz="2200" spc="-1" strike="noStrike">
                <a:solidFill>
                  <a:srgbClr val="000000"/>
                </a:solidFill>
                <a:latin typeface="Arial"/>
                <a:ea typeface="Arial"/>
              </a:rPr>
              <a:t>2</a:t>
            </a:r>
            <a:r>
              <a:rPr b="0" lang="ar-LB" sz="2200" spc="-1" strike="noStrike">
                <a:solidFill>
                  <a:srgbClr val="000000"/>
                </a:solidFill>
                <a:latin typeface="Arial"/>
                <a:ea typeface="Arial"/>
              </a:rPr>
              <a:t> نيسان/ ابريل </a:t>
            </a:r>
            <a:r>
              <a:rPr b="0" lang="ar-LB" sz="2200" spc="-1" strike="noStrike">
                <a:solidFill>
                  <a:srgbClr val="000000"/>
                </a:solidFill>
                <a:latin typeface="Arial"/>
                <a:ea typeface="Arial"/>
              </a:rPr>
              <a:t>2009</a:t>
            </a:r>
            <a:r>
              <a:rPr b="0" lang="ar-LB" sz="2200" spc="-1" strike="noStrike">
                <a:solidFill>
                  <a:srgbClr val="000000"/>
                </a:solidFill>
                <a:latin typeface="Arial"/>
                <a:ea typeface="Arial"/>
              </a:rPr>
              <a:t> يعكس التوجهات المضمنة في التوصيات الثلاث الأنفة الذكر. </a:t>
            </a:r>
            <a:br>
              <a:rPr sz="2200"/>
            </a:br>
            <a:br>
              <a:rPr sz="2200"/>
            </a:br>
            <a:r>
              <a:rPr b="0" lang="ar-LB" sz="2200" spc="-1" strike="noStrike">
                <a:solidFill>
                  <a:srgbClr val="000000"/>
                </a:solidFill>
                <a:latin typeface="Arial"/>
                <a:ea typeface="Arial"/>
              </a:rPr>
              <a:t>- بالرغم من وجود بعض المؤشرات الايجابية تجاه الاستقرار إلا انه تبقى هناك  توجسات جادة من قبل أعضاء منظمة الجمارك العالمية  والقطاع الخاص، تجاه انخفاض حجم التجارة العالمية، وانخفاض تحصيل التعرفة الجمركية ، وتزايد الحمائية، ونقص أو تراجع التمويل التجاري</a:t>
            </a:r>
            <a:br>
              <a:rPr sz="2200"/>
            </a:br>
            <a:br>
              <a:rPr sz="2200"/>
            </a:br>
            <a:br>
              <a:rPr sz="2200"/>
            </a:br>
            <a:br>
              <a:rPr sz="2200"/>
            </a:br>
            <a:endParaRPr b="0" lang="en-US" sz="2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01320" y="0"/>
            <a:ext cx="8534520" cy="914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Georgia"/>
                <a:cs typeface="Arial"/>
              </a:rPr>
              <a:t>تقرر</a:t>
            </a:r>
            <a:r>
              <a:rPr b="0" lang="ar-LB" sz="3300" spc="-1" strike="noStrike">
                <a:solidFill>
                  <a:srgbClr val="ffffff"/>
                </a:solidFill>
                <a:latin typeface="Georgia"/>
                <a:ea typeface="Arial"/>
              </a:rPr>
              <a:t>: </a:t>
            </a:r>
            <a:endParaRPr b="0" lang="en-US" sz="3300" spc="-1" strike="noStrike">
              <a:solidFill>
                <a:srgbClr val="7b9899"/>
              </a:solidFill>
              <a:latin typeface="Georgia"/>
            </a:endParaRPr>
          </a:p>
        </p:txBody>
      </p:sp>
      <p:sp>
        <p:nvSpPr>
          <p:cNvPr id="748" name=""/>
          <p:cNvSpPr txBox="1"/>
          <p:nvPr/>
        </p:nvSpPr>
        <p:spPr>
          <a:xfrm>
            <a:off x="301320" y="1527120"/>
            <a:ext cx="8504280" cy="4572000"/>
          </a:xfrm>
          <a:prstGeom prst="rect">
            <a:avLst/>
          </a:prstGeom>
          <a:noFill/>
          <a:ln w="0">
            <a:noFill/>
          </a:ln>
        </p:spPr>
        <p:txBody>
          <a:bodyPr anchor="t">
            <a:normAutofit fontScale="86000"/>
          </a:bodyPr>
          <a:p>
            <a:pPr marL="234360" indent="-23436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Georgia"/>
                <a:cs typeface="Times New Roman"/>
              </a:rPr>
              <a:t>دعوة سكرتارية منظمة الجمارك العالمية والدول الأعضاء وكذلك المجموعة الاستشارية من القطاع الخاص للمنظمة إلى الاستمرار في رصد التطورات في الاقتصاد العالمي وأثرها على التجارة العالمية وكذلك على العمليات الجمركية وخاصة تجاه خفض الكلفة لشركات الأعمال وإدارات الجمارك.</a:t>
            </a:r>
            <a:endParaRPr b="0" lang="en-US" sz="2700" spc="-1" strike="noStrike">
              <a:solidFill>
                <a:srgbClr val="000000"/>
              </a:solidFill>
              <a:latin typeface="Georgia"/>
            </a:endParaRPr>
          </a:p>
          <a:p>
            <a:pPr marL="234360" indent="-23436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Georgia"/>
                <a:cs typeface="Times New Roman"/>
              </a:rPr>
              <a:t>الإبلاغ المتواصل  فيما بين المنظمة والدول الأعضاء حول أفضل الممارسات والدروس المستفادة وكل معلومة هامة من شأنها أن تساهم في الاستجابة  للتباطؤ الاقتصادي العالمي.</a:t>
            </a:r>
            <a:endParaRPr b="0" lang="en-US" sz="2700" spc="-1" strike="noStrike">
              <a:solidFill>
                <a:srgbClr val="000000"/>
              </a:solidFill>
              <a:latin typeface="Georgia"/>
            </a:endParaRPr>
          </a:p>
          <a:p>
            <a:pPr marL="234360" indent="-23436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Georgia"/>
                <a:cs typeface="Times New Roman"/>
              </a:rPr>
              <a:t>ان تقوم المنظمة والدول الأعضاء بدفع الجهود تجاه زيادة  فعالية بناء القدرات كاستجابة لانخفاض المردود من تحصيل التعرفة الجمركية وبسبب المعوقات تجاه تسهيل التجارة والناجمة عن التباطؤ الاقتصادي.</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0"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Georgia"/>
                <a:cs typeface="Times New Roman"/>
              </a:rPr>
              <a:t>المذكرة مؤلفة من نص القرار وملحقين:</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47560" indent="-272880" algn="r" rtl="1">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000000"/>
                </a:solidFill>
                <a:latin typeface="Georgia"/>
                <a:cs typeface="Times New Roman"/>
              </a:rPr>
              <a:t>الملحق الأول بشأن </a:t>
            </a:r>
            <a:r>
              <a:rPr b="1" lang="ar-LB" sz="2400" spc="-1" strike="noStrike">
                <a:solidFill>
                  <a:srgbClr val="000000"/>
                </a:solidFill>
                <a:latin typeface="Georgia"/>
                <a:cs typeface="Times New Roman"/>
              </a:rPr>
              <a:t>إعلان المنظمة حول الأزمة المالية العالمية والذي أصدرته في بيونس ايرس عام  </a:t>
            </a:r>
            <a:r>
              <a:rPr b="1" lang="ar-LB" sz="2400" spc="-1" strike="noStrike">
                <a:solidFill>
                  <a:srgbClr val="000000"/>
                </a:solidFill>
                <a:latin typeface="Georgia"/>
                <a:ea typeface="Times New Roman"/>
              </a:rPr>
              <a:t>2008</a:t>
            </a:r>
            <a:endParaRPr b="0" lang="en-US" sz="2400" spc="-1" strike="noStrike">
              <a:solidFill>
                <a:srgbClr val="646b86"/>
              </a:solidFill>
              <a:latin typeface="Georgia"/>
            </a:endParaRPr>
          </a:p>
          <a:p>
            <a:pPr lvl="1" marL="547560" indent="-272880" algn="r" rtl="1">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lgn="r" rtl="1">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000000"/>
                </a:solidFill>
                <a:latin typeface="Georgia"/>
                <a:cs typeface="Times New Roman"/>
              </a:rPr>
              <a:t>الملحق الثاني بشأن المكاتبة التي وجهت إلى مجموعة العشرين قبيل انعقاد قمتها بلندن  والذي أرسل من بروكسل في نيسان/ ابريل </a:t>
            </a:r>
            <a:r>
              <a:rPr b="1" lang="ar-LB" sz="2400" spc="-1" strike="noStrike">
                <a:solidFill>
                  <a:srgbClr val="000000"/>
                </a:solidFill>
                <a:latin typeface="Georgia"/>
                <a:ea typeface="Times New Roman"/>
              </a:rPr>
              <a:t>2009</a:t>
            </a:r>
            <a:endParaRPr b="0" lang="en-US" sz="2400" spc="-1" strike="noStrike">
              <a:solidFill>
                <a:srgbClr val="646b86"/>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752" name="Content Placeholder 3" descr=""/>
          <p:cNvPicPr/>
          <p:nvPr/>
        </p:nvPicPr>
        <p:blipFill>
          <a:blip r:embed="rId1"/>
          <a:stretch/>
        </p:blipFill>
        <p:spPr>
          <a:xfrm>
            <a:off x="-55440" y="2724120"/>
            <a:ext cx="8875440" cy="339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04:29Z</dcterms:created>
  <dc:creator>User</dc:creator>
  <dc:description/>
  <dc:language>en-US</dc:language>
  <cp:lastModifiedBy>siham el-sabeh</cp:lastModifiedBy>
  <dcterms:modified xsi:type="dcterms:W3CDTF">2009-11-12T08:14:43Z</dcterms:modified>
  <cp:revision>35</cp:revision>
  <dc:subject/>
  <dc:title>Slide 1</dc:title>
</cp:coreProperties>
</file>