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FBF-5027-4943-B3D9-81C7D42B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F178-8618-4014-AA82-961AF115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7803-E2E9-4F48-AC31-17286CF6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8594-EC3C-4C56-8312-946B586E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7F05-0F22-47E9-B95E-1C2A2FD9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2184-4FAA-4814-898E-770D20FC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E7B7-6291-46D5-9628-F12B49D3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085E-AD70-4BF5-B12B-9CEA9CEF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2AEB-0351-4321-82E7-0EEE3D36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E716-5F34-4D00-9EE3-DBA383A5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0D02-43F3-48AA-9800-EF049A65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B1E-1857-435A-B822-0A49F2D0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A547-EE68-4D74-8D63-F1286C63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827F-F82E-4E3F-BDC9-50E13BDF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492A-4B1B-490D-BAA2-2B3B643B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CAD6-02E0-474A-AE78-8E20346F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0CB8-B61D-426C-A366-5F13869B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CD9-8A80-471C-98A6-7F4EE3A8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ECB2-2814-4BE8-9158-EF79D317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FB8C-C1E5-4831-97BB-87351FBF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67E-8848-41B5-A32F-0A1E17EB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A78E-A7D6-4504-81A4-EB5A3B57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275-50E0-4038-BA59-20454A26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1836-8331-413F-A105-6E440FA5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57E5-AF77-43A4-8ACC-05C4CC0A84A9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7C75-FF42-477E-AF3B-3ED8D87DBFD0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LB" sz="2600" spc="-1" strike="noStrike">
                <a:solidFill>
                  <a:srgbClr val="eaeaea"/>
                </a:solidFill>
                <a:latin typeface="Arial"/>
                <a:cs typeface="Simplified Arabic"/>
              </a:rPr>
              <a:t>ورقة حول</a:t>
            </a:r>
            <a:r>
              <a:rPr b="1" lang="ar-LB" sz="2800" spc="-1" strike="noStrike">
                <a:solidFill>
                  <a:srgbClr val="eaeaea"/>
                </a:solidFill>
                <a:latin typeface="Arial"/>
                <a:ea typeface="Simplified Arabic"/>
              </a:rPr>
              <a:t> </a:t>
            </a:r>
            <a:br>
              <a:rPr sz="2800"/>
            </a:br>
            <a:r>
              <a:rPr b="1" lang="ar-LB" sz="3000" spc="-1" strike="noStrike">
                <a:solidFill>
                  <a:srgbClr val="eaeaea"/>
                </a:solidFill>
                <a:latin typeface="Arial"/>
                <a:cs typeface="Simplified Arabic"/>
              </a:rPr>
              <a:t>أثر الأزمة المالية والاقتصادية العالمية </a:t>
            </a:r>
            <a:br>
              <a:rPr sz="3000"/>
            </a:br>
            <a:r>
              <a:rPr b="1" lang="ar-LB" sz="3000" spc="-1" strike="noStrike">
                <a:solidFill>
                  <a:srgbClr val="eaeaea"/>
                </a:solidFill>
                <a:latin typeface="Arial"/>
                <a:cs typeface="Simplified Arabic"/>
              </a:rPr>
              <a:t>على سياسات التجارة الخارجية في الدول العربية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ffffff"/>
                </a:solidFill>
                <a:latin typeface="Tahoma"/>
              </a:rPr>
              <a:t>اجتماع الخبراء لتحضير الدول العربية</a:t>
            </a:r>
            <a:r>
              <a:rPr b="1" lang="ar-LB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ffffff"/>
                </a:solidFill>
                <a:latin typeface="Tahoma"/>
              </a:rPr>
              <a:t>للاجتماع الوزاري السابع لمنظمة التجارة العالمية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3049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LB" sz="2800" spc="-1" strike="noStrike">
                <a:solidFill>
                  <a:srgbClr val="ffffff"/>
                </a:solidFill>
                <a:latin typeface="Tahoma"/>
              </a:rPr>
              <a:t>الاتحاد العام لغرف التجارة والصناعة والزراعة للبلاد العرب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5181480"/>
            <a:ext cx="35053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تقديم: علا الصيداني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        باحثة اقتصادية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32448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بيروت، </a:t>
            </a: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11</a:t>
            </a: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 تشرين الثاني/ نوفمبر </a:t>
            </a: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eaeaea"/>
                </a:solidFill>
                <a:latin typeface="Tahoma"/>
              </a:rPr>
              <a:t>ثالثا - تداعيات الأزمة على أبرز المؤشرات الاقتصادية في المنطقة العربية.</a:t>
            </a:r>
            <a:endParaRPr b="1" lang="en-US" sz="2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ffff00"/>
                </a:solidFill>
                <a:latin typeface="Tahoma"/>
              </a:rPr>
              <a:t>التأثير على سعر الصرف</a:t>
            </a: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تثبيت معظم العملات مقابل الدولا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تدهور الدولار وارتفاع قيمة اليورو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تراجع في قيمة ميزان المدفوعات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ارتفاع قيمة الواردات من الاتحاد الأوروبي =&gt; الغلاء في الأسعار مجدداً لكن دون المستوى المحقق عام </a:t>
            </a: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2008</a:t>
            </a: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عودة الارتفاع في أسعار النفط عالمياً لكن دون المستوى المحقق عام </a:t>
            </a: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2008</a:t>
            </a: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991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ffff00"/>
                </a:solidFill>
                <a:latin typeface="Tahoma"/>
              </a:rPr>
              <a:t>التأثير على أسعار النفط</a:t>
            </a: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تراجع طلب دول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ECD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 وتخفيض حجم انتاج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PEC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البنك الدولي: يشهد الطلب العالمي على النفط تراجعاً الى حدود 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2.16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 مليون برميل/ اليوم لمجمل عام 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2009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2133720"/>
          <a:ext cx="8152920" cy="4519440"/>
        </p:xfrm>
        <a:graphic>
          <a:graphicData uri="http://schemas.openxmlformats.org/drawingml/2006/table">
            <a:tbl>
              <a:tblPr/>
              <a:tblGrid>
                <a:gridCol w="1153440"/>
                <a:gridCol w="1294920"/>
                <a:gridCol w="768960"/>
                <a:gridCol w="1307880"/>
                <a:gridCol w="1036800"/>
                <a:gridCol w="2590920"/>
              </a:tblGrid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تغيير عن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أيار/ ماي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أيار/ ماي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تغيي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شهري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نيسان/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أبري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أيار/ ماي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مليون برميل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-</a:t>
                      </a: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46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-</a:t>
                      </a: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0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46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44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طلب من دول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OEC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-</a:t>
                      </a: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0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38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0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38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38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طلب من باقي العال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-</a:t>
                      </a: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86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82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82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طلب العالمي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-</a:t>
                      </a: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4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37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0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33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33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معروض من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OPE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-</a:t>
                      </a: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4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32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0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7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7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نفط الخا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0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5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0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5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5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غاز الطبيعي المسيّل والمركّ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48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0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49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49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معروض من خارج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OPE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0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0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سلسلة التصني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-</a:t>
                      </a: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88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0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84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85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معروض العالمي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ميزا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ffff00"/>
                </a:solidFill>
                <a:latin typeface="Tahoma"/>
              </a:rPr>
              <a:t>التشدد في التسهيلات الائتمانية</a:t>
            </a: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بعد سنوات من الوفرة المالية: ارتفاع نسبة التسليفات الى اجمالي الودائع المصرفي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زيادة الصعوبة في الحصول على التمويل من الخارج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انسحاب رؤوس الأموال الأجنبية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تشدداً في الإقراض بالتوامن مع نقص في السيول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نقص في التسليفات للأغراض التجاري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رغم ذلك: تشير بيانات المصرف المركزية لبعض الدول العربية الى زيادة في حجم التسهيلات المصرفية للتجارة (الأردن، قطر، مصر، السعودية، الامارات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اتحاد المصارف العربية: ارتفاع نسبة الإقراض الى الأصول والودائع وانخفاض نسبتها الى رأس المال في الميزانية الموحدة للمصارف في الدول العربية لمجمل عام 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2009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ffff00"/>
                </a:solidFill>
                <a:latin typeface="Tahoma"/>
              </a:rPr>
              <a:t>التأثير على أسواق العمل العربية</a:t>
            </a: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بنسب متفاوت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تسريح العمال من قطاع العقارات في الدول الخليجية: عمالة غير عربي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تراجع حجم تحويلات المغتربي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منظمة العمل العربية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- دول نفطية قليلة السكان (ليبيا والدول الخليجية): غير معرضة لهزات اجتماعية كبيرة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r" rtl="1">
              <a:spcBef>
                <a:spcPts val="55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دول نفطية كثيفة السكان (العراق، السودان، الجزائر): تأثير على موارد المالية العامة، خلق فرص عمل جديدة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r" rtl="1">
              <a:spcBef>
                <a:spcPts val="55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دول ذات موارد طبيعية متواضعة (اليمن والأردن وفلسطين وسوريا ومصر ولبنان): اعتماد على عائدات السياحة وتحويلات المغتربين. تحديات تشغيل المغتربين العائدين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r" rtl="1">
              <a:spcBef>
                <a:spcPts val="55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دول ذات موارد طبيعية متواضعة وتعتمد على صادرات السلع (تونس والمغرب): ارتباط بأنماط الطلب في الدول الشركاء التجاريين، معرّضة لهزات اجتماعية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ffff00"/>
                </a:solidFill>
                <a:latin typeface="Tahoma"/>
              </a:rPr>
              <a:t>التأثير على تدفق 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FDI</a:t>
            </a:r>
            <a:r>
              <a:rPr b="1" lang="ar-LB" sz="2600" spc="-1" strike="noStrike">
                <a:solidFill>
                  <a:srgbClr val="ffff00"/>
                </a:solidFill>
                <a:latin typeface="Tahoma"/>
              </a:rPr>
              <a:t>، تحويلات المغتربين، عائدات السياحة</a:t>
            </a:r>
            <a:r>
              <a:rPr b="0" lang="ar-LB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تراجع القدرات التمويلية عالميا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تراجع حجم الاستثمار الأجنبي المباشر الوارد الى المنطقة من خارجها، والوارد من الدول العربية الغنية الى الأخرى غير الغني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تراجع تحويلات المغتربي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تراجع الطلب العالمي على السياحة وتراجع عائداتها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تحسن العائدات السياحية في بعض الدول العربية: التوجه نحو أسواق السياحة غير المكلفة كثيرا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000" spc="-1" strike="noStrike">
                <a:solidFill>
                  <a:srgbClr val="eaeaea"/>
                </a:solidFill>
                <a:latin typeface="Tahoma"/>
              </a:rPr>
              <a:t>رابعاً - تأثير الأزمة على التجارة العربية الخارجية والبينية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610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تعتمد الدول العربية بشكل رئيسي على الصادرات لتوفير التمويل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تشكل الصادرات النفطية النسبة الأكبر من قيمة الصادرات العربية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حصة التجارة العربية الخارجية صغيرة بالمقارنة مع حجم التجارة الدولية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صلابة هياكل الانتاج الصناعي والزراعي العربي، وكذلك أسواق الصادرات والواردات من والى المنطقة العربية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029200" y="212760"/>
            <a:ext cx="411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617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ffffff"/>
                </a:solidFill>
                <a:latin typeface="Arial"/>
                <a:cs typeface="Simplified Arabic"/>
              </a:rPr>
              <a:t>صادرات وواردات للدول العربية خلال الفترة </a:t>
            </a:r>
            <a:r>
              <a:rPr b="1" lang="ar-LB" sz="1400" spc="-1" strike="noStrike">
                <a:solidFill>
                  <a:srgbClr val="ffffff"/>
                </a:solidFill>
                <a:latin typeface="Arial"/>
                <a:ea typeface="Simplified Arabic"/>
              </a:rPr>
              <a:t>2008</a:t>
            </a:r>
            <a:r>
              <a:rPr b="1" lang="ar-LB" sz="1400" spc="-1" strike="noStrike">
                <a:solidFill>
                  <a:srgbClr val="ffffff"/>
                </a:solidFill>
                <a:latin typeface="Arial"/>
                <a:ea typeface="Simplified Arabic"/>
              </a:rPr>
              <a:t> - </a:t>
            </a:r>
            <a:r>
              <a:rPr b="1" lang="ar-LB" sz="1400" spc="-1" strike="noStrike">
                <a:solidFill>
                  <a:srgbClr val="ffffff"/>
                </a:solidFill>
                <a:latin typeface="Arial"/>
                <a:ea typeface="Simplified Arabic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09920" y="-44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09920" y="-44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91240" y="-44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91240" y="-44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72200" y="-44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763040" y="63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72200" y="-44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63040" y="63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09480" y="825480"/>
          <a:ext cx="8174160" cy="6032520"/>
        </p:xfrm>
        <a:graphic>
          <a:graphicData uri="http://schemas.openxmlformats.org/drawingml/2006/table">
            <a:tbl>
              <a:tblPr/>
              <a:tblGrid>
                <a:gridCol w="673200"/>
                <a:gridCol w="731880"/>
                <a:gridCol w="709560"/>
                <a:gridCol w="731880"/>
                <a:gridCol w="712800"/>
                <a:gridCol w="731880"/>
                <a:gridCol w="388296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واردات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صادرات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واردات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صادرات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واردات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صادرات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8.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2.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7.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1.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9.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2.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ارد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05.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28.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96.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01.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17.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64.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امارات العربية المتحدة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4.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8.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2.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5.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5.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1.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بحري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3.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1.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1.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0.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6.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4.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تونس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50.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61.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47.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50.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47.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82.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جزائر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0.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0.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0.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0.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0.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0.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جيبوتي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83.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51.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69.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01.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78.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323.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مملكة العربية السعودية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0.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1.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9.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7.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2.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3.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سودا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2.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8.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0.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7.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1.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8.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سوريا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56.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47.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55.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38.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50.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63.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عرا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3.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33.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1.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8.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6.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39.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سلطنة عما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53.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91.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44.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60.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39.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72.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قطر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36.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82.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33.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66.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35.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99.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كويت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31.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6.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9.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4.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8.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2.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لبنا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9.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49.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6.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38.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5.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63.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ليبيا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58.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46.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59.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47.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63.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53.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مصر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39.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8.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36.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5.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45.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32.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مغرب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.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.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.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.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.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.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موريتانيا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8.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8.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7.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6.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1.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9.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3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يم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762120" y="533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200" spc="-1" strike="noStrike">
                <a:solidFill>
                  <a:srgbClr val="ffffff"/>
                </a:solidFill>
                <a:latin typeface="Tahoma"/>
              </a:rPr>
              <a:t>2010</a:t>
            </a:r>
            <a:r>
              <a:rPr b="0" lang="ar-LB" sz="12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533520"/>
            <a:ext cx="609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5335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200" spc="-1" strike="noStrike">
                <a:solidFill>
                  <a:srgbClr val="ffffff"/>
                </a:solidFill>
                <a:latin typeface="Tahoma"/>
              </a:rPr>
              <a:t>2009</a:t>
            </a:r>
            <a:r>
              <a:rPr b="0" lang="ar-LB" sz="12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533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361400" y="1142640"/>
            <a:ext cx="52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Simplified Arabic"/>
              </a:rPr>
              <a:t>هيكل الصادرات والواردات الخارجية عام </a:t>
            </a:r>
            <a:r>
              <a:rPr b="1" lang="ar-LB" sz="1800" spc="-1" strike="noStrike">
                <a:solidFill>
                  <a:srgbClr val="ffffff"/>
                </a:solidFill>
                <a:latin typeface="Arial"/>
                <a:ea typeface="Simplified Arabic"/>
              </a:rPr>
              <a:t>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0" y="1828800"/>
          <a:ext cx="4343400" cy="2679840"/>
        </p:xfrm>
        <a:graphic>
          <a:graphicData uri="http://schemas.openxmlformats.org/drawingml/2006/table">
            <a:tbl>
              <a:tblPr/>
              <a:tblGrid>
                <a:gridCol w="1001880"/>
                <a:gridCol w="1095120"/>
                <a:gridCol w="224640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واردات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صادرات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(نسبة مئوية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2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أغذية والمشروبات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4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مواد الخا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plified Arabic"/>
                        </a:rPr>
                        <a:t>5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plified Arabic"/>
                        </a:rPr>
                        <a:t>75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00"/>
                          </a:solidFill>
                          <a:latin typeface="Times New Roman"/>
                          <a:cs typeface="Simplified Arabic"/>
                        </a:rPr>
                        <a:t>الوقود المعدني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7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4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منتجات الكيماوي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38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4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آلات ومعدات النق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7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1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مصنوعات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0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سلع أخر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761400" y="5180400"/>
            <a:ext cx="731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ffffff"/>
                </a:solidFill>
                <a:latin typeface="Tahoma"/>
                <a:ea typeface="Simplified Arabic"/>
              </a:rPr>
              <a:t>    </a:t>
            </a:r>
            <a:r>
              <a:rPr b="1" lang="ar-LB" sz="14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مصدر</a:t>
            </a:r>
            <a:r>
              <a:rPr b="0" lang="ar-LB" sz="1400" spc="-1" strike="noStrike">
                <a:solidFill>
                  <a:srgbClr val="ffffff"/>
                </a:solidFill>
                <a:latin typeface="Arial"/>
                <a:ea typeface="Simplified Arabic"/>
              </a:rPr>
              <a:t>: صندوق النقد العربي، </a:t>
            </a:r>
            <a:r>
              <a:rPr b="1" lang="ar-LB" sz="14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تقرير الاقتصادي العربي الموحد،</a:t>
            </a:r>
            <a:r>
              <a:rPr b="0" lang="ar-LB" sz="1400" spc="-1" strike="noStrike">
                <a:solidFill>
                  <a:srgbClr val="ffffff"/>
                </a:solidFill>
                <a:latin typeface="Arial"/>
                <a:ea typeface="Simplified Arabic"/>
              </a:rPr>
              <a:t> أيلول/ سبتمبر </a:t>
            </a:r>
            <a:r>
              <a:rPr b="0" lang="ar-LB" sz="1400" spc="-1" strike="noStrike">
                <a:solidFill>
                  <a:srgbClr val="ffffff"/>
                </a:solidFill>
                <a:latin typeface="Arial"/>
                <a:ea typeface="Simplified Arabic"/>
              </a:rPr>
              <a:t>2008</a:t>
            </a:r>
            <a:r>
              <a:rPr b="0" lang="ar-LB" sz="1400" spc="-1" strike="noStrike">
                <a:solidFill>
                  <a:srgbClr val="ffffff"/>
                </a:solidFill>
                <a:latin typeface="Arial"/>
                <a:ea typeface="Simplified Arabic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869760" y="1142640"/>
            <a:ext cx="59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Simplified Arabic"/>
              </a:rPr>
              <a:t>اتجاه التجارة الخارجية للدول العربية خلال عام </a:t>
            </a:r>
            <a:r>
              <a:rPr b="1" lang="ar-LB" sz="1800" spc="-1" strike="noStrike">
                <a:solidFill>
                  <a:srgbClr val="ffffff"/>
                </a:solidFill>
                <a:latin typeface="Arial"/>
                <a:ea typeface="Simplified Arabic"/>
              </a:rPr>
              <a:t>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28600" y="1828800"/>
          <a:ext cx="3886200" cy="3014640"/>
        </p:xfrm>
        <a:graphic>
          <a:graphicData uri="http://schemas.openxmlformats.org/drawingml/2006/table">
            <a:tbl>
              <a:tblPr/>
              <a:tblGrid>
                <a:gridCol w="878040"/>
                <a:gridCol w="950760"/>
                <a:gridCol w="205740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واردات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صادرات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 (نسبة مئوية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2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8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دول العربية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plified Arabic"/>
                        </a:rPr>
                        <a:t>36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plified Arabic"/>
                        </a:rPr>
                        <a:t>18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00"/>
                          </a:solidFill>
                          <a:latin typeface="Times New Roman"/>
                          <a:cs typeface="Simplified Arabic"/>
                        </a:rPr>
                        <a:t>الاتحاد الأوروبي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9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9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ولايات المتحدة الأميركي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33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35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آسيا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5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1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   اليابا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0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5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   الص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7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8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   باقي دول آسيا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9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8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باقي دول العال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24080" y="228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00"/>
                </a:solidFill>
                <a:latin typeface="Tahoma"/>
              </a:rPr>
              <a:t>التجارة العربية البين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11419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ffffff"/>
                </a:solidFill>
                <a:latin typeface="Arial"/>
                <a:cs typeface="Simplified Arabic"/>
              </a:rPr>
              <a:t>هيكل الصادرات والواردات البينية عام </a:t>
            </a:r>
            <a:r>
              <a:rPr b="0" lang="ar-LB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19320" y="1905120"/>
          <a:ext cx="7010280" cy="2555640"/>
        </p:xfrm>
        <a:graphic>
          <a:graphicData uri="http://schemas.openxmlformats.org/drawingml/2006/table">
            <a:tbl>
              <a:tblPr/>
              <a:tblGrid>
                <a:gridCol w="2278080"/>
                <a:gridCol w="1253880"/>
                <a:gridCol w="1165320"/>
                <a:gridCol w="2313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جمالي التجارة البيني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واردات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صادرات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(نسبة مئوية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Simplified Arabic"/>
                        </a:rPr>
                        <a:t>56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Simplified Arabic"/>
                        </a:rPr>
                        <a:t>52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Simplified Arabic"/>
                        </a:rPr>
                        <a:t>6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800" spc="-1" strike="noStrike">
                          <a:solidFill>
                            <a:srgbClr val="ffff00"/>
                          </a:solidFill>
                          <a:latin typeface="Times New Roman"/>
                          <a:cs typeface="Simplified Arabic"/>
                        </a:rPr>
                        <a:t>المواد الخام والوقود المعدني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4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5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3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مصنوعات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9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2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7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أغذية والمشروبات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9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9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9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آلات ومعدات النق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8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8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8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منتجات الكيماوي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0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سلع غير مصنف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-484560" y="4647960"/>
            <a:ext cx="100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6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مصدر</a:t>
            </a:r>
            <a:r>
              <a:rPr b="0" lang="ar-LB" sz="1600" spc="-1" strike="noStrike">
                <a:solidFill>
                  <a:srgbClr val="ffffff"/>
                </a:solidFill>
                <a:latin typeface="Arial"/>
                <a:ea typeface="Simplified Arabic"/>
              </a:rPr>
              <a:t>: المؤسسة العربية لضمان الاستثمار وائتمان الصادرات، </a:t>
            </a:r>
            <a:r>
              <a:rPr b="1" lang="ar-LB" sz="1600" spc="-1" strike="noStrike">
                <a:solidFill>
                  <a:srgbClr val="ffffff"/>
                </a:solidFill>
                <a:latin typeface="Arial"/>
                <a:cs typeface="Simplified Arabic"/>
              </a:rPr>
              <a:t>تقرير مناخ الاستثمار في الدول العربية</a:t>
            </a:r>
            <a:r>
              <a:rPr b="0" lang="ar-LB" sz="1600" spc="-1" strike="noStrike">
                <a:solidFill>
                  <a:srgbClr val="ffffff"/>
                </a:solidFill>
                <a:latin typeface="Arial"/>
                <a:cs typeface="Simplified Arabic"/>
              </a:rPr>
              <a:t>، </a:t>
            </a:r>
            <a:r>
              <a:rPr b="0" lang="ar-LB" sz="1600" spc="-1" strike="noStrike">
                <a:solidFill>
                  <a:srgbClr val="ffffff"/>
                </a:solidFill>
                <a:latin typeface="Arial"/>
                <a:ea typeface="Simplified Arabic"/>
              </a:rPr>
              <a:t>2008</a:t>
            </a:r>
            <a:r>
              <a:rPr b="0" lang="ar-LB" sz="1600" spc="-1" strike="noStrike">
                <a:solidFill>
                  <a:srgbClr val="ffffff"/>
                </a:solidFill>
                <a:latin typeface="Arial"/>
                <a:ea typeface="Simplified Arab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4360" y="1065600"/>
            <a:ext cx="91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200" spc="-1" strike="noStrike">
                <a:solidFill>
                  <a:srgbClr val="ffff00"/>
                </a:solidFill>
                <a:latin typeface="Arial"/>
                <a:cs typeface="Simplified Arabic"/>
              </a:rPr>
              <a:t>التغيير في حجم الصادرات بنهاية عام </a:t>
            </a:r>
            <a:r>
              <a:rPr b="1" lang="ar-LB" sz="2200" spc="-1" strike="noStrike">
                <a:solidFill>
                  <a:srgbClr val="ffff00"/>
                </a:solidFill>
                <a:latin typeface="Arial"/>
                <a:ea typeface="Simplified Arabic"/>
              </a:rPr>
              <a:t>2008</a:t>
            </a:r>
            <a:r>
              <a:rPr b="1" lang="ar-LB" sz="2200" spc="-1" strike="noStrike">
                <a:solidFill>
                  <a:srgbClr val="ffff00"/>
                </a:solidFill>
                <a:latin typeface="Arial"/>
                <a:ea typeface="Simplified Arabic"/>
              </a:rPr>
              <a:t> في دول عربية مختارة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914400" y="2057400"/>
          <a:ext cx="7620120" cy="2676600"/>
        </p:xfrm>
        <a:graphic>
          <a:graphicData uri="http://schemas.openxmlformats.org/drawingml/2006/table">
            <a:tbl>
              <a:tblPr/>
              <a:tblGrid>
                <a:gridCol w="2351160"/>
                <a:gridCol w="2950920"/>
                <a:gridCol w="2318040"/>
              </a:tblGrid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ربع الرابع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007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 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ربع الرابع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(الربع الثالث – الربع الرابع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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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مص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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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ارد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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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لبنا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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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مغرب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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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تونس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1295280" y="4739400"/>
            <a:ext cx="71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المصدر: البنك الدولي</a:t>
            </a:r>
            <a:r>
              <a:rPr b="0" lang="ar-SA" sz="1800" spc="-1" strike="noStrike" u="sng" baseline="30000">
                <a:solidFill>
                  <a:srgbClr val="ffffcc"/>
                </a:solidFill>
                <a:uFillTx/>
                <a:latin typeface="Arial"/>
                <a:ea typeface="Times New Roman"/>
                <a:hlinkClick r:id="rId1" action="ppaction://hlinksldjump"/>
              </a:rPr>
              <a:t>[1]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ffffff"/>
                </a:solidFill>
                <a:latin typeface="Arial"/>
                <a:ea typeface="Simplified Arabic"/>
              </a:rPr>
              <a:t>   * الاحصاءات متوفرة للربع الأول من عام </a:t>
            </a:r>
            <a:r>
              <a:rPr b="0" lang="ar-LB" sz="1800" spc="-1" strike="noStrike">
                <a:solidFill>
                  <a:srgbClr val="ffffff"/>
                </a:solidFill>
                <a:latin typeface="Arial"/>
                <a:ea typeface="Simplified Arabic"/>
              </a:rPr>
              <a:t>2009</a:t>
            </a:r>
            <a:r>
              <a:rPr b="0" lang="ar-LB" sz="1800" spc="-1" strike="noStrike">
                <a:solidFill>
                  <a:srgbClr val="ffffff"/>
                </a:solidFill>
                <a:latin typeface="Arial"/>
                <a:cs typeface="Simplified Arabic"/>
              </a:rPr>
              <a:t>، وبالتالي فهي بالمقارن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ffffff"/>
                </a:solidFill>
                <a:latin typeface="Arial"/>
                <a:ea typeface="Simplified Arabic"/>
              </a:rPr>
              <a:t>     مع فترة الأشهر الثلاثة السابق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038120" y="685440"/>
            <a:ext cx="4800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600" spc="-1" strike="noStrike">
                <a:solidFill>
                  <a:srgbClr val="ffffff"/>
                </a:solidFill>
                <a:latin typeface="Tahoma"/>
              </a:rPr>
              <a:t>أقسام الدراسة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أولا – الأزمة المالية والاقتصادية العالمية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- أثر الأزمة على التجارة الدولية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- تأثير الأزمة على المنطقة العربية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 الخروج من الأأزمة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ثانيا – تأثير الأزمة على الاقتصادات العربية بشكل عا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- التأثير على التجارة في المنطقة العربية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- التأثير على الدول العربية المنتجة والمصدرة للنفط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- التأثير على الدول العربية المستوردة للنفط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ثالثا – تداعيات الأزمة على أبرز المؤشرات الاقتصادية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        في المنطقة العربية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- التأثير على سعر الصر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-التأثير على أسعار النفط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- التشدد في التسهيلات الائتمانية للتجارة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- التأثير على أسواق العمل العربية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- التأثير على تدفق الاستمار الأجنبي المباشر وتحويلات المغتربين وعائدات السياحة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143000"/>
            <a:ext cx="3657600" cy="46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رابعا – تأثير الأزمة على التجارة العربية الخارجية والبيني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خامسا – المعوقات التجارية التي تواجه القطاع الخا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- القيود القائ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- القيود المستجدة -  الاجراءات الحمائية في التجارة الدولي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سادسا – أولويات العمل بالنسبة للقطاع الخا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- البحث عن أيواق جديدة عربية وأجنب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-الاجراءات الاستثنائية اللازم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- تحسين جودة وتنافسية الانتاج العرب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- تطبيق مقررات قمة الكويت – </a:t>
            </a: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2009</a:t>
            </a:r>
            <a:r>
              <a:rPr b="0" lang="ar-LB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000" spc="-1" strike="noStrike">
                <a:solidFill>
                  <a:srgbClr val="eaeaea"/>
                </a:solidFill>
                <a:latin typeface="Tahoma"/>
              </a:rPr>
              <a:t>خامساً - المعوقات التجارية التي تواجه القطاع الخاص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ffff00"/>
                </a:solidFill>
                <a:latin typeface="Tahoma"/>
              </a:rPr>
              <a:t>قيود قائمة</a:t>
            </a: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عراقيل ادارية وتشريعية وجمركية ورسوم ذات الأثر المماثل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ارتفاع الكلفة المالية وطول فترات الانتظار على الحدود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كفاءة النقل التجاري والخدمات الداعم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استبيان اتحاد الغرف العربية 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2008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23%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 عدم الاعفاء الجمركي الكامل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17%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 عدم الغاء  الرسوم المماثل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13%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 عدم تطبيق المعاملة الوطني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24%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 عدم الغاء تصديق السفارات على شهادة المنشأ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ffff00"/>
                </a:solidFill>
                <a:latin typeface="Tahoma"/>
              </a:rPr>
              <a:t>قيود مستجدة: الاجراءات الحمائية في التجارة الدولية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أهمية انسياب التجارة والاستثمار لتسريع عودة النمو الايجابي الى الاقتصاد العالمي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الدول المتقدمة تفرض اجراءات حمائية ضد الاستيراد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تقليص حجم صادرات الدول النامية – الدول العربية: تقليص العوائد لتمويل التنمية الاقتصادية في هذه الدول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مجموعة دول العشرين: تعهدات بدعم اللجوء الى الاجراءات الحمائية ضد التجارة الدولي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منظمة التجارة العالمية: وضع آلية لمراقبة حركة التجارة الدولية ومكافحة الاجراءات الحمائية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038120" y="304560"/>
            <a:ext cx="480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eaeaea"/>
                </a:solidFill>
                <a:latin typeface="Tahoma"/>
              </a:rPr>
              <a:t>خامساً - المعوقات التجارية التي تواجه القطاع الخاص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الدول العربية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واجهت 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240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 إجراء حمائي ضد صادراتها: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146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 منها موجهة ضد صادرات الدول الخليجية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95%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 منها اجراءات تمييزية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5%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 منها تتعلق بتحرير التجارة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الدول المتضررة: الامارات العربية المتحدة، المملكة العربية السعودية، سلطنة عمان، الأردن، الكويت، سوريا، لبنان، البحرين، قطر، العراق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لم تقم أي دولة عربية بأي اجراءات ذات الأثر المماثل!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عدد الاجراءات الحمائية العربية (المفروضة والمتوقع فرضها) = 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، منها 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 تمييزية و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 تتعلق بتحرير التجارة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منظمة التجارة العالمية: 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400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 إعتراض لجهاز تسوية المنازعات منذ إنشائها وحتى اليوم، 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45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% منها من الدول النامية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LB" sz="2200" spc="-1" strike="noStrike">
                <a:solidFill>
                  <a:srgbClr val="ffff00"/>
                </a:solidFill>
                <a:latin typeface="Tahoma"/>
              </a:rPr>
              <a:t>لا يوجد أي إعتراض عربي لدى جهاز تسوية المنازعات!!!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ar-LB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ar-LB" sz="2200" spc="-1" strike="noStrike">
                <a:solidFill>
                  <a:srgbClr val="ffff00"/>
                </a:solidFill>
                <a:latin typeface="Tahoma"/>
              </a:rPr>
              <a:t>- هل التجارة العربية الخارجية تراعي المصالح العربية على النحو الأمثل؟؟؟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2170080" y="228600"/>
            <a:ext cx="754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ffff00"/>
                </a:solidFill>
                <a:latin typeface="Tahoma"/>
              </a:rPr>
              <a:t> قيود مستجدة: الاجراءات الحمائية في التجارة الدولية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000" spc="-1" strike="noStrike">
                <a:solidFill>
                  <a:srgbClr val="eaeaea"/>
                </a:solidFill>
                <a:latin typeface="Tahoma"/>
              </a:rPr>
              <a:t>سادسا – أولويات العمل بالنسبة للقطاع الخاص العربي في إصلاح السياسات التجارية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ffff00"/>
                </a:solidFill>
                <a:latin typeface="Tahoma"/>
              </a:rPr>
              <a:t>البحث عن أسواق جديدة</a:t>
            </a:r>
            <a:r>
              <a:rPr b="0" lang="ar-LB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الشركاء التجاريين الرئيسيين: ركود اقتصادي وتراجع الطلب على الاستيراد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البحث عن بديل، بالاستعانة بالشراكة الفعالة والحقيقية بين القطاع الخاص والحكومات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أسواق خارجية جديدة: - الدول النامية (أفريقيا، أميركا اللاتينية، آسيا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       - الحفاظ على المصالح التجارية العربية؛ منع الإغراق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الأسواق داخل المنطقة العربية: تطوير التجارة العربية البينية (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11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% من التجارة العربية الخارجية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العمل نحو تحقيق السوق العربية المشتركة عام 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2020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تحسين جودة الانتاج العربي وتعزيز تنافسيته: الاهتمام بالتسويق وكفاءة النقل التجاري داخل المنطقة العربية وتسهيل انتقال الأفراد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ffff00"/>
                </a:solidFill>
                <a:latin typeface="Tahoma"/>
              </a:rPr>
              <a:t>الاجراءات الاستثنائية اللازمة</a:t>
            </a: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لتذليل الاختناقات المستجدة في التجارة الدولي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توفير التسهيلات المصرفية لتمويل التجار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تحرير التسليفات المصرفية من قيود التشدد في التمويل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توفير التمويل الميسر للمؤسسات المتوسطة والصغير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الاستمرار في الاصلاحات التشريعية والادارية في المجالات التجارية والاستثماري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تنويع القاعدة الانتاجية بعيداً عن النفط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توفير بيئة أعمالية محفزة وملائمة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426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ffff00"/>
                </a:solidFill>
                <a:latin typeface="Tahoma"/>
              </a:rPr>
              <a:t>تحسين جودة ونتافسية الانتاج العربي</a:t>
            </a: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تشابه أنماط الانتاج العربي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تعزيز تنافسية الانتاج العربي مقابل المنتجات المستوردة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تحسين التسوي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الحد من ممارسات الإغرا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الاهتمام بكفاءة النقل التجاري بكافة أنماطه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وضع السياسات الصناعية العربية المشتركة وتنسيقها: لتحفيز التشابك الأفقي والعمودي بين مدخلات الانتاج العربي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إزالة كافة العوائق غير الجمركية التي تواجه التجارة العربية البيني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ffff00"/>
                </a:solidFill>
                <a:latin typeface="Tahoma"/>
              </a:rPr>
              <a:t>تطبيق قرارات قمة الكويت </a:t>
            </a:r>
            <a:r>
              <a:rPr b="1" lang="ar-LB" sz="2600" spc="-1" strike="noStrike">
                <a:solidFill>
                  <a:srgbClr val="ffff00"/>
                </a:solidFill>
                <a:latin typeface="Tahoma"/>
              </a:rPr>
              <a:t>2009</a:t>
            </a: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التطبيق الكامل امنطقة التجارة الحرة العربية الكبرى وصولا الى الاتحاد الجمركي عام 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2015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 والسوق العربية المشتركة عام 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2020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الالتزام باستراتيجية واقعية ومتدرجة وذات جداول زمنية لتحقيق الأهدا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تأمين شروط التكافؤ الانتاجي والتجاري بين الدول العرب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تحرير حركة رؤوس الأموال وانتقال الأفراد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تخفيض كلفة المعملات التجاري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توفير التمويل اللازمة للتكامل الاقتصادي العربي، ومنه ما يرتبط بتوفير قنوات التمويل التجاري خصوصاً لصغار التجار، في ضوء التشدد في التمويل الذي شهدته المنطقة بسبب الأزم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743200" y="3200400"/>
            <a:ext cx="3505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LB" sz="2600" spc="-1" strike="noStrike">
                <a:solidFill>
                  <a:srgbClr val="ffffff"/>
                </a:solidFill>
                <a:latin typeface="Tahoma"/>
              </a:rPr>
              <a:t>شكراً لحسن إصغائكم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eaeaea"/>
                </a:solidFill>
                <a:latin typeface="Tahoma"/>
                <a:cs typeface="Simplified Arabic"/>
              </a:rPr>
              <a:t>أولاً - الأزمة المالية والاقتصادية العالمية</a:t>
            </a:r>
            <a:endParaRPr b="1" lang="en-US" sz="2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  <a:cs typeface="Simplified Arabic"/>
              </a:rPr>
              <a:t>أزمة داخل الولايات المتحدة الأميركية: الرهن العقاري، أزمة مالي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  <a:cs typeface="Simplified Arabic"/>
              </a:rPr>
              <a:t>تحولت الى أزمة مالية عالمية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  <a:cs typeface="Simplified Arabic"/>
              </a:rPr>
              <a:t>ثم الى أزمة ركود اقتصادي عالمي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  <a:cs typeface="Simplified Arabic"/>
              </a:rPr>
              <a:t>تأثيرها على الدول النامية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  <a:ea typeface="Simplified Arabic"/>
              </a:rPr>
              <a:t>	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  <a:ea typeface="Simplified Arabic"/>
              </a:rPr>
              <a:t>- تراجع التجارة: تراجع الطلب العالمي على السل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  <a:ea typeface="Simplified Arabic"/>
              </a:rPr>
              <a:t>	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  <a:ea typeface="Simplified Arabic"/>
              </a:rPr>
              <a:t>- انخفاض تدفقات الاستثمار الأجنبي المباشر، وتحويلات المغتربين، وعائدات السياحة، والمساعدات الرسمية للتنمي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  <a:ea typeface="Simplified Arabic"/>
              </a:rPr>
              <a:t>	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  <a:ea typeface="Simplified Arabic"/>
              </a:rPr>
              <a:t>- تباطؤ عملية الحد من الفقر (تعرّض 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  <a:ea typeface="Simplified Arabic"/>
              </a:rPr>
              <a:t>11.6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  <a:ea typeface="Simplified Arabic"/>
              </a:rPr>
              <a:t> مليار دولار للمخاطر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  <a:ea typeface="Simplified Arabic"/>
              </a:rPr>
              <a:t>	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  <a:ea typeface="Simplified Arabic"/>
              </a:rPr>
              <a:t>	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  <a:ea typeface="Simplified Arabic"/>
              </a:rPr>
              <a:t>	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  <a:ea typeface="Simplified Arabic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43040" y="152280"/>
            <a:ext cx="480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eaeaea"/>
                </a:solidFill>
                <a:latin typeface="Tahoma"/>
                <a:cs typeface="Simplified Arabic"/>
              </a:rPr>
              <a:t>الأزمة المالية والاقتصادية العالمية</a:t>
            </a:r>
            <a:endParaRPr b="1" lang="en-US" sz="2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00"/>
                </a:solidFill>
                <a:latin typeface="Tahoma"/>
              </a:rPr>
              <a:t>أثر الأزمة على التجارة الدولية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انخفاض حاد في أسعار السلع والمواد الأولية والنفط ..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بعد نمو في التجارة الدولية 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% عام 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2008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تراجع الطلب في أسواق الصادرات العالمية ما بين 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%-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% لمجمل عام 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2009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التوقع بتراجع صادرات الدول النامية بحوالي 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%-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% لمجمل عام 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2009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تشعب عمليات الانتاج العابر للحدود =&gt; أثر مضاعف لتراجع الطلب على التجارة العالمية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</a:rPr>
              <a:t>اختناقات في التسهيلات الائتمانية =&gt; تخفيض التمويل المصرفي للتجارة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00"/>
                </a:solidFill>
                <a:latin typeface="Tahoma"/>
                <a:cs typeface="Simplified Arabic"/>
              </a:rPr>
              <a:t>أثر الأزمة على المنطقة العربية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  <a:ea typeface="Simplified Arabic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  <a:cs typeface="Simplified Arabic"/>
              </a:rPr>
              <a:t>ضعف ارتباط أسواق المال العربية بالأسواق العالمية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  <a:cs typeface="Simplified Arabic"/>
              </a:rPr>
              <a:t>أثر سلبي للتراجع الحاد في أسعار النفط على الايرادات العامة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تخاذ الحكومات اجراءات معاكسة: سياسة مالية توسعية وضخ السيولة في الجهاز المصرفي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دول العربية غير النفطية: تأثر غير مباشر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ffffff"/>
                </a:solidFill>
                <a:latin typeface="Tahoma"/>
                <a:ea typeface="Simplified Arabic"/>
              </a:rPr>
              <a:t>	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  <a:ea typeface="Simplified Arabic"/>
              </a:rPr>
              <a:t>	</a:t>
            </a:r>
            <a:r>
              <a:rPr b="0" lang="ar-LB" sz="2200" spc="-1" strike="noStrike">
                <a:solidFill>
                  <a:srgbClr val="ffffff"/>
                </a:solidFill>
                <a:latin typeface="Tahoma"/>
                <a:ea typeface="Simplified Arabic"/>
              </a:rPr>
              <a:t>- تراجع حجم تدفق الاستثمارات من الدول العربية النفطية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762120" y="1219320"/>
          <a:ext cx="7848360" cy="4746600"/>
        </p:xfrm>
        <a:graphic>
          <a:graphicData uri="http://schemas.openxmlformats.org/drawingml/2006/table">
            <a:tbl>
              <a:tblPr/>
              <a:tblGrid>
                <a:gridCol w="1160280"/>
                <a:gridCol w="1162080"/>
                <a:gridCol w="1011240"/>
                <a:gridCol w="45147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010</a:t>
                      </a:r>
                      <a:r>
                        <a:rPr b="1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009</a:t>
                      </a:r>
                      <a:r>
                        <a:rPr b="1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008</a:t>
                      </a:r>
                      <a:r>
                        <a:rPr b="1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(نسبة مئوية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6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-</a:t>
                      </a: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6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معدل نمو التجارة العالمي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75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74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0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سعر برميل النفط (دولار/ برميل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3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0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نمو الحقيقي لإجمالي الناتج المحلي العالمي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-</a:t>
                      </a: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0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معدل النمو الاقتصادي للدول ذات الدخل المرتف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6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4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6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   دول منظمة التعاون الاقتصادي والتنمية (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OECD</a:t>
                      </a: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4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5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  منطقة اليور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5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3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5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   اليابا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-</a:t>
                      </a: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   الولايات المتحدة الأميركي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-</a:t>
                      </a: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   الدول المتقدمة خارج منظمة التعاون الاقتصادي والتنمي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-</a:t>
                      </a: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0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معدل النمو الاقتصادي للدول النامي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-</a:t>
                      </a: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1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معدل النمو الاقتصادي للدول النامية باستثناء الصين والهن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5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3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plified Arabic"/>
                        </a:rPr>
                        <a:t>4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نمو الاقتصادي لمنطقة الشرق الأوسط وشمال أفريقيا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2133720" y="6171840"/>
            <a:ext cx="64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6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مصدر</a:t>
            </a:r>
            <a:r>
              <a:rPr b="0" lang="ar-LB" sz="1600" spc="-1" strike="noStrike">
                <a:solidFill>
                  <a:srgbClr val="ffffff"/>
                </a:solidFill>
                <a:latin typeface="Arial"/>
                <a:ea typeface="Simplified Arabic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Simplified Arabic"/>
              </a:rPr>
              <a:t>World Bank,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Simplified Arabic"/>
              </a:rPr>
              <a:t>Global Economic Prosp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Simplified Arabic"/>
              </a:rPr>
              <a:t>, 2009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Simplified Arab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8088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ffff00"/>
                </a:solidFill>
                <a:latin typeface="Tahoma"/>
              </a:rPr>
              <a:t>أبرز مؤشرات الاقتصاد العالمي خلال الفترة </a:t>
            </a:r>
            <a:r>
              <a:rPr b="1" lang="ar-LB" sz="2400" spc="-1" strike="noStrike">
                <a:solidFill>
                  <a:srgbClr val="ffff00"/>
                </a:solidFill>
                <a:latin typeface="Tahoma"/>
              </a:rPr>
              <a:t>2008</a:t>
            </a:r>
            <a:r>
              <a:rPr b="1" lang="ar-LB" sz="2400" spc="-1" strike="noStrike">
                <a:solidFill>
                  <a:srgbClr val="ffff00"/>
                </a:solidFill>
                <a:latin typeface="Tahoma"/>
              </a:rPr>
              <a:t> - </a:t>
            </a:r>
            <a:r>
              <a:rPr b="1" lang="ar-LB" sz="2400" spc="-1" strike="noStrike">
                <a:solidFill>
                  <a:srgbClr val="ffff00"/>
                </a:solidFill>
                <a:latin typeface="Tahoma"/>
              </a:rPr>
              <a:t>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28600" y="2133720"/>
            <a:ext cx="86104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التوقع بالانتعاش الاقتصادي منذ عام </a:t>
            </a: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2010</a:t>
            </a: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 لكن بوتيرة بطيئة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اعتدال سرعة تراجع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DI</a:t>
            </a: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زيادة الطلب المؤجل على السلع الاستهلاكية المعمرة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بدء ظهور مفاعيل المحفزات المالية والنقدية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3885840" y="914400"/>
            <a:ext cx="480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eaeaea"/>
                </a:solidFill>
                <a:latin typeface="Tahoma"/>
              </a:rPr>
              <a:t>الخروج من الأزمة</a:t>
            </a:r>
            <a:endParaRPr b="1" lang="en-US" sz="2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000" spc="-1" strike="noStrike">
                <a:solidFill>
                  <a:srgbClr val="eaeaea"/>
                </a:solidFill>
                <a:latin typeface="Tahoma"/>
              </a:rPr>
              <a:t>ثانيا - تأثير الأزمة على الاقتصادات العربية بشكل عام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ffff00"/>
                </a:solidFill>
                <a:latin typeface="Tahoma"/>
              </a:rPr>
              <a:t>التأثير على التجارة العربية</a:t>
            </a: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التجارة قناة لمرور تأثيرات الأزمات، مع تشعب عمليات الإنتاج العابر للحدود، مما يخلق أثرا مضاعفا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انخفاض الطلب في أسواق الشركاء التجاريين الرئيسيي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تراجع حاد في الطلب العالمي على النفط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ffff00"/>
                </a:solidFill>
                <a:latin typeface="Tahoma"/>
              </a:rPr>
              <a:t>التأثير على الدول المنتجة والمصدرة للنفط</a:t>
            </a: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تراجع الأسعار من 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147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$ الى حوالي 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$، تخفيض انتاج أوب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تراجع الايرادات النفطية الممول للتنمية الاقتصادي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اجراءات حكومية معاكسة: سياسات مالية توسعي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=&gt; تراجع الفوائض المحققة في الحساب الجاري (من 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380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 مليار دولار عام 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2008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 الى 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 مليار دولار عام 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2009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التوقع بنمو 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3.2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% لعام 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2009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، مع عودة الارتفاع الى أسعار النفط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سياسات مالية توسعية: ارتفاع الطلب على الاستيراد (من الدول العربية المجاورة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توقع بنمو لعام 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2010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:  - الناتج المحلي الاجمالي النفطي 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4.4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%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- الناتج المحلي الاجمالي غير النفطي 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3.9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ffff00"/>
                </a:solidFill>
                <a:latin typeface="Tahoma"/>
              </a:rPr>
              <a:t>التأثير على الدول العربية غير النفطية</a:t>
            </a:r>
            <a:r>
              <a:rPr b="0" lang="ar-LB" sz="2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الاعتماد على تدفقات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DI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، تحويلات المغتربين، عائدات السياحة، ايرادات الصادرات السلعي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انخفاض في مصادر التمويل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انخفاض في عائدات الصادرات الصناعية 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16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% 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DI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 32%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 عام 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2009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تباطؤ النمو الاقتصادي: 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3.6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% لعام 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2009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 و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3.8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% لعام 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2010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تراجع الصادرات السلعية بسبب انخفاض الطلب من الشركاء التجاريي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- الدول المغاربية والاتحاد الأوروبي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LB" sz="2400" spc="-1" strike="noStrike">
                <a:solidFill>
                  <a:srgbClr val="ffffff"/>
                </a:solidFill>
                <a:latin typeface="Tahoma"/>
              </a:rPr>
              <a:t>- الدول المشرقية والمنطقة الخليجية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21:18:56Z</dcterms:created>
  <dc:creator>JCT</dc:creator>
  <dc:description/>
  <dc:language>en-US</dc:language>
  <cp:lastModifiedBy>Dina</cp:lastModifiedBy>
  <dcterms:modified xsi:type="dcterms:W3CDTF">2009-11-11T09:51:43Z</dcterms:modified>
  <cp:revision>25</cp:revision>
  <dc:subject/>
  <dc:title>ورقة حول  أثر الأزمة المالية والاقتصادية العالمية  على سياسات التجارة الخارجية في الدول العربية</dc:title>
</cp:coreProperties>
</file>