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6497-3E27-4645-A939-00DC31A66C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6AEB-A0C3-4868-802C-996771D80DA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FE56-D292-4547-AB0C-1ABF5F57CC7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E952-CB03-410B-8115-F1D86E4BAE2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B9C7-58C4-4D6E-B345-956A438211C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3DAE-DCB5-4541-A582-8ACE75F71A2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D6C2-7A27-4C44-9125-EC32B864732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21BF-8193-42EF-84C6-95C345FFE1A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A747-CB0B-4BD2-BC65-ED7EDE59FC4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FE25-5E7E-41DB-B5C6-D82E7B5898B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A81B-DC43-4CFC-B21D-A023E95C5CC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ypt (5), Jordan (1), Libya (1), Morocco (3), Palestine, West Bank and Gaza Strip (1), Saudi Arabia (1), Sudan (4), Tunisia (5), UAE (2), Yemen 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E342-FB0F-461F-8552-8EC318AFB2B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816E-5136-433B-94AD-2ED9A634F89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7208-A9D4-469D-8B37-0616BD829B7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338E-AA1F-4B43-B40A-88E3075AEC8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575-3415-4ECE-B637-F5361AB3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BA1B-A517-4AB3-8A20-06514F8D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E4A-145F-4F15-B047-9E894508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A2B-7EFC-42A1-B884-3BCF65B4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49A-372E-464D-9711-2F071EA7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7359-4DF7-4293-9026-EE506759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CE6-BFBC-45B3-8CF0-34119B98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9A5-B8F8-4A0C-B597-5121CA2B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160-044B-4F07-968C-BA64D3D7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7BAA-9A67-445F-9CD0-43AE33A2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3D9-2534-41EB-AA68-80DC9997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1FBE-3B67-49F2-9CA9-2DA43F52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BB94-31A1-4956-84C5-3110C8D1A64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to.org/english/res_e/publications_e/aid4trade13_e.htm" TargetMode="External"/><Relationship Id="rId2" Type="http://schemas.openxmlformats.org/officeDocument/2006/relationships/hyperlink" Target="http://www.wto.org/english/tratop_e/devel_e/a4t_e/global_review13prog_e/agrifood_47.pdf" TargetMode="External"/><Relationship Id="rId3" Type="http://schemas.openxmlformats.org/officeDocument/2006/relationships/hyperlink" Target="http://www.wto.org/english/tratop_e/devel_e/a4t_e/global_review13prog_e/ict_28june.pdf" TargetMode="External"/><Relationship Id="rId4" Type="http://schemas.openxmlformats.org/officeDocument/2006/relationships/hyperlink" Target="http://www.wto.org/english/tratop_e/devel_e/a4t_e/global_review13prog_e/textles_and_apparel_28june.pdf" TargetMode="External"/><Relationship Id="rId5" Type="http://schemas.openxmlformats.org/officeDocument/2006/relationships/hyperlink" Target="http://www.wto.org/english/tratop_e/devel_e/a4t_e/global_review13prog_e/tourism_28june.pdf" TargetMode="External"/><Relationship Id="rId6" Type="http://schemas.openxmlformats.org/officeDocument/2006/relationships/hyperlink" Target="http://www.wto.org/english/tratop_e/devel_e/a4t_e/global_review13prog_e/transport_and_logistics_28june.pdf" TargetMode="External"/><Relationship Id="rId7" Type="http://schemas.openxmlformats.org/officeDocument/2006/relationships/hyperlink" Target="http://www.wto.org/english/tratop_e/devel_e/a4t_e/global_review13prog_e/transport_and_logistics_28june.pdf" TargetMode="External"/><Relationship Id="rId8" Type="http://schemas.openxmlformats.org/officeDocument/2006/relationships/hyperlink" Target="http://www.wto.org/english/thewto_e/minist_e/mc9_e/a4t_connect_firms_e.pdf" TargetMode="External"/><Relationship Id="rId9" Type="http://schemas.openxmlformats.org/officeDocument/2006/relationships/hyperlink" Target="http://www.wto.org/english/tratop_e/devel_e/a4t_e/global_review13prog_e/idbgroup_e.pdf" TargetMode="External"/><Relationship Id="rId10" Type="http://schemas.openxmlformats.org/officeDocument/2006/relationships/hyperlink" Target="http://www.wto.org/english/tratop_e/devel_e/a4t_e/global_review13prog_e/gr4_rep2013_e.pdf" TargetMode="External"/><Relationship Id="rId11" Type="http://schemas.openxmlformats.org/officeDocument/2006/relationships/hyperlink" Target="http://www.wto.org/english/tratop_e/devel_e/a4t_e/global_review13prog_e/india_africa_report.pdf" TargetMode="External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240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Calibri"/>
              </a:rPr>
              <a:t>4</a:t>
            </a:r>
            <a:r>
              <a:rPr b="1" lang="en-US" sz="4400" spc="-1" strike="noStrike" baseline="30000">
                <a:solidFill>
                  <a:srgbClr val="4f81bd"/>
                </a:solidFill>
                <a:latin typeface="Calibri"/>
              </a:rPr>
              <a:t>th</a:t>
            </a:r>
            <a:r>
              <a:rPr b="1" lang="en-US" sz="4400" spc="-1" strike="noStrike">
                <a:solidFill>
                  <a:srgbClr val="4f81bd"/>
                </a:solidFill>
                <a:latin typeface="Calibri"/>
              </a:rPr>
              <a:t> Global Review of AfT: "Connecting to value chains“ 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Calibri"/>
              </a:rPr>
              <a:t>&amp; 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Calibri"/>
              </a:rPr>
              <a:t>Outlook on future AfT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Rainer Lanz, World Trade Organization (WT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Expert Group Meeting on M&amp;E Systems Hammamet, 12 December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WTO_2_COLOR"/>
          <p:cNvPicPr/>
          <p:nvPr/>
        </p:nvPicPr>
        <p:blipFill>
          <a:blip r:embed="rId1"/>
          <a:stretch/>
        </p:blipFill>
        <p:spPr>
          <a:xfrm>
            <a:off x="7667640" y="5084640"/>
            <a:ext cx="9144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35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alibri"/>
              </a:rPr>
              <a:t>Aid for trade and other development finance fl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9" descr="WTO_2_COLOR"/>
          <p:cNvPicPr/>
          <p:nvPr/>
        </p:nvPicPr>
        <p:blipFill>
          <a:blip r:embed="rId1"/>
          <a:stretch/>
        </p:blipFill>
        <p:spPr>
          <a:xfrm>
            <a:off x="8029440" y="5597640"/>
            <a:ext cx="914400" cy="1114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157320" y="2212920"/>
            <a:ext cx="8848440" cy="4498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1"/>
          <p:cNvSpPr/>
          <p:nvPr/>
        </p:nvSpPr>
        <p:spPr>
          <a:xfrm>
            <a:off x="420840" y="1125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Most important sources of finance to connect firms to value chains according to partner countr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f81bd"/>
                </a:solidFill>
                <a:latin typeface="Calibri"/>
              </a:rPr>
              <a:t>Development finance flows in low income count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50920" y="1666800"/>
            <a:ext cx="86421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f81bd"/>
                </a:solidFill>
                <a:latin typeface="Calibri"/>
              </a:rPr>
              <a:t>Trade facilitation statement at the Global Review of Aid for Tra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2520" y="11966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WTO_2_COLOR"/>
          <p:cNvPicPr/>
          <p:nvPr/>
        </p:nvPicPr>
        <p:blipFill>
          <a:blip r:embed="rId1"/>
          <a:stretch/>
        </p:blipFill>
        <p:spPr>
          <a:xfrm>
            <a:off x="7740720" y="5300640"/>
            <a:ext cx="914400" cy="1114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986120" y="1413000"/>
            <a:ext cx="5324400" cy="2646360"/>
          </a:xfrm>
          <a:prstGeom prst="rect">
            <a:avLst/>
          </a:prstGeom>
          <a:ln w="0">
            <a:noFill/>
          </a:ln>
        </p:spPr>
      </p:pic>
      <p:sp>
        <p:nvSpPr>
          <p:cNvPr id="88" name="Content Placeholder 2"/>
          <p:cNvSpPr/>
          <p:nvPr/>
        </p:nvSpPr>
        <p:spPr>
          <a:xfrm>
            <a:off x="617400" y="409896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27 governments and IG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TF support increased 365% to $381m (201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$1.2 billion disbursed since 20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Members can be confident of on-going suppor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Outlook on future AfT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f81bd"/>
                </a:solidFill>
                <a:latin typeface="Calibri"/>
              </a:rPr>
              <a:t>The Bali package (Ministerial Declaratio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rade facil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gri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o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velopment and LDC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f81bd"/>
                </a:solidFill>
                <a:latin typeface="Calibri"/>
              </a:rPr>
              <a:t>Agreement on Trade Facili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ection I – Technical prov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ection II – Special and differential treatment provisions for developing countries and LD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elf-designation of provisions into Categories A, B and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ategory C provisions: require the acquisition of implementaiton capacity through the provision of assistance and support for capacity buil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ey role of Aid for Trade in the implementiation of the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f81bd"/>
                </a:solidFill>
                <a:latin typeface="Calibri"/>
              </a:rPr>
              <a:t>Ministerial Decision on Aid for Tra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inist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cognize the continuing need of AF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ffirm their commitment to 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ew AFT Work Programme should be framed by post-2015 development age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f81bd"/>
                </a:solidFill>
                <a:latin typeface="Calibri"/>
              </a:rPr>
              <a:t>Summary p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4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Global Review highlighted key barriers for developing country firms to connect to value ch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ey issues and trend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loser cooperation between the private and public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id for trade as complement or substitute to other development finance fl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owing importance of South-South relation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uture Aid for Trade work influenced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de Facilitation Agre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st-2015 Development Age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 for your attentio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ainer.Lanz@wto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f81bd"/>
                </a:solidFill>
                <a:latin typeface="Calibri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Global Review 8-10 July 2013, Gene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nt and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necting to value ch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utlook on future AfT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ali package and im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WTO_2_COLOR"/>
          <p:cNvPicPr/>
          <p:nvPr/>
        </p:nvPicPr>
        <p:blipFill>
          <a:blip r:embed="rId1"/>
          <a:stretch/>
        </p:blipFill>
        <p:spPr>
          <a:xfrm>
            <a:off x="7740720" y="5300640"/>
            <a:ext cx="9144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f81bd"/>
                </a:solidFill>
                <a:latin typeface="Calibri"/>
              </a:rPr>
              <a:t>4</a:t>
            </a:r>
            <a:r>
              <a:rPr b="1" lang="en-GB" sz="3600" spc="-1" strike="noStrike" baseline="30000">
                <a:solidFill>
                  <a:srgbClr val="4f81bd"/>
                </a:solidFill>
                <a:latin typeface="Calibri"/>
              </a:rPr>
              <a:t>th</a:t>
            </a:r>
            <a:r>
              <a:rPr b="1" lang="en-GB" sz="3600" spc="-1" strike="noStrike">
                <a:solidFill>
                  <a:srgbClr val="4f81bd"/>
                </a:solidFill>
                <a:latin typeface="Calibri"/>
              </a:rPr>
              <a:t> Global Review – 8-10 July 201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2520" y="11966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4 plenary sess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30 side events (Members, IOs, NG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,486  registered 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300 spea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gh level participation – IGOs, Mini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usiness and civil society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WTO_2_COLOR"/>
          <p:cNvPicPr/>
          <p:nvPr/>
        </p:nvPicPr>
        <p:blipFill>
          <a:blip r:embed="rId1"/>
          <a:stretch/>
        </p:blipFill>
        <p:spPr>
          <a:xfrm>
            <a:off x="7740720" y="5300640"/>
            <a:ext cx="91440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P1020259"/>
          <p:cNvPicPr/>
          <p:nvPr/>
        </p:nvPicPr>
        <p:blipFill>
          <a:blip r:embed="rId2"/>
          <a:stretch/>
        </p:blipFill>
        <p:spPr>
          <a:xfrm>
            <a:off x="826920" y="4662360"/>
            <a:ext cx="1692360" cy="1276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IMG_1048"/>
          <p:cNvPicPr/>
          <p:nvPr/>
        </p:nvPicPr>
        <p:blipFill>
          <a:blip r:embed="rId3"/>
          <a:stretch/>
        </p:blipFill>
        <p:spPr>
          <a:xfrm>
            <a:off x="3059280" y="4643280"/>
            <a:ext cx="178560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5219640" y="4618080"/>
            <a:ext cx="2054160" cy="1365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5"/>
          <a:stretch/>
        </p:blipFill>
        <p:spPr>
          <a:xfrm>
            <a:off x="6267600" y="1844640"/>
            <a:ext cx="2268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2280" y="6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f81bd"/>
                </a:solidFill>
                <a:latin typeface="Calibri"/>
              </a:rPr>
              <a:t>Numerous Public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2280" y="1109520"/>
            <a:ext cx="847080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lvl="1"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urth Global Review of Aid for Trade 2013: Summary Report (repor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id for Trade at a Glance 2013: Connecting to Value Chains; OECD-WTO (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epor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id for Trade and Value Chains: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Agrifoo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IC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Textil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Touris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Transport and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Log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id for Trade: Connecting firms in developing countries to value chains, OECD/WTO (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olicy brief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necting to GVCs and Aid for Trade; IsDB (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repor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necting LDCs to Value Chains (repor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ilding trade capacities for Africa’s transformation – a critical review of Aid for Trade UNECA; (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repor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dia-Africa: South-South Trade and Investment for Development; CII &amp; WTO (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repor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moting the private sector and global value chains; Asia Pacific Regional Technical Group (repor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WTO_2_COLOR"/>
          <p:cNvPicPr/>
          <p:nvPr/>
        </p:nvPicPr>
        <p:blipFill>
          <a:blip r:embed="rId12"/>
          <a:stretch/>
        </p:blipFill>
        <p:spPr>
          <a:xfrm>
            <a:off x="7915320" y="260280"/>
            <a:ext cx="7365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f81bd"/>
                </a:solidFill>
                <a:latin typeface="Calibri"/>
              </a:rPr>
              <a:t>Video Re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2520" y="11966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ghlights of the 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lobal Review:  9 min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grifood value chains: 2 minu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CT value chains: 2 min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xtiles and Tourism: 2 min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ourism: 2 min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nsport and logistics:  2.5 min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WTO_2_COLOR"/>
          <p:cNvPicPr/>
          <p:nvPr/>
        </p:nvPicPr>
        <p:blipFill>
          <a:blip r:embed="rId1"/>
          <a:stretch/>
        </p:blipFill>
        <p:spPr>
          <a:xfrm>
            <a:off x="7740720" y="5300640"/>
            <a:ext cx="9144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f81bd"/>
                </a:solidFill>
                <a:latin typeface="Calibri"/>
              </a:rPr>
              <a:t>OECD/WTO monitoring exerc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ublic sector (132 repl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tner countries (80), donors (43), South-South assistance providers (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SCWA countries: Jordan, Morocco, Oman, Sudan, Tunisia, Ye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ivate sector (697 repl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veloping country suppliers (524) and lead firms (17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grifood (257), Information and communication technology (ICT) (125), Textiles and apparel (106), Tourism (113), Transport and logistics (9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3 firms from 10 ESCWA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WTO_2_COLOR"/>
          <p:cNvPicPr/>
          <p:nvPr/>
        </p:nvPicPr>
        <p:blipFill>
          <a:blip r:embed="rId1"/>
          <a:stretch/>
        </p:blipFill>
        <p:spPr>
          <a:xfrm>
            <a:off x="7740720" y="5300640"/>
            <a:ext cx="9144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alibri"/>
              </a:rPr>
              <a:t>What are the main barriers for developing country firms to participate in value chains? (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45480" cy="4808520"/>
          </a:xfrm>
          <a:prstGeom prst="rect">
            <a:avLst/>
          </a:prstGeom>
          <a:ln w="0">
            <a:noFill/>
          </a:ln>
        </p:spPr>
      </p:pic>
      <p:sp>
        <p:nvSpPr>
          <p:cNvPr id="72" name="Rounded Rectangle 3"/>
          <p:cNvSpPr/>
          <p:nvPr/>
        </p:nvSpPr>
        <p:spPr>
          <a:xfrm>
            <a:off x="250920" y="2421000"/>
            <a:ext cx="7921440" cy="1008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alibri"/>
              </a:rPr>
              <a:t>What are the main barriers for developing country firms to participate in value chains? (I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915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f81bd"/>
                </a:solidFill>
                <a:latin typeface="Calibri"/>
              </a:rPr>
              <a:t>Which type of aid is “very effective” according to developing partner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680320" cy="3816360"/>
          </a:xfrm>
          <a:prstGeom prst="rect">
            <a:avLst/>
          </a:prstGeom>
          <a:ln w="0">
            <a:noFill/>
          </a:ln>
        </p:spPr>
      </p:pic>
      <p:sp>
        <p:nvSpPr>
          <p:cNvPr id="77" name="Rounded Rectangle 3"/>
          <p:cNvSpPr/>
          <p:nvPr/>
        </p:nvSpPr>
        <p:spPr>
          <a:xfrm>
            <a:off x="250920" y="2060640"/>
            <a:ext cx="8208720" cy="10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9:45:45Z</dcterms:created>
  <dc:creator>Roberts, Michael</dc:creator>
  <dc:description/>
  <dc:language>en-US</dc:language>
  <cp:lastModifiedBy>Lanz, Rainer</cp:lastModifiedBy>
  <cp:lastPrinted>2013-03-13T10:01:36Z</cp:lastPrinted>
  <dcterms:modified xsi:type="dcterms:W3CDTF">2013-12-12T11:21:10Z</dcterms:modified>
  <cp:revision>193</cp:revision>
  <dc:subject/>
  <dc:title>Secretariat Update  Status of the AfT Monitoring Exercise</dc:title>
</cp:coreProperties>
</file>