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ED7-955F-4AF3-8F0B-4459001D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CCB-773E-4B76-8217-1606D21D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A0C-FD8A-4E57-9825-EF990678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6D8-8D6B-4F4F-835B-5920D6C3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075A-7F44-4EA6-9CCD-68D85E1B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203B-C43A-4255-A809-79AA5C26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6919-A3D2-489E-BBCF-0B4B11A1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F2AF-0D4E-4766-877C-9ECB57DA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36D1-88BD-4C01-A35F-837F3E8C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E063-C19A-4DED-8456-2FA07C7A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A5DD-7DE5-4F4B-8472-0A1640CF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E40-7B48-4ABD-B37B-CDDCD01A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64D7-D202-44A2-BEBF-C88D7B63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3CEC-A3CD-4339-8CE5-53B10244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41F0-6395-4A2B-B7A8-7517F0BD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726A-3C49-498E-A62C-FB6CB059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967E-1DEE-4367-B6F5-A26C1CCE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EBB5-79D4-4171-938D-9536F0A0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007-2008-4981-940B-10DCD246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890-0EAD-4ED0-9A0A-F8D93E4D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4C8-4CDF-47CC-AD8A-E4C691D7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03B-7FB9-4405-B909-D711FA6F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04A-0CF6-48CE-9DB9-CD0214C8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862-6C01-49D8-B10A-E2174662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F9A8-DBD1-43B3-B7A4-43DAD38A6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WordArt 10"/>
          <p:cNvSpPr txBox="1"/>
          <p:nvPr/>
        </p:nvSpPr>
        <p:spPr>
          <a:xfrm>
            <a:off x="609480" y="5943600"/>
            <a:ext cx="27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" name="WordArt 11"/>
          <p:cNvSpPr txBox="1"/>
          <p:nvPr/>
        </p:nvSpPr>
        <p:spPr>
          <a:xfrm>
            <a:off x="609480" y="5029200"/>
            <a:ext cx="27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609480" y="4114800"/>
            <a:ext cx="27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27000" y="228600"/>
            <a:ext cx="2106720" cy="646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0" bIns="10800" anchor="ctr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" name="Picture 23" descr="Picture1"/>
          <p:cNvPicPr/>
          <p:nvPr/>
        </p:nvPicPr>
        <p:blipFill>
          <a:blip r:embed="rId4"/>
          <a:stretch/>
        </p:blipFill>
        <p:spPr>
          <a:xfrm>
            <a:off x="228600" y="2133720"/>
            <a:ext cx="1244520" cy="4730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24"/>
          <p:cNvSpPr/>
          <p:nvPr/>
        </p:nvSpPr>
        <p:spPr>
          <a:xfrm>
            <a:off x="76320" y="3048120"/>
            <a:ext cx="131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-Gov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&amp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" descr=""/>
          <p:cNvPicPr/>
          <p:nvPr/>
        </p:nvPicPr>
        <p:blipFill>
          <a:blip r:embed="rId3"/>
          <a:stretch/>
        </p:blipFill>
        <p:spPr>
          <a:xfrm>
            <a:off x="76320" y="76320"/>
            <a:ext cx="259056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25DB-77CC-4B74-A8C2-749B096C47BE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lmaee@yesser.gov.sa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3000" y="396216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ahoma"/>
              </a:rPr>
              <a:t>Saudi E-Gov PPP Framework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Cambria"/>
              </a:rPr>
              <a:t>February 2008</a:t>
            </a: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920680" y="5867280"/>
            <a:ext cx="367056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Times New Roman"/>
              </a:rPr>
              <a:t>Suhail Al-Almaee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Director of  Strategic Planning and Supporting Initiatives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Saudi eGovernment Program (Yesser)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77b89"/>
                </a:solidFill>
                <a:uFillTx/>
                <a:latin typeface="Times New Roman"/>
                <a:hlinkClick r:id="rId1"/>
              </a:rPr>
              <a:t>salmaee@yesser.gov.sa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609480" y="990720"/>
            <a:ext cx="27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609480" y="2819520"/>
            <a:ext cx="27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WordArt 12"/>
          <p:cNvSpPr txBox="1"/>
          <p:nvPr/>
        </p:nvSpPr>
        <p:spPr>
          <a:xfrm>
            <a:off x="609480" y="1905120"/>
            <a:ext cx="27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FFE8-2D18-4480-AA92-F6E1175C588B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96" name="Picture 5" descr="Picture1"/>
          <p:cNvPicPr/>
          <p:nvPr/>
        </p:nvPicPr>
        <p:blipFill>
          <a:blip r:embed="rId2"/>
          <a:stretch/>
        </p:blipFill>
        <p:spPr>
          <a:xfrm>
            <a:off x="5334120" y="1370160"/>
            <a:ext cx="337824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889 0.05092 L 0.04861 0.4287 L -0.52639 0.4287 L -0.23889 0.05092 Z">
                                      <p:cBhvr>
                                        <p:cTn id="6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6"/>
          <p:cNvSpPr/>
          <p:nvPr/>
        </p:nvSpPr>
        <p:spPr>
          <a:xfrm>
            <a:off x="2470320" y="228600"/>
            <a:ext cx="647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Major Projects Component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7" name="AutoShape 49"/>
          <p:cNvSpPr/>
          <p:nvPr/>
        </p:nvSpPr>
        <p:spPr>
          <a:xfrm>
            <a:off x="6858000" y="1676520"/>
            <a:ext cx="1371600" cy="15238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AutoShape 50"/>
          <p:cNvSpPr/>
          <p:nvPr/>
        </p:nvSpPr>
        <p:spPr>
          <a:xfrm>
            <a:off x="5638680" y="1676520"/>
            <a:ext cx="1447920" cy="1523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9" name="AutoShape 51"/>
          <p:cNvSpPr/>
          <p:nvPr/>
        </p:nvSpPr>
        <p:spPr>
          <a:xfrm>
            <a:off x="4495680" y="1676520"/>
            <a:ext cx="1373400" cy="1523880"/>
          </a:xfrm>
          <a:custGeom>
            <a:avLst/>
            <a:gdLst>
              <a:gd name="textAreaLeft" fmla="*/ 0 w 1373400"/>
              <a:gd name="textAreaRight" fmla="*/ 1373760 w 13734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0" name="AutoShape 52"/>
          <p:cNvSpPr/>
          <p:nvPr/>
        </p:nvSpPr>
        <p:spPr>
          <a:xfrm>
            <a:off x="3276720" y="1676520"/>
            <a:ext cx="1447560" cy="15238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1" name="AutoShape 57"/>
          <p:cNvSpPr/>
          <p:nvPr/>
        </p:nvSpPr>
        <p:spPr>
          <a:xfrm>
            <a:off x="2057400" y="1676520"/>
            <a:ext cx="1447920" cy="1523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2" name="Text Box 58"/>
          <p:cNvSpPr/>
          <p:nvPr/>
        </p:nvSpPr>
        <p:spPr>
          <a:xfrm>
            <a:off x="2289600" y="213372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adines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3" name="Text Box 59"/>
          <p:cNvSpPr/>
          <p:nvPr/>
        </p:nvSpPr>
        <p:spPr>
          <a:xfrm>
            <a:off x="2232360" y="3657600"/>
            <a:ext cx="543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onducting needed interview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Review relevant documen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Draft a PPP readiness assessment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48FF-E342-404B-96DA-FD8B591BDC2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3146040" y="297000"/>
            <a:ext cx="482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Scope of Assessment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523880" y="1676520"/>
            <a:ext cx="8396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A team of consultants collected information from a variety of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sources.  This Readiness Assessment is based upon the team’s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access to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aterials publicly available, including laws, regulations and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examples of standard contract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Interviews with selected Gov stakeholders, interviews for examp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included (MoF, SEC, E Gov Program, EDI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Interviews with selected private stakeholders, interview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included international and national companies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International best practices for PPP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0EAA-7678-4DFE-A96F-5D1615D7B4F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9"/>
          <p:cNvSpPr/>
          <p:nvPr/>
        </p:nvSpPr>
        <p:spPr>
          <a:xfrm>
            <a:off x="2238480" y="3657600"/>
            <a:ext cx="58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apture of international best practice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KSA driver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Draft a PPP policy framework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6858000" y="1676520"/>
            <a:ext cx="1371600" cy="15238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5638680" y="1676520"/>
            <a:ext cx="1447920" cy="1523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4495680" y="1676520"/>
            <a:ext cx="1373400" cy="1523880"/>
          </a:xfrm>
          <a:custGeom>
            <a:avLst/>
            <a:gdLst>
              <a:gd name="textAreaLeft" fmla="*/ 0 w 1373400"/>
              <a:gd name="textAreaRight" fmla="*/ 1373760 w 13734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3276720" y="1676520"/>
            <a:ext cx="1447560" cy="15238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77b89"/>
              </a:gs>
              <a:gs pos="100000">
                <a:srgbClr val="19393f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556800" y="2133720"/>
            <a:ext cx="108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PP Polic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amework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2057400" y="1676520"/>
            <a:ext cx="1447920" cy="1523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2286000" y="282600"/>
            <a:ext cx="73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Cambria"/>
              </a:rPr>
              <a:t>Major Projects components </a:t>
            </a:r>
            <a:r>
              <a:rPr b="0" lang="en-US" sz="3200" spc="-1" strike="noStrike">
                <a:solidFill>
                  <a:srgbClr val="080808"/>
                </a:solidFill>
                <a:latin typeface="Cambria"/>
              </a:rPr>
              <a:t>con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3AA8-CE55-42C7-B1FC-754048C221A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2232720" y="3505320"/>
            <a:ext cx="564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Module definition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nput from PPP project and contract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management exper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Draft a PPP Manual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Draft a PPP Quick reference Manual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PPP lifecycle Card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6858000" y="1676520"/>
            <a:ext cx="1371600" cy="15238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5638680" y="1676520"/>
            <a:ext cx="1447920" cy="1523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4495680" y="1676520"/>
            <a:ext cx="1373400" cy="1523880"/>
          </a:xfrm>
          <a:custGeom>
            <a:avLst/>
            <a:gdLst>
              <a:gd name="textAreaLeft" fmla="*/ 0 w 1373400"/>
              <a:gd name="textAreaRight" fmla="*/ 1373760 w 13734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76669a"/>
              </a:gs>
              <a:gs pos="100000">
                <a:srgbClr val="372f4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3276720" y="1676520"/>
            <a:ext cx="1447560" cy="15238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834800" y="2133720"/>
            <a:ext cx="8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nu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2057400" y="1676520"/>
            <a:ext cx="1447920" cy="1523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891A-2690-4FA7-8836-145F54A8C5D2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286000" y="282600"/>
            <a:ext cx="73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Cambria"/>
              </a:rPr>
              <a:t>Major Projects components </a:t>
            </a:r>
            <a:r>
              <a:rPr b="0" lang="en-US" sz="3200" spc="-1" strike="noStrike">
                <a:solidFill>
                  <a:srgbClr val="080808"/>
                </a:solidFill>
                <a:latin typeface="Cambria"/>
              </a:rPr>
              <a:t>con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2422800" y="3124080"/>
            <a:ext cx="460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Develop templates/tool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- Business Case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- Feasibility assessmen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- Risk assessment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- RFI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- RFP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- Standard contract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- SL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- Public consultation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6858000" y="1523880"/>
            <a:ext cx="1371600" cy="15242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638680" y="1523880"/>
            <a:ext cx="1447920" cy="1524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aa6b0"/>
              </a:gs>
              <a:gs pos="100000">
                <a:srgbClr val="384d51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4495680" y="1523880"/>
            <a:ext cx="1373400" cy="1524240"/>
          </a:xfrm>
          <a:custGeom>
            <a:avLst/>
            <a:gdLst>
              <a:gd name="textAreaLeft" fmla="*/ 0 w 1373400"/>
              <a:gd name="textAreaRight" fmla="*/ 1373760 w 137340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3276720" y="1523880"/>
            <a:ext cx="1447560" cy="152424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947920" y="1981080"/>
            <a:ext cx="102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emplate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2057400" y="1523880"/>
            <a:ext cx="1447920" cy="1524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3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993B-270D-47FC-88C1-53ABABAB758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2286000" y="282600"/>
            <a:ext cx="73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Cambria"/>
              </a:rPr>
              <a:t>Major Projects components </a:t>
            </a:r>
            <a:r>
              <a:rPr b="0" lang="en-US" sz="3200" spc="-1" strike="noStrike">
                <a:solidFill>
                  <a:srgbClr val="080808"/>
                </a:solidFill>
                <a:latin typeface="Cambria"/>
              </a:rPr>
              <a:t>con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2016720" y="3430440"/>
            <a:ext cx="7180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Report to MCIT/Yesser identifying gaps and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recommendation on legal framework as they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mpact PPP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Report to MCIT/Yesser/CITC identifying gaps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and recommendation on institutional framework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as they impact PPP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6858000" y="1676520"/>
            <a:ext cx="1371600" cy="15238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272d0"/>
              </a:gs>
              <a:gs pos="100000">
                <a:srgbClr val="353560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7" name="AutoShape 11"/>
          <p:cNvSpPr/>
          <p:nvPr/>
        </p:nvSpPr>
        <p:spPr>
          <a:xfrm>
            <a:off x="5638680" y="1676520"/>
            <a:ext cx="1447920" cy="1523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4495680" y="1676520"/>
            <a:ext cx="1373400" cy="1523880"/>
          </a:xfrm>
          <a:custGeom>
            <a:avLst/>
            <a:gdLst>
              <a:gd name="textAreaLeft" fmla="*/ 0 w 1373400"/>
              <a:gd name="textAreaRight" fmla="*/ 1373760 w 13734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3276720" y="1676520"/>
            <a:ext cx="1447560" cy="15238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992640" y="2057400"/>
            <a:ext cx="12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ap analysi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gal and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stitution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2057400" y="1676520"/>
            <a:ext cx="1447920" cy="1523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2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7F9D-A8BA-4ED6-89A4-70A0387D4345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286000" y="282600"/>
            <a:ext cx="73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Cambria"/>
              </a:rPr>
              <a:t>Major Projects components </a:t>
            </a:r>
            <a:r>
              <a:rPr b="0" lang="en-US" sz="3200" spc="-1" strike="noStrike">
                <a:solidFill>
                  <a:srgbClr val="080808"/>
                </a:solidFill>
                <a:latin typeface="Cambria"/>
              </a:rPr>
              <a:t>con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4"/>
          <p:cNvSpPr/>
          <p:nvPr/>
        </p:nvSpPr>
        <p:spPr>
          <a:xfrm>
            <a:off x="5181480" y="1752480"/>
            <a:ext cx="1447920" cy="1524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962520" y="1752480"/>
            <a:ext cx="1447560" cy="152424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a1c0c7"/>
              </a:gs>
              <a:gs pos="100000">
                <a:srgbClr val="4b595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145400" y="2209680"/>
            <a:ext cx="122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sultatio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n PPP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828800" y="34290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Public Consultation on the Framework     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takeholders workshop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Revision of Policy, Manual, and Template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ommunicate the Framework to stakeholder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4415400" y="304920"/>
            <a:ext cx="25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Next Step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ED93-7903-458F-B4AC-A007335BF318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231280" y="3635280"/>
            <a:ext cx="65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velop and distribute additional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materials and case studies based on PPP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projects in KSA as part of regular updating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of PPP Manual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(Ongoing role)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5181480" y="1752480"/>
            <a:ext cx="1447920" cy="1524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b7aeca"/>
              </a:gs>
              <a:gs pos="100000">
                <a:srgbClr val="55515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962520" y="1752480"/>
            <a:ext cx="1447560" cy="152424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56080" y="2133720"/>
            <a:ext cx="11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se studie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amp; Manu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pplement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4438440" y="304920"/>
            <a:ext cx="36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Next Steps con.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4022-2DB1-4D78-B0E1-1E8172656F2C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3969000" y="228600"/>
            <a:ext cx="380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What's missing 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703520" y="1371600"/>
            <a:ext cx="720036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ommunication Plan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A national communication strategy should be put in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place to ensure that local authority officials are awar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of the potential benefits of PPP and of the main issue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involved in implementing them. Also, the strategy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hould have a similar part for the private sector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raining Plan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Proper training for local authority staff is essential for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PPP success. For example: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Project feasibility and business cas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Project manageme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Contract conditions and negotiatio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Risk manageme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Contract manageme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Performance and SLA manageme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1183-A42E-4349-818C-651BB52BBEE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2596680" y="344520"/>
            <a:ext cx="62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Cambria"/>
              </a:rPr>
              <a:t>PPP vs. Traditional Procurement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286000" y="1600200"/>
            <a:ext cx="60199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ahoma"/>
              </a:rPr>
              <a:t>PPP  ≠  Traditional Procurement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2630160" y="261468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80808"/>
                </a:solidFill>
                <a:uFillTx/>
                <a:latin typeface="Times New Roman"/>
              </a:rPr>
              <a:t>PPP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407200" y="2590920"/>
            <a:ext cx="29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80808"/>
                </a:solidFill>
                <a:uFillTx/>
                <a:latin typeface="Times New Roman"/>
              </a:rPr>
              <a:t>Traditional Procuremen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719360" y="326376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Focus on service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715760" y="387360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erformance-based paymen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714320" y="4651200"/>
            <a:ext cx="29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Long duration (3-20 years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1716840" y="5176800"/>
            <a:ext cx="24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Bigger role (and risk)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for private secto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5252400" y="3263760"/>
            <a:ext cx="26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Buying products / asset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5250960" y="3873600"/>
            <a:ext cx="34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ayment based on specification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5257800" y="44956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Shorter contracts for delivery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of asset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5257800" y="5176800"/>
            <a:ext cx="36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rivate sector is contractor delivering a produc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1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4E3-C2DF-4E32-9770-BD56D301835B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760" y="8532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Agend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Cambria"/>
              </a:rPr>
              <a:t>E-GOV PPP FRAMEWORK WHY &amp; HOW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Cambria"/>
              </a:rPr>
              <a:t>USING THE FRAMEWORK BUILDING THE RELATIONSHIP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F21C-2684-453E-92A9-5B462109FD18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3995640" y="228600"/>
            <a:ext cx="33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Types of PPP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233" name="Group 26"/>
          <p:cNvGrpSpPr/>
          <p:nvPr/>
        </p:nvGrpSpPr>
        <p:grpSpPr>
          <a:xfrm>
            <a:off x="1665360" y="1600200"/>
            <a:ext cx="7402320" cy="4257720"/>
            <a:chOff x="1665360" y="1600200"/>
            <a:chExt cx="7402320" cy="4257720"/>
          </a:xfrm>
        </p:grpSpPr>
        <p:sp>
          <p:nvSpPr>
            <p:cNvPr id="234" name="AutoShape 25"/>
            <p:cNvSpPr/>
            <p:nvPr/>
          </p:nvSpPr>
          <p:spPr>
            <a:xfrm>
              <a:off x="1665360" y="1600200"/>
              <a:ext cx="7402320" cy="42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grpSp>
          <p:nvGrpSpPr>
            <p:cNvPr id="235" name="Group 29"/>
            <p:cNvGrpSpPr/>
            <p:nvPr/>
          </p:nvGrpSpPr>
          <p:grpSpPr>
            <a:xfrm>
              <a:off x="1735200" y="2589120"/>
              <a:ext cx="2109600" cy="790560"/>
              <a:chOff x="1735200" y="2589120"/>
              <a:chExt cx="2109600" cy="790560"/>
            </a:xfrm>
          </p:grpSpPr>
          <p:sp>
            <p:nvSpPr>
              <p:cNvPr id="236" name="Freeform 27"/>
              <p:cNvSpPr/>
              <p:nvPr/>
            </p:nvSpPr>
            <p:spPr>
              <a:xfrm>
                <a:off x="1735200" y="2589120"/>
                <a:ext cx="2109600" cy="7905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1735200" y="2589120"/>
                <a:ext cx="2109600" cy="7905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74"/>
            <p:cNvGrpSpPr/>
            <p:nvPr/>
          </p:nvGrpSpPr>
          <p:grpSpPr>
            <a:xfrm>
              <a:off x="2130480" y="2720880"/>
              <a:ext cx="1384200" cy="505080"/>
              <a:chOff x="2130480" y="2720880"/>
              <a:chExt cx="1384200" cy="505080"/>
            </a:xfrm>
          </p:grpSpPr>
          <p:sp>
            <p:nvSpPr>
              <p:cNvPr id="239" name="Freeform 30"/>
              <p:cNvSpPr/>
              <p:nvPr/>
            </p:nvSpPr>
            <p:spPr>
              <a:xfrm>
                <a:off x="2244600" y="2720880"/>
                <a:ext cx="133560" cy="169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387520" y="2765520"/>
                <a:ext cx="81000" cy="125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2473200" y="2765520"/>
                <a:ext cx="1191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2604960" y="2720880"/>
                <a:ext cx="114480" cy="171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2744640" y="2720880"/>
                <a:ext cx="38160" cy="169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01880" y="2720880"/>
                <a:ext cx="77760" cy="171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5" name="Freeform 36"/>
              <p:cNvSpPr/>
              <p:nvPr/>
            </p:nvSpPr>
            <p:spPr>
              <a:xfrm>
                <a:off x="2897280" y="2720880"/>
                <a:ext cx="39600" cy="169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6" name="Freeform 37"/>
              <p:cNvSpPr/>
              <p:nvPr/>
            </p:nvSpPr>
            <p:spPr>
              <a:xfrm>
                <a:off x="2957400" y="2765520"/>
                <a:ext cx="11772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3094200" y="2765520"/>
                <a:ext cx="109440" cy="125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3222720" y="2765520"/>
                <a:ext cx="1173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3360600" y="2720880"/>
                <a:ext cx="39960" cy="169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2130480" y="3054240"/>
                <a:ext cx="120600" cy="169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2271600" y="3098880"/>
                <a:ext cx="81000" cy="125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2357280" y="3098880"/>
                <a:ext cx="11772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2489040" y="3098880"/>
                <a:ext cx="1191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2625840" y="3100320"/>
                <a:ext cx="109440" cy="125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2759040" y="3098880"/>
                <a:ext cx="81000" cy="125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2844720" y="3098880"/>
                <a:ext cx="1191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57" name="Freeform 48"/>
              <p:cNvSpPr/>
              <p:nvPr/>
            </p:nvSpPr>
            <p:spPr>
              <a:xfrm>
                <a:off x="2981160" y="3098880"/>
                <a:ext cx="174960" cy="125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58" name="Freeform 49"/>
              <p:cNvSpPr/>
              <p:nvPr/>
            </p:nvSpPr>
            <p:spPr>
              <a:xfrm>
                <a:off x="3174840" y="3098880"/>
                <a:ext cx="1191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59" name="Freeform 50"/>
              <p:cNvSpPr/>
              <p:nvPr/>
            </p:nvSpPr>
            <p:spPr>
              <a:xfrm>
                <a:off x="3311640" y="3098880"/>
                <a:ext cx="109440" cy="125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60" name="Freeform 51"/>
              <p:cNvSpPr/>
              <p:nvPr/>
            </p:nvSpPr>
            <p:spPr>
              <a:xfrm>
                <a:off x="3436920" y="3054240"/>
                <a:ext cx="77760" cy="171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61" name="Freeform 52"/>
              <p:cNvSpPr/>
              <p:nvPr/>
            </p:nvSpPr>
            <p:spPr>
              <a:xfrm>
                <a:off x="2244600" y="2720880"/>
                <a:ext cx="133560" cy="1699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62" name="Freeform 53"/>
              <p:cNvSpPr/>
              <p:nvPr/>
            </p:nvSpPr>
            <p:spPr>
              <a:xfrm>
                <a:off x="2387520" y="2765520"/>
                <a:ext cx="81000" cy="1252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63" name="Freeform 54"/>
              <p:cNvSpPr/>
              <p:nvPr/>
            </p:nvSpPr>
            <p:spPr>
              <a:xfrm>
                <a:off x="2473200" y="2765520"/>
                <a:ext cx="11916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64" name="Freeform 55"/>
              <p:cNvSpPr/>
              <p:nvPr/>
            </p:nvSpPr>
            <p:spPr>
              <a:xfrm>
                <a:off x="2604960" y="2720880"/>
                <a:ext cx="114480" cy="1717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2744640" y="2720880"/>
                <a:ext cx="38160" cy="1699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2801880" y="2720880"/>
                <a:ext cx="77760" cy="1717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2897280" y="2720880"/>
                <a:ext cx="39600" cy="1699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2957400" y="2765520"/>
                <a:ext cx="11772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3094200" y="2765520"/>
                <a:ext cx="109440" cy="1252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3222720" y="2765520"/>
                <a:ext cx="11736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71" name="Freeform 62"/>
              <p:cNvSpPr/>
              <p:nvPr/>
            </p:nvSpPr>
            <p:spPr>
              <a:xfrm>
                <a:off x="3360600" y="2720880"/>
                <a:ext cx="39960" cy="1699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72" name="Freeform 63"/>
              <p:cNvSpPr/>
              <p:nvPr/>
            </p:nvSpPr>
            <p:spPr>
              <a:xfrm>
                <a:off x="2130480" y="3054240"/>
                <a:ext cx="120600" cy="1699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73" name="Freeform 64"/>
              <p:cNvSpPr/>
              <p:nvPr/>
            </p:nvSpPr>
            <p:spPr>
              <a:xfrm>
                <a:off x="2271600" y="3098880"/>
                <a:ext cx="81000" cy="1252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74" name="Freeform 65"/>
              <p:cNvSpPr/>
              <p:nvPr/>
            </p:nvSpPr>
            <p:spPr>
              <a:xfrm>
                <a:off x="2357280" y="3098880"/>
                <a:ext cx="11772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75" name="Freeform 66"/>
              <p:cNvSpPr/>
              <p:nvPr/>
            </p:nvSpPr>
            <p:spPr>
              <a:xfrm>
                <a:off x="2489040" y="3098880"/>
                <a:ext cx="11916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76" name="Freeform 67"/>
              <p:cNvSpPr/>
              <p:nvPr/>
            </p:nvSpPr>
            <p:spPr>
              <a:xfrm>
                <a:off x="2625840" y="3100320"/>
                <a:ext cx="109440" cy="12564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77" name="Freeform 68"/>
              <p:cNvSpPr/>
              <p:nvPr/>
            </p:nvSpPr>
            <p:spPr>
              <a:xfrm>
                <a:off x="2759040" y="3098880"/>
                <a:ext cx="81000" cy="1252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78" name="Freeform 69"/>
              <p:cNvSpPr/>
              <p:nvPr/>
            </p:nvSpPr>
            <p:spPr>
              <a:xfrm>
                <a:off x="2844720" y="3098880"/>
                <a:ext cx="11916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79" name="Freeform 70"/>
              <p:cNvSpPr/>
              <p:nvPr/>
            </p:nvSpPr>
            <p:spPr>
              <a:xfrm>
                <a:off x="2981160" y="3098880"/>
                <a:ext cx="174960" cy="1252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80" name="Freeform 71"/>
              <p:cNvSpPr/>
              <p:nvPr/>
            </p:nvSpPr>
            <p:spPr>
              <a:xfrm>
                <a:off x="3174840" y="3098880"/>
                <a:ext cx="11916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81" name="Freeform 72"/>
              <p:cNvSpPr/>
              <p:nvPr/>
            </p:nvSpPr>
            <p:spPr>
              <a:xfrm>
                <a:off x="3311640" y="3098880"/>
                <a:ext cx="109440" cy="1252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82" name="Freeform 73"/>
              <p:cNvSpPr/>
              <p:nvPr/>
            </p:nvSpPr>
            <p:spPr>
              <a:xfrm>
                <a:off x="3436920" y="3054240"/>
                <a:ext cx="77760" cy="1717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77"/>
            <p:cNvGrpSpPr/>
            <p:nvPr/>
          </p:nvGrpSpPr>
          <p:grpSpPr>
            <a:xfrm>
              <a:off x="4240080" y="2589120"/>
              <a:ext cx="2109960" cy="790560"/>
              <a:chOff x="4240080" y="2589120"/>
              <a:chExt cx="2109960" cy="790560"/>
            </a:xfrm>
          </p:grpSpPr>
          <p:sp>
            <p:nvSpPr>
              <p:cNvPr id="284" name="Freeform 75"/>
              <p:cNvSpPr/>
              <p:nvPr/>
            </p:nvSpPr>
            <p:spPr>
              <a:xfrm>
                <a:off x="4240080" y="2589120"/>
                <a:ext cx="2109960" cy="7905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85" name="Freeform 76"/>
              <p:cNvSpPr/>
              <p:nvPr/>
            </p:nvSpPr>
            <p:spPr>
              <a:xfrm>
                <a:off x="4240080" y="2589120"/>
                <a:ext cx="2109960" cy="7905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86"/>
            <p:cNvGrpSpPr/>
            <p:nvPr/>
          </p:nvGrpSpPr>
          <p:grpSpPr>
            <a:xfrm>
              <a:off x="4635360" y="2786040"/>
              <a:ext cx="1319400" cy="439920"/>
              <a:chOff x="4635360" y="2786040"/>
              <a:chExt cx="1319400" cy="439920"/>
            </a:xfrm>
          </p:grpSpPr>
          <p:sp>
            <p:nvSpPr>
              <p:cNvPr id="287" name="Freeform 78"/>
              <p:cNvSpPr/>
              <p:nvPr/>
            </p:nvSpPr>
            <p:spPr>
              <a:xfrm>
                <a:off x="4635360" y="2786040"/>
                <a:ext cx="300240" cy="433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88" name="Freeform 79"/>
              <p:cNvSpPr/>
              <p:nvPr/>
            </p:nvSpPr>
            <p:spPr>
              <a:xfrm>
                <a:off x="4992840" y="2786040"/>
                <a:ext cx="299880" cy="433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89" name="Freeform 80"/>
              <p:cNvSpPr/>
              <p:nvPr/>
            </p:nvSpPr>
            <p:spPr>
              <a:xfrm>
                <a:off x="5348160" y="2786040"/>
                <a:ext cx="300240" cy="433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90" name="Freeform 81"/>
              <p:cNvSpPr/>
              <p:nvPr/>
            </p:nvSpPr>
            <p:spPr>
              <a:xfrm>
                <a:off x="5681520" y="2898720"/>
                <a:ext cx="273240" cy="3272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91" name="Freeform 82"/>
              <p:cNvSpPr/>
              <p:nvPr/>
            </p:nvSpPr>
            <p:spPr>
              <a:xfrm>
                <a:off x="4635360" y="2786040"/>
                <a:ext cx="300240" cy="43344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92" name="Freeform 83"/>
              <p:cNvSpPr/>
              <p:nvPr/>
            </p:nvSpPr>
            <p:spPr>
              <a:xfrm>
                <a:off x="4992840" y="2786040"/>
                <a:ext cx="299880" cy="43344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93" name="Freeform 84"/>
              <p:cNvSpPr/>
              <p:nvPr/>
            </p:nvSpPr>
            <p:spPr>
              <a:xfrm>
                <a:off x="5348160" y="2786040"/>
                <a:ext cx="300240" cy="43344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94" name="Freeform 85"/>
              <p:cNvSpPr/>
              <p:nvPr/>
            </p:nvSpPr>
            <p:spPr>
              <a:xfrm>
                <a:off x="5681520" y="2898720"/>
                <a:ext cx="273240" cy="32724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89"/>
            <p:cNvGrpSpPr/>
            <p:nvPr/>
          </p:nvGrpSpPr>
          <p:grpSpPr>
            <a:xfrm>
              <a:off x="6678720" y="2589120"/>
              <a:ext cx="2109600" cy="790560"/>
              <a:chOff x="6678720" y="2589120"/>
              <a:chExt cx="2109600" cy="790560"/>
            </a:xfrm>
          </p:grpSpPr>
          <p:sp>
            <p:nvSpPr>
              <p:cNvPr id="296" name="Freeform 87"/>
              <p:cNvSpPr/>
              <p:nvPr/>
            </p:nvSpPr>
            <p:spPr>
              <a:xfrm>
                <a:off x="6678720" y="2589120"/>
                <a:ext cx="2109600" cy="7905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97" name="Freeform 88"/>
              <p:cNvSpPr/>
              <p:nvPr/>
            </p:nvSpPr>
            <p:spPr>
              <a:xfrm>
                <a:off x="6678720" y="2589120"/>
                <a:ext cx="2109600" cy="7905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116"/>
            <p:cNvGrpSpPr/>
            <p:nvPr/>
          </p:nvGrpSpPr>
          <p:grpSpPr>
            <a:xfrm>
              <a:off x="7075440" y="2852640"/>
              <a:ext cx="1384200" cy="330120"/>
              <a:chOff x="7075440" y="2852640"/>
              <a:chExt cx="1384200" cy="330120"/>
            </a:xfrm>
          </p:grpSpPr>
          <p:sp>
            <p:nvSpPr>
              <p:cNvPr id="299" name="Freeform 90"/>
              <p:cNvSpPr/>
              <p:nvPr/>
            </p:nvSpPr>
            <p:spPr>
              <a:xfrm>
                <a:off x="7075440" y="2852640"/>
                <a:ext cx="125640" cy="324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00" name="Freeform 91"/>
              <p:cNvSpPr/>
              <p:nvPr/>
            </p:nvSpPr>
            <p:spPr>
              <a:xfrm>
                <a:off x="7221600" y="2936880"/>
                <a:ext cx="84240" cy="239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01" name="Freeform 92"/>
              <p:cNvSpPr/>
              <p:nvPr/>
            </p:nvSpPr>
            <p:spPr>
              <a:xfrm>
                <a:off x="7313760" y="2852640"/>
                <a:ext cx="41040" cy="324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02" name="Freeform 93"/>
              <p:cNvSpPr/>
              <p:nvPr/>
            </p:nvSpPr>
            <p:spPr>
              <a:xfrm>
                <a:off x="7369200" y="2941560"/>
                <a:ext cx="125280" cy="235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03" name="Freeform 94"/>
              <p:cNvSpPr/>
              <p:nvPr/>
            </p:nvSpPr>
            <p:spPr>
              <a:xfrm>
                <a:off x="7502400" y="2936880"/>
                <a:ext cx="122400" cy="245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04" name="Freeform 95"/>
              <p:cNvSpPr/>
              <p:nvPr/>
            </p:nvSpPr>
            <p:spPr>
              <a:xfrm>
                <a:off x="7634160" y="2852640"/>
                <a:ext cx="79560" cy="330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05" name="Freeform 96"/>
              <p:cNvSpPr/>
              <p:nvPr/>
            </p:nvSpPr>
            <p:spPr>
              <a:xfrm>
                <a:off x="7734240" y="2852640"/>
                <a:ext cx="39600" cy="324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06" name="Freeform 97"/>
              <p:cNvSpPr/>
              <p:nvPr/>
            </p:nvSpPr>
            <p:spPr>
              <a:xfrm>
                <a:off x="7791480" y="2941560"/>
                <a:ext cx="108000" cy="235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07" name="Freeform 98"/>
              <p:cNvSpPr/>
              <p:nvPr/>
            </p:nvSpPr>
            <p:spPr>
              <a:xfrm>
                <a:off x="7910640" y="2936880"/>
                <a:ext cx="122040" cy="245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08" name="Freeform 99"/>
              <p:cNvSpPr/>
              <p:nvPr/>
            </p:nvSpPr>
            <p:spPr>
              <a:xfrm>
                <a:off x="8042400" y="2852640"/>
                <a:ext cx="81000" cy="330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09" name="Freeform 100"/>
              <p:cNvSpPr/>
              <p:nvPr/>
            </p:nvSpPr>
            <p:spPr>
              <a:xfrm>
                <a:off x="8142120" y="2852640"/>
                <a:ext cx="41400" cy="324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10" name="Freeform 101"/>
              <p:cNvSpPr/>
              <p:nvPr/>
            </p:nvSpPr>
            <p:spPr>
              <a:xfrm>
                <a:off x="8204040" y="2936880"/>
                <a:ext cx="122400" cy="245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11" name="Freeform 102"/>
              <p:cNvSpPr/>
              <p:nvPr/>
            </p:nvSpPr>
            <p:spPr>
              <a:xfrm>
                <a:off x="8346960" y="2936880"/>
                <a:ext cx="112680" cy="239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12" name="Freeform 103"/>
              <p:cNvSpPr/>
              <p:nvPr/>
            </p:nvSpPr>
            <p:spPr>
              <a:xfrm>
                <a:off x="7075440" y="2852640"/>
                <a:ext cx="125640" cy="32400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13" name="Freeform 104"/>
              <p:cNvSpPr/>
              <p:nvPr/>
            </p:nvSpPr>
            <p:spPr>
              <a:xfrm>
                <a:off x="7221600" y="2936880"/>
                <a:ext cx="84240" cy="2397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14" name="Freeform 105"/>
              <p:cNvSpPr/>
              <p:nvPr/>
            </p:nvSpPr>
            <p:spPr>
              <a:xfrm>
                <a:off x="7313760" y="2852640"/>
                <a:ext cx="41040" cy="32400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15" name="Freeform 106"/>
              <p:cNvSpPr/>
              <p:nvPr/>
            </p:nvSpPr>
            <p:spPr>
              <a:xfrm>
                <a:off x="7369200" y="2941560"/>
                <a:ext cx="125280" cy="235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16" name="Freeform 107"/>
              <p:cNvSpPr/>
              <p:nvPr/>
            </p:nvSpPr>
            <p:spPr>
              <a:xfrm>
                <a:off x="7502400" y="2936880"/>
                <a:ext cx="122400" cy="2458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17" name="Freeform 108"/>
              <p:cNvSpPr/>
              <p:nvPr/>
            </p:nvSpPr>
            <p:spPr>
              <a:xfrm>
                <a:off x="7634160" y="2852640"/>
                <a:ext cx="79560" cy="3301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18" name="Freeform 109"/>
              <p:cNvSpPr/>
              <p:nvPr/>
            </p:nvSpPr>
            <p:spPr>
              <a:xfrm>
                <a:off x="7734240" y="2852640"/>
                <a:ext cx="39600" cy="32400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19" name="Freeform 110"/>
              <p:cNvSpPr/>
              <p:nvPr/>
            </p:nvSpPr>
            <p:spPr>
              <a:xfrm>
                <a:off x="7791480" y="2941560"/>
                <a:ext cx="108000" cy="235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20" name="Freeform 111"/>
              <p:cNvSpPr/>
              <p:nvPr/>
            </p:nvSpPr>
            <p:spPr>
              <a:xfrm>
                <a:off x="7910640" y="2936880"/>
                <a:ext cx="122040" cy="2458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21" name="Freeform 112"/>
              <p:cNvSpPr/>
              <p:nvPr/>
            </p:nvSpPr>
            <p:spPr>
              <a:xfrm>
                <a:off x="8042400" y="2852640"/>
                <a:ext cx="81000" cy="3301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22" name="Freeform 113"/>
              <p:cNvSpPr/>
              <p:nvPr/>
            </p:nvSpPr>
            <p:spPr>
              <a:xfrm>
                <a:off x="8142120" y="2852640"/>
                <a:ext cx="41400" cy="32400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23" name="Freeform 114"/>
              <p:cNvSpPr/>
              <p:nvPr/>
            </p:nvSpPr>
            <p:spPr>
              <a:xfrm>
                <a:off x="8204040" y="2936880"/>
                <a:ext cx="122400" cy="2458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24" name="Freeform 115"/>
              <p:cNvSpPr/>
              <p:nvPr/>
            </p:nvSpPr>
            <p:spPr>
              <a:xfrm>
                <a:off x="8346960" y="2936880"/>
                <a:ext cx="112680" cy="2397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sp>
          <p:nvSpPr>
            <p:cNvPr id="325" name="Freeform 117"/>
            <p:cNvSpPr/>
            <p:nvPr/>
          </p:nvSpPr>
          <p:spPr>
            <a:xfrm>
              <a:off x="4295880" y="2138400"/>
              <a:ext cx="4295520" cy="187200"/>
            </a:xfrm>
            <a:prstGeom prst="pie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26" name="Rectangle 118"/>
            <p:cNvSpPr/>
            <p:nvPr/>
          </p:nvSpPr>
          <p:spPr>
            <a:xfrm>
              <a:off x="4827960" y="1627200"/>
              <a:ext cx="362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ivate Sector participation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27" name="Line 119"/>
            <p:cNvSpPr/>
            <p:nvPr/>
          </p:nvSpPr>
          <p:spPr>
            <a:xfrm flipH="1">
              <a:off x="2690640" y="3511440"/>
              <a:ext cx="2471760" cy="72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28" name="Rectangle 120"/>
            <p:cNvSpPr/>
            <p:nvPr/>
          </p:nvSpPr>
          <p:spPr>
            <a:xfrm>
              <a:off x="1668600" y="4237200"/>
              <a:ext cx="1846080" cy="91908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29" name="Rectangle 121"/>
            <p:cNvSpPr/>
            <p:nvPr/>
          </p:nvSpPr>
          <p:spPr>
            <a:xfrm>
              <a:off x="1819440" y="4297320"/>
              <a:ext cx="174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ice contracts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30" name="Rectangle 122"/>
            <p:cNvSpPr/>
            <p:nvPr/>
          </p:nvSpPr>
          <p:spPr>
            <a:xfrm>
              <a:off x="1878120" y="4646520"/>
              <a:ext cx="162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Pub $, Prv Op of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31" name="Rectangle 123"/>
            <p:cNvSpPr/>
            <p:nvPr/>
          </p:nvSpPr>
          <p:spPr>
            <a:xfrm>
              <a:off x="2000160" y="4883040"/>
              <a:ext cx="1311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screte tasks)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32" name="Line 124"/>
            <p:cNvSpPr/>
            <p:nvPr/>
          </p:nvSpPr>
          <p:spPr>
            <a:xfrm flipH="1">
              <a:off x="4503600" y="3511440"/>
              <a:ext cx="658800" cy="72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33" name="Rectangle 125"/>
            <p:cNvSpPr/>
            <p:nvPr/>
          </p:nvSpPr>
          <p:spPr>
            <a:xfrm>
              <a:off x="3646440" y="4237200"/>
              <a:ext cx="1714680" cy="91908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34" name="Rectangle 126"/>
            <p:cNvSpPr/>
            <p:nvPr/>
          </p:nvSpPr>
          <p:spPr>
            <a:xfrm>
              <a:off x="3990600" y="4297320"/>
              <a:ext cx="121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on &amp;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35" name="Rectangle 127"/>
            <p:cNvSpPr/>
            <p:nvPr/>
          </p:nvSpPr>
          <p:spPr>
            <a:xfrm>
              <a:off x="3956400" y="4533840"/>
              <a:ext cx="128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intenance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36" name="Rectangle 128"/>
            <p:cNvSpPr/>
            <p:nvPr/>
          </p:nvSpPr>
          <p:spPr>
            <a:xfrm>
              <a:off x="3885480" y="4883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37" name="Rectangle 129"/>
            <p:cNvSpPr/>
            <p:nvPr/>
          </p:nvSpPr>
          <p:spPr>
            <a:xfrm>
              <a:off x="3950640" y="4883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38" name="Rectangle 130"/>
            <p:cNvSpPr/>
            <p:nvPr/>
          </p:nvSpPr>
          <p:spPr>
            <a:xfrm>
              <a:off x="4017240" y="4883040"/>
              <a:ext cx="109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sourcing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39" name="Rectangle 131"/>
            <p:cNvSpPr/>
            <p:nvPr/>
          </p:nvSpPr>
          <p:spPr>
            <a:xfrm>
              <a:off x="5081040" y="4883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40" name="Rectangle 132"/>
            <p:cNvSpPr/>
            <p:nvPr/>
          </p:nvSpPr>
          <p:spPr>
            <a:xfrm>
              <a:off x="5147640" y="4883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41" name="Line 133"/>
            <p:cNvSpPr/>
            <p:nvPr/>
          </p:nvSpPr>
          <p:spPr>
            <a:xfrm>
              <a:off x="5162400" y="3511440"/>
              <a:ext cx="1187640" cy="72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42" name="Rectangle 134"/>
            <p:cNvSpPr/>
            <p:nvPr/>
          </p:nvSpPr>
          <p:spPr>
            <a:xfrm>
              <a:off x="5425920" y="4237200"/>
              <a:ext cx="1846440" cy="91908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43" name="Rectangle 135"/>
            <p:cNvSpPr/>
            <p:nvPr/>
          </p:nvSpPr>
          <p:spPr>
            <a:xfrm>
              <a:off x="5743080" y="4297320"/>
              <a:ext cx="140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ign, Build,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44" name="Rectangle 136"/>
            <p:cNvSpPr/>
            <p:nvPr/>
          </p:nvSpPr>
          <p:spPr>
            <a:xfrm>
              <a:off x="6027840" y="4533840"/>
              <a:ext cx="82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e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45" name="Line 138"/>
            <p:cNvSpPr/>
            <p:nvPr/>
          </p:nvSpPr>
          <p:spPr>
            <a:xfrm>
              <a:off x="5162400" y="3511440"/>
              <a:ext cx="2967120" cy="72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46" name="Rectangle 139"/>
            <p:cNvSpPr/>
            <p:nvPr/>
          </p:nvSpPr>
          <p:spPr>
            <a:xfrm>
              <a:off x="7207200" y="4237200"/>
              <a:ext cx="1846440" cy="91908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47" name="Rectangle 140"/>
            <p:cNvSpPr/>
            <p:nvPr/>
          </p:nvSpPr>
          <p:spPr>
            <a:xfrm>
              <a:off x="7480800" y="4297320"/>
              <a:ext cx="149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, Operate,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48" name="Rectangle 141"/>
            <p:cNvSpPr/>
            <p:nvPr/>
          </p:nvSpPr>
          <p:spPr>
            <a:xfrm>
              <a:off x="7786080" y="45338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fer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49" name="Rectangle 142"/>
            <p:cNvSpPr/>
            <p:nvPr/>
          </p:nvSpPr>
          <p:spPr>
            <a:xfrm>
              <a:off x="7409160" y="4883040"/>
              <a:ext cx="147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Prv $ and BOT)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50" name="Freeform 143"/>
            <p:cNvSpPr/>
            <p:nvPr/>
          </p:nvSpPr>
          <p:spPr>
            <a:xfrm>
              <a:off x="2724120" y="5408640"/>
              <a:ext cx="4943520" cy="165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51" name="Rectangle 144"/>
            <p:cNvSpPr/>
            <p:nvPr/>
          </p:nvSpPr>
          <p:spPr>
            <a:xfrm>
              <a:off x="3446280" y="5584680"/>
              <a:ext cx="355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asing risk transfer to private sector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grpSp>
          <p:nvGrpSpPr>
            <p:cNvPr id="352" name="Group 147"/>
            <p:cNvGrpSpPr/>
            <p:nvPr/>
          </p:nvGrpSpPr>
          <p:grpSpPr>
            <a:xfrm>
              <a:off x="1735200" y="2589120"/>
              <a:ext cx="2109600" cy="790560"/>
              <a:chOff x="1735200" y="2589120"/>
              <a:chExt cx="2109600" cy="790560"/>
            </a:xfrm>
          </p:grpSpPr>
          <p:sp>
            <p:nvSpPr>
              <p:cNvPr id="353" name="Freeform 145"/>
              <p:cNvSpPr/>
              <p:nvPr/>
            </p:nvSpPr>
            <p:spPr>
              <a:xfrm>
                <a:off x="1735200" y="2589120"/>
                <a:ext cx="2109600" cy="7905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54" name="Freeform 146"/>
              <p:cNvSpPr/>
              <p:nvPr/>
            </p:nvSpPr>
            <p:spPr>
              <a:xfrm>
                <a:off x="1735200" y="2589120"/>
                <a:ext cx="2109600" cy="7905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192"/>
            <p:cNvGrpSpPr/>
            <p:nvPr/>
          </p:nvGrpSpPr>
          <p:grpSpPr>
            <a:xfrm>
              <a:off x="2130480" y="2720880"/>
              <a:ext cx="1384200" cy="505080"/>
              <a:chOff x="2130480" y="2720880"/>
              <a:chExt cx="1384200" cy="505080"/>
            </a:xfrm>
          </p:grpSpPr>
          <p:sp>
            <p:nvSpPr>
              <p:cNvPr id="356" name="Freeform 148"/>
              <p:cNvSpPr/>
              <p:nvPr/>
            </p:nvSpPr>
            <p:spPr>
              <a:xfrm>
                <a:off x="2244600" y="2720880"/>
                <a:ext cx="133560" cy="169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57" name="Freeform 149"/>
              <p:cNvSpPr/>
              <p:nvPr/>
            </p:nvSpPr>
            <p:spPr>
              <a:xfrm>
                <a:off x="2387520" y="2765520"/>
                <a:ext cx="81000" cy="125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58" name="Freeform 150"/>
              <p:cNvSpPr/>
              <p:nvPr/>
            </p:nvSpPr>
            <p:spPr>
              <a:xfrm>
                <a:off x="2473200" y="2765520"/>
                <a:ext cx="1191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59" name="Freeform 151"/>
              <p:cNvSpPr/>
              <p:nvPr/>
            </p:nvSpPr>
            <p:spPr>
              <a:xfrm>
                <a:off x="2604960" y="2720880"/>
                <a:ext cx="114480" cy="171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60" name="Freeform 152"/>
              <p:cNvSpPr/>
              <p:nvPr/>
            </p:nvSpPr>
            <p:spPr>
              <a:xfrm>
                <a:off x="2744640" y="2720880"/>
                <a:ext cx="38160" cy="169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61" name="Freeform 153"/>
              <p:cNvSpPr/>
              <p:nvPr/>
            </p:nvSpPr>
            <p:spPr>
              <a:xfrm>
                <a:off x="2801880" y="2720880"/>
                <a:ext cx="77760" cy="171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62" name="Freeform 154"/>
              <p:cNvSpPr/>
              <p:nvPr/>
            </p:nvSpPr>
            <p:spPr>
              <a:xfrm>
                <a:off x="2897280" y="2720880"/>
                <a:ext cx="39600" cy="169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63" name="Freeform 155"/>
              <p:cNvSpPr/>
              <p:nvPr/>
            </p:nvSpPr>
            <p:spPr>
              <a:xfrm>
                <a:off x="2957400" y="2765520"/>
                <a:ext cx="11772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64" name="Freeform 156"/>
              <p:cNvSpPr/>
              <p:nvPr/>
            </p:nvSpPr>
            <p:spPr>
              <a:xfrm>
                <a:off x="3094200" y="2765520"/>
                <a:ext cx="109440" cy="125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65" name="Freeform 157"/>
              <p:cNvSpPr/>
              <p:nvPr/>
            </p:nvSpPr>
            <p:spPr>
              <a:xfrm>
                <a:off x="3222720" y="2765520"/>
                <a:ext cx="1173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66" name="Freeform 158"/>
              <p:cNvSpPr/>
              <p:nvPr/>
            </p:nvSpPr>
            <p:spPr>
              <a:xfrm>
                <a:off x="3360600" y="2720880"/>
                <a:ext cx="39960" cy="169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67" name="Freeform 159"/>
              <p:cNvSpPr/>
              <p:nvPr/>
            </p:nvSpPr>
            <p:spPr>
              <a:xfrm>
                <a:off x="2130480" y="3054240"/>
                <a:ext cx="120600" cy="169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68" name="Freeform 160"/>
              <p:cNvSpPr/>
              <p:nvPr/>
            </p:nvSpPr>
            <p:spPr>
              <a:xfrm>
                <a:off x="2271600" y="3098880"/>
                <a:ext cx="81000" cy="125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69" name="Freeform 161"/>
              <p:cNvSpPr/>
              <p:nvPr/>
            </p:nvSpPr>
            <p:spPr>
              <a:xfrm>
                <a:off x="2357280" y="3098880"/>
                <a:ext cx="11772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70" name="Freeform 162"/>
              <p:cNvSpPr/>
              <p:nvPr/>
            </p:nvSpPr>
            <p:spPr>
              <a:xfrm>
                <a:off x="2489040" y="3098880"/>
                <a:ext cx="1191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71" name="Freeform 163"/>
              <p:cNvSpPr/>
              <p:nvPr/>
            </p:nvSpPr>
            <p:spPr>
              <a:xfrm>
                <a:off x="2625840" y="3100320"/>
                <a:ext cx="109440" cy="125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72" name="Freeform 164"/>
              <p:cNvSpPr/>
              <p:nvPr/>
            </p:nvSpPr>
            <p:spPr>
              <a:xfrm>
                <a:off x="2759040" y="3098880"/>
                <a:ext cx="81000" cy="125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73" name="Freeform 165"/>
              <p:cNvSpPr/>
              <p:nvPr/>
            </p:nvSpPr>
            <p:spPr>
              <a:xfrm>
                <a:off x="2844720" y="3098880"/>
                <a:ext cx="1191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74" name="Freeform 166"/>
              <p:cNvSpPr/>
              <p:nvPr/>
            </p:nvSpPr>
            <p:spPr>
              <a:xfrm>
                <a:off x="2981160" y="3098880"/>
                <a:ext cx="174960" cy="125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75" name="Freeform 167"/>
              <p:cNvSpPr/>
              <p:nvPr/>
            </p:nvSpPr>
            <p:spPr>
              <a:xfrm>
                <a:off x="3174840" y="3098880"/>
                <a:ext cx="1191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76" name="Freeform 168"/>
              <p:cNvSpPr/>
              <p:nvPr/>
            </p:nvSpPr>
            <p:spPr>
              <a:xfrm>
                <a:off x="3311640" y="3098880"/>
                <a:ext cx="109440" cy="125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77" name="Freeform 169"/>
              <p:cNvSpPr/>
              <p:nvPr/>
            </p:nvSpPr>
            <p:spPr>
              <a:xfrm>
                <a:off x="3436920" y="3054240"/>
                <a:ext cx="77760" cy="171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78" name="Freeform 170"/>
              <p:cNvSpPr/>
              <p:nvPr/>
            </p:nvSpPr>
            <p:spPr>
              <a:xfrm>
                <a:off x="2244600" y="2720880"/>
                <a:ext cx="133560" cy="1699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79" name="Freeform 171"/>
              <p:cNvSpPr/>
              <p:nvPr/>
            </p:nvSpPr>
            <p:spPr>
              <a:xfrm>
                <a:off x="2387520" y="2765520"/>
                <a:ext cx="81000" cy="1252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80" name="Freeform 172"/>
              <p:cNvSpPr/>
              <p:nvPr/>
            </p:nvSpPr>
            <p:spPr>
              <a:xfrm>
                <a:off x="2473200" y="2765520"/>
                <a:ext cx="11916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81" name="Freeform 173"/>
              <p:cNvSpPr/>
              <p:nvPr/>
            </p:nvSpPr>
            <p:spPr>
              <a:xfrm>
                <a:off x="2604960" y="2720880"/>
                <a:ext cx="114480" cy="1717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82" name="Freeform 174"/>
              <p:cNvSpPr/>
              <p:nvPr/>
            </p:nvSpPr>
            <p:spPr>
              <a:xfrm>
                <a:off x="2744640" y="2720880"/>
                <a:ext cx="38160" cy="1699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83" name="Freeform 175"/>
              <p:cNvSpPr/>
              <p:nvPr/>
            </p:nvSpPr>
            <p:spPr>
              <a:xfrm>
                <a:off x="2801880" y="2720880"/>
                <a:ext cx="77760" cy="1717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84" name="Freeform 176"/>
              <p:cNvSpPr/>
              <p:nvPr/>
            </p:nvSpPr>
            <p:spPr>
              <a:xfrm>
                <a:off x="2897280" y="2720880"/>
                <a:ext cx="39600" cy="1699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85" name="Freeform 177"/>
              <p:cNvSpPr/>
              <p:nvPr/>
            </p:nvSpPr>
            <p:spPr>
              <a:xfrm>
                <a:off x="2957400" y="2765520"/>
                <a:ext cx="11772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86" name="Freeform 178"/>
              <p:cNvSpPr/>
              <p:nvPr/>
            </p:nvSpPr>
            <p:spPr>
              <a:xfrm>
                <a:off x="3094200" y="2765520"/>
                <a:ext cx="109440" cy="1252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87" name="Freeform 179"/>
              <p:cNvSpPr/>
              <p:nvPr/>
            </p:nvSpPr>
            <p:spPr>
              <a:xfrm>
                <a:off x="3222720" y="2765520"/>
                <a:ext cx="11736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88" name="Freeform 180"/>
              <p:cNvSpPr/>
              <p:nvPr/>
            </p:nvSpPr>
            <p:spPr>
              <a:xfrm>
                <a:off x="3360600" y="2720880"/>
                <a:ext cx="39960" cy="1699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89" name="Freeform 181"/>
              <p:cNvSpPr/>
              <p:nvPr/>
            </p:nvSpPr>
            <p:spPr>
              <a:xfrm>
                <a:off x="2130480" y="3054240"/>
                <a:ext cx="120600" cy="1699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90" name="Freeform 182"/>
              <p:cNvSpPr/>
              <p:nvPr/>
            </p:nvSpPr>
            <p:spPr>
              <a:xfrm>
                <a:off x="2271600" y="3098880"/>
                <a:ext cx="81000" cy="1252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91" name="Freeform 183"/>
              <p:cNvSpPr/>
              <p:nvPr/>
            </p:nvSpPr>
            <p:spPr>
              <a:xfrm>
                <a:off x="2357280" y="3098880"/>
                <a:ext cx="11772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92" name="Freeform 184"/>
              <p:cNvSpPr/>
              <p:nvPr/>
            </p:nvSpPr>
            <p:spPr>
              <a:xfrm>
                <a:off x="2489040" y="3098880"/>
                <a:ext cx="11916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93" name="Freeform 185"/>
              <p:cNvSpPr/>
              <p:nvPr/>
            </p:nvSpPr>
            <p:spPr>
              <a:xfrm>
                <a:off x="2625840" y="3100320"/>
                <a:ext cx="109440" cy="12564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94" name="Freeform 186"/>
              <p:cNvSpPr/>
              <p:nvPr/>
            </p:nvSpPr>
            <p:spPr>
              <a:xfrm>
                <a:off x="2759040" y="3098880"/>
                <a:ext cx="81000" cy="1252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95" name="Freeform 187"/>
              <p:cNvSpPr/>
              <p:nvPr/>
            </p:nvSpPr>
            <p:spPr>
              <a:xfrm>
                <a:off x="2844720" y="3098880"/>
                <a:ext cx="11916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96" name="Freeform 188"/>
              <p:cNvSpPr/>
              <p:nvPr/>
            </p:nvSpPr>
            <p:spPr>
              <a:xfrm>
                <a:off x="2981160" y="3098880"/>
                <a:ext cx="174960" cy="1252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97" name="Freeform 189"/>
              <p:cNvSpPr/>
              <p:nvPr/>
            </p:nvSpPr>
            <p:spPr>
              <a:xfrm>
                <a:off x="3174840" y="3098880"/>
                <a:ext cx="119160" cy="127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98" name="Freeform 190"/>
              <p:cNvSpPr/>
              <p:nvPr/>
            </p:nvSpPr>
            <p:spPr>
              <a:xfrm>
                <a:off x="3311640" y="3098880"/>
                <a:ext cx="109440" cy="1252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399" name="Freeform 191"/>
              <p:cNvSpPr/>
              <p:nvPr/>
            </p:nvSpPr>
            <p:spPr>
              <a:xfrm>
                <a:off x="3436920" y="3054240"/>
                <a:ext cx="77760" cy="1717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195"/>
            <p:cNvGrpSpPr/>
            <p:nvPr/>
          </p:nvGrpSpPr>
          <p:grpSpPr>
            <a:xfrm>
              <a:off x="4240080" y="2589120"/>
              <a:ext cx="2109960" cy="790560"/>
              <a:chOff x="4240080" y="2589120"/>
              <a:chExt cx="2109960" cy="790560"/>
            </a:xfrm>
          </p:grpSpPr>
          <p:sp>
            <p:nvSpPr>
              <p:cNvPr id="401" name="Freeform 193"/>
              <p:cNvSpPr/>
              <p:nvPr/>
            </p:nvSpPr>
            <p:spPr>
              <a:xfrm>
                <a:off x="4240080" y="2589120"/>
                <a:ext cx="2109960" cy="7905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02" name="Freeform 194"/>
              <p:cNvSpPr/>
              <p:nvPr/>
            </p:nvSpPr>
            <p:spPr>
              <a:xfrm>
                <a:off x="4240080" y="2589120"/>
                <a:ext cx="2109960" cy="7905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204"/>
            <p:cNvGrpSpPr/>
            <p:nvPr/>
          </p:nvGrpSpPr>
          <p:grpSpPr>
            <a:xfrm>
              <a:off x="4635360" y="2786040"/>
              <a:ext cx="1319400" cy="439920"/>
              <a:chOff x="4635360" y="2786040"/>
              <a:chExt cx="1319400" cy="439920"/>
            </a:xfrm>
          </p:grpSpPr>
          <p:sp>
            <p:nvSpPr>
              <p:cNvPr id="404" name="Freeform 196"/>
              <p:cNvSpPr/>
              <p:nvPr/>
            </p:nvSpPr>
            <p:spPr>
              <a:xfrm>
                <a:off x="4635360" y="2786040"/>
                <a:ext cx="300240" cy="433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05" name="Freeform 197"/>
              <p:cNvSpPr/>
              <p:nvPr/>
            </p:nvSpPr>
            <p:spPr>
              <a:xfrm>
                <a:off x="4992840" y="2786040"/>
                <a:ext cx="299880" cy="433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06" name="Freeform 198"/>
              <p:cNvSpPr/>
              <p:nvPr/>
            </p:nvSpPr>
            <p:spPr>
              <a:xfrm>
                <a:off x="5348160" y="2786040"/>
                <a:ext cx="300240" cy="433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07" name="Freeform 199"/>
              <p:cNvSpPr/>
              <p:nvPr/>
            </p:nvSpPr>
            <p:spPr>
              <a:xfrm>
                <a:off x="5681520" y="2898720"/>
                <a:ext cx="273240" cy="3272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08" name="Freeform 200"/>
              <p:cNvSpPr/>
              <p:nvPr/>
            </p:nvSpPr>
            <p:spPr>
              <a:xfrm>
                <a:off x="4635360" y="2786040"/>
                <a:ext cx="300240" cy="43344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09" name="Freeform 201"/>
              <p:cNvSpPr/>
              <p:nvPr/>
            </p:nvSpPr>
            <p:spPr>
              <a:xfrm>
                <a:off x="4992840" y="2786040"/>
                <a:ext cx="299880" cy="43344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10" name="Freeform 202"/>
              <p:cNvSpPr/>
              <p:nvPr/>
            </p:nvSpPr>
            <p:spPr>
              <a:xfrm>
                <a:off x="5348160" y="2786040"/>
                <a:ext cx="300240" cy="43344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11" name="Freeform 203"/>
              <p:cNvSpPr/>
              <p:nvPr/>
            </p:nvSpPr>
            <p:spPr>
              <a:xfrm>
                <a:off x="5681520" y="2898720"/>
                <a:ext cx="273240" cy="32724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207"/>
            <p:cNvGrpSpPr/>
            <p:nvPr/>
          </p:nvGrpSpPr>
          <p:grpSpPr>
            <a:xfrm>
              <a:off x="6678720" y="2589120"/>
              <a:ext cx="2109600" cy="790560"/>
              <a:chOff x="6678720" y="2589120"/>
              <a:chExt cx="2109600" cy="790560"/>
            </a:xfrm>
          </p:grpSpPr>
          <p:sp>
            <p:nvSpPr>
              <p:cNvPr id="413" name="Freeform 205"/>
              <p:cNvSpPr/>
              <p:nvPr/>
            </p:nvSpPr>
            <p:spPr>
              <a:xfrm>
                <a:off x="6678720" y="2589120"/>
                <a:ext cx="2109600" cy="7905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14" name="Freeform 206"/>
              <p:cNvSpPr/>
              <p:nvPr/>
            </p:nvSpPr>
            <p:spPr>
              <a:xfrm>
                <a:off x="6678720" y="2589120"/>
                <a:ext cx="2109600" cy="7905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234"/>
            <p:cNvGrpSpPr/>
            <p:nvPr/>
          </p:nvGrpSpPr>
          <p:grpSpPr>
            <a:xfrm>
              <a:off x="7075440" y="2852640"/>
              <a:ext cx="1384200" cy="330120"/>
              <a:chOff x="7075440" y="2852640"/>
              <a:chExt cx="1384200" cy="330120"/>
            </a:xfrm>
          </p:grpSpPr>
          <p:sp>
            <p:nvSpPr>
              <p:cNvPr id="416" name="Freeform 208"/>
              <p:cNvSpPr/>
              <p:nvPr/>
            </p:nvSpPr>
            <p:spPr>
              <a:xfrm>
                <a:off x="7075440" y="2852640"/>
                <a:ext cx="125640" cy="324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17" name="Freeform 209"/>
              <p:cNvSpPr/>
              <p:nvPr/>
            </p:nvSpPr>
            <p:spPr>
              <a:xfrm>
                <a:off x="7221600" y="2936880"/>
                <a:ext cx="84240" cy="239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18" name="Freeform 210"/>
              <p:cNvSpPr/>
              <p:nvPr/>
            </p:nvSpPr>
            <p:spPr>
              <a:xfrm>
                <a:off x="7313760" y="2852640"/>
                <a:ext cx="41040" cy="324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19" name="Freeform 211"/>
              <p:cNvSpPr/>
              <p:nvPr/>
            </p:nvSpPr>
            <p:spPr>
              <a:xfrm>
                <a:off x="7369200" y="2941560"/>
                <a:ext cx="125280" cy="235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20" name="Freeform 212"/>
              <p:cNvSpPr/>
              <p:nvPr/>
            </p:nvSpPr>
            <p:spPr>
              <a:xfrm>
                <a:off x="7502400" y="2936880"/>
                <a:ext cx="122400" cy="245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21" name="Freeform 213"/>
              <p:cNvSpPr/>
              <p:nvPr/>
            </p:nvSpPr>
            <p:spPr>
              <a:xfrm>
                <a:off x="7634160" y="2852640"/>
                <a:ext cx="79560" cy="330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22" name="Freeform 214"/>
              <p:cNvSpPr/>
              <p:nvPr/>
            </p:nvSpPr>
            <p:spPr>
              <a:xfrm>
                <a:off x="7734240" y="2852640"/>
                <a:ext cx="39600" cy="324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23" name="Freeform 215"/>
              <p:cNvSpPr/>
              <p:nvPr/>
            </p:nvSpPr>
            <p:spPr>
              <a:xfrm>
                <a:off x="7791480" y="2941560"/>
                <a:ext cx="108000" cy="235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24" name="Freeform 216"/>
              <p:cNvSpPr/>
              <p:nvPr/>
            </p:nvSpPr>
            <p:spPr>
              <a:xfrm>
                <a:off x="7910640" y="2936880"/>
                <a:ext cx="122040" cy="245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25" name="Freeform 217"/>
              <p:cNvSpPr/>
              <p:nvPr/>
            </p:nvSpPr>
            <p:spPr>
              <a:xfrm>
                <a:off x="8042400" y="2852640"/>
                <a:ext cx="81000" cy="330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26" name="Freeform 218"/>
              <p:cNvSpPr/>
              <p:nvPr/>
            </p:nvSpPr>
            <p:spPr>
              <a:xfrm>
                <a:off x="8142120" y="2852640"/>
                <a:ext cx="41400" cy="324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27" name="Freeform 219"/>
              <p:cNvSpPr/>
              <p:nvPr/>
            </p:nvSpPr>
            <p:spPr>
              <a:xfrm>
                <a:off x="8204040" y="2936880"/>
                <a:ext cx="122400" cy="245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28" name="Freeform 220"/>
              <p:cNvSpPr/>
              <p:nvPr/>
            </p:nvSpPr>
            <p:spPr>
              <a:xfrm>
                <a:off x="8346960" y="2936880"/>
                <a:ext cx="112680" cy="239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29" name="Freeform 221"/>
              <p:cNvSpPr/>
              <p:nvPr/>
            </p:nvSpPr>
            <p:spPr>
              <a:xfrm>
                <a:off x="7075440" y="2852640"/>
                <a:ext cx="125640" cy="32400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30" name="Freeform 222"/>
              <p:cNvSpPr/>
              <p:nvPr/>
            </p:nvSpPr>
            <p:spPr>
              <a:xfrm>
                <a:off x="7221600" y="2936880"/>
                <a:ext cx="84240" cy="2397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31" name="Freeform 223"/>
              <p:cNvSpPr/>
              <p:nvPr/>
            </p:nvSpPr>
            <p:spPr>
              <a:xfrm>
                <a:off x="7313760" y="2852640"/>
                <a:ext cx="41040" cy="32400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32" name="Freeform 224"/>
              <p:cNvSpPr/>
              <p:nvPr/>
            </p:nvSpPr>
            <p:spPr>
              <a:xfrm>
                <a:off x="7369200" y="2941560"/>
                <a:ext cx="125280" cy="235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33" name="Freeform 225"/>
              <p:cNvSpPr/>
              <p:nvPr/>
            </p:nvSpPr>
            <p:spPr>
              <a:xfrm>
                <a:off x="7502400" y="2936880"/>
                <a:ext cx="122400" cy="2458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34" name="Freeform 226"/>
              <p:cNvSpPr/>
              <p:nvPr/>
            </p:nvSpPr>
            <p:spPr>
              <a:xfrm>
                <a:off x="7634160" y="2852640"/>
                <a:ext cx="79560" cy="3301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35" name="Freeform 227"/>
              <p:cNvSpPr/>
              <p:nvPr/>
            </p:nvSpPr>
            <p:spPr>
              <a:xfrm>
                <a:off x="7734240" y="2852640"/>
                <a:ext cx="39600" cy="32400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36" name="Freeform 228"/>
              <p:cNvSpPr/>
              <p:nvPr/>
            </p:nvSpPr>
            <p:spPr>
              <a:xfrm>
                <a:off x="7791480" y="2941560"/>
                <a:ext cx="108000" cy="2350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37" name="Freeform 229"/>
              <p:cNvSpPr/>
              <p:nvPr/>
            </p:nvSpPr>
            <p:spPr>
              <a:xfrm>
                <a:off x="7910640" y="2936880"/>
                <a:ext cx="122040" cy="2458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38" name="Freeform 230"/>
              <p:cNvSpPr/>
              <p:nvPr/>
            </p:nvSpPr>
            <p:spPr>
              <a:xfrm>
                <a:off x="8042400" y="2852640"/>
                <a:ext cx="81000" cy="33012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39" name="Freeform 231"/>
              <p:cNvSpPr/>
              <p:nvPr/>
            </p:nvSpPr>
            <p:spPr>
              <a:xfrm>
                <a:off x="8142120" y="2852640"/>
                <a:ext cx="41400" cy="32400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40" name="Freeform 232"/>
              <p:cNvSpPr/>
              <p:nvPr/>
            </p:nvSpPr>
            <p:spPr>
              <a:xfrm>
                <a:off x="8204040" y="2936880"/>
                <a:ext cx="122400" cy="24588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441" name="Freeform 233"/>
              <p:cNvSpPr/>
              <p:nvPr/>
            </p:nvSpPr>
            <p:spPr>
              <a:xfrm>
                <a:off x="8346960" y="2936880"/>
                <a:ext cx="112680" cy="2397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sp>
          <p:nvSpPr>
            <p:cNvPr id="442" name="Freeform 235"/>
            <p:cNvSpPr/>
            <p:nvPr/>
          </p:nvSpPr>
          <p:spPr>
            <a:xfrm>
              <a:off x="4295880" y="2138400"/>
              <a:ext cx="4295520" cy="187200"/>
            </a:xfrm>
            <a:prstGeom prst="pie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43" name="Rectangle 236"/>
            <p:cNvSpPr/>
            <p:nvPr/>
          </p:nvSpPr>
          <p:spPr>
            <a:xfrm>
              <a:off x="4827960" y="1627200"/>
              <a:ext cx="362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ivate Sector participation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44" name="Line 237"/>
            <p:cNvSpPr/>
            <p:nvPr/>
          </p:nvSpPr>
          <p:spPr>
            <a:xfrm flipH="1">
              <a:off x="2690640" y="3511440"/>
              <a:ext cx="2471760" cy="72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45" name="Rectangle 238"/>
            <p:cNvSpPr/>
            <p:nvPr/>
          </p:nvSpPr>
          <p:spPr>
            <a:xfrm>
              <a:off x="1668600" y="4237200"/>
              <a:ext cx="1846080" cy="91908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46" name="Rectangle 239"/>
            <p:cNvSpPr/>
            <p:nvPr/>
          </p:nvSpPr>
          <p:spPr>
            <a:xfrm>
              <a:off x="1819440" y="4297320"/>
              <a:ext cx="174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ice contracts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47" name="Rectangle 240"/>
            <p:cNvSpPr/>
            <p:nvPr/>
          </p:nvSpPr>
          <p:spPr>
            <a:xfrm>
              <a:off x="1878120" y="4646520"/>
              <a:ext cx="162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Pub $, Prv Op of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48" name="Rectangle 241"/>
            <p:cNvSpPr/>
            <p:nvPr/>
          </p:nvSpPr>
          <p:spPr>
            <a:xfrm>
              <a:off x="2000160" y="4883040"/>
              <a:ext cx="1311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screte tasks)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49" name="Line 242"/>
            <p:cNvSpPr/>
            <p:nvPr/>
          </p:nvSpPr>
          <p:spPr>
            <a:xfrm flipH="1">
              <a:off x="4503600" y="3511440"/>
              <a:ext cx="658800" cy="72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50" name="Rectangle 243"/>
            <p:cNvSpPr/>
            <p:nvPr/>
          </p:nvSpPr>
          <p:spPr>
            <a:xfrm>
              <a:off x="3646440" y="4237200"/>
              <a:ext cx="1714680" cy="91908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51" name="Rectangle 244"/>
            <p:cNvSpPr/>
            <p:nvPr/>
          </p:nvSpPr>
          <p:spPr>
            <a:xfrm>
              <a:off x="3990600" y="4297320"/>
              <a:ext cx="121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on &amp;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52" name="Rectangle 245"/>
            <p:cNvSpPr/>
            <p:nvPr/>
          </p:nvSpPr>
          <p:spPr>
            <a:xfrm>
              <a:off x="3956400" y="4533840"/>
              <a:ext cx="128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intenance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53" name="Rectangle 246"/>
            <p:cNvSpPr/>
            <p:nvPr/>
          </p:nvSpPr>
          <p:spPr>
            <a:xfrm>
              <a:off x="3885480" y="4883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54" name="Rectangle 247"/>
            <p:cNvSpPr/>
            <p:nvPr/>
          </p:nvSpPr>
          <p:spPr>
            <a:xfrm>
              <a:off x="3950640" y="4883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55" name="Rectangle 248"/>
            <p:cNvSpPr/>
            <p:nvPr/>
          </p:nvSpPr>
          <p:spPr>
            <a:xfrm>
              <a:off x="4017240" y="4883040"/>
              <a:ext cx="109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sourcing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56" name="Rectangle 249"/>
            <p:cNvSpPr/>
            <p:nvPr/>
          </p:nvSpPr>
          <p:spPr>
            <a:xfrm>
              <a:off x="5081040" y="4883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57" name="Rectangle 250"/>
            <p:cNvSpPr/>
            <p:nvPr/>
          </p:nvSpPr>
          <p:spPr>
            <a:xfrm>
              <a:off x="5147640" y="4883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58" name="Line 251"/>
            <p:cNvSpPr/>
            <p:nvPr/>
          </p:nvSpPr>
          <p:spPr>
            <a:xfrm>
              <a:off x="5162400" y="3511440"/>
              <a:ext cx="1187640" cy="72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59" name="Rectangle 252"/>
            <p:cNvSpPr/>
            <p:nvPr/>
          </p:nvSpPr>
          <p:spPr>
            <a:xfrm>
              <a:off x="5425920" y="4237200"/>
              <a:ext cx="1846440" cy="91908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60" name="Rectangle 253"/>
            <p:cNvSpPr/>
            <p:nvPr/>
          </p:nvSpPr>
          <p:spPr>
            <a:xfrm>
              <a:off x="5743080" y="4297320"/>
              <a:ext cx="140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ign, Build,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61" name="Rectangle 254"/>
            <p:cNvSpPr/>
            <p:nvPr/>
          </p:nvSpPr>
          <p:spPr>
            <a:xfrm>
              <a:off x="6027840" y="4533840"/>
              <a:ext cx="82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e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62" name="Rectangle 255"/>
            <p:cNvSpPr/>
            <p:nvPr/>
          </p:nvSpPr>
          <p:spPr>
            <a:xfrm>
              <a:off x="5496480" y="4883040"/>
              <a:ext cx="157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Pub $, Prv DBO)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63" name="Line 256"/>
            <p:cNvSpPr/>
            <p:nvPr/>
          </p:nvSpPr>
          <p:spPr>
            <a:xfrm>
              <a:off x="5162400" y="3511440"/>
              <a:ext cx="2967120" cy="72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64" name="Rectangle 257"/>
            <p:cNvSpPr/>
            <p:nvPr/>
          </p:nvSpPr>
          <p:spPr>
            <a:xfrm>
              <a:off x="7207200" y="4237200"/>
              <a:ext cx="1846440" cy="91908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65" name="Rectangle 258"/>
            <p:cNvSpPr/>
            <p:nvPr/>
          </p:nvSpPr>
          <p:spPr>
            <a:xfrm>
              <a:off x="7480800" y="4297320"/>
              <a:ext cx="149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, Operate,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66" name="Rectangle 259"/>
            <p:cNvSpPr/>
            <p:nvPr/>
          </p:nvSpPr>
          <p:spPr>
            <a:xfrm>
              <a:off x="7786080" y="45338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fer 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67" name="Freeform 261"/>
            <p:cNvSpPr/>
            <p:nvPr/>
          </p:nvSpPr>
          <p:spPr>
            <a:xfrm>
              <a:off x="2724120" y="5408640"/>
              <a:ext cx="4943520" cy="165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68" name="Rectangle 262"/>
            <p:cNvSpPr/>
            <p:nvPr/>
          </p:nvSpPr>
          <p:spPr>
            <a:xfrm>
              <a:off x="3446280" y="5584680"/>
              <a:ext cx="355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asing risk transfer to private sector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469" name="Slide Number Placeholder 23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A1CC-6564-448B-BD4C-EF26B37FADF7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4"/>
          <p:cNvSpPr/>
          <p:nvPr/>
        </p:nvSpPr>
        <p:spPr>
          <a:xfrm>
            <a:off x="2435400" y="228600"/>
            <a:ext cx="647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a6b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Relationship &amp; Trust = PPP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71" name="Group 5"/>
          <p:cNvGrpSpPr/>
          <p:nvPr/>
        </p:nvGrpSpPr>
        <p:grpSpPr>
          <a:xfrm>
            <a:off x="1704960" y="1389240"/>
            <a:ext cx="7134120" cy="4861440"/>
            <a:chOff x="1704960" y="1389240"/>
            <a:chExt cx="7134120" cy="4861440"/>
          </a:xfrm>
        </p:grpSpPr>
        <p:sp>
          <p:nvSpPr>
            <p:cNvPr id="472" name="AutoShape 6"/>
            <p:cNvSpPr/>
            <p:nvPr/>
          </p:nvSpPr>
          <p:spPr>
            <a:xfrm>
              <a:off x="1985760" y="5261040"/>
              <a:ext cx="5449320" cy="395280"/>
            </a:xfrm>
            <a:prstGeom prst="rightArrow">
              <a:avLst>
                <a:gd name="adj1" fmla="val 50000"/>
                <a:gd name="adj2" fmla="val 56867"/>
              </a:avLst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0808"/>
                  </a:solidFill>
                  <a:latin typeface="Arial"/>
                </a:rPr>
                <a:t>Complexity &amp; Trust</a:t>
              </a:r>
              <a:endParaRPr b="0" lang="en-US" sz="1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3" name="AutoShape 7"/>
            <p:cNvSpPr/>
            <p:nvPr/>
          </p:nvSpPr>
          <p:spPr>
            <a:xfrm rot="16200000">
              <a:off x="304200" y="3443040"/>
              <a:ext cx="3522600" cy="328320"/>
            </a:xfrm>
            <a:prstGeom prst="rightArrow">
              <a:avLst>
                <a:gd name="adj1" fmla="val 50000"/>
                <a:gd name="adj2" fmla="val 44258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</a:rPr>
                <a:t>Business Value </a:t>
              </a:r>
              <a:endParaRPr b="0" lang="en-US" sz="1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4" name="AutoShape 8"/>
            <p:cNvSpPr/>
            <p:nvPr/>
          </p:nvSpPr>
          <p:spPr>
            <a:xfrm rot="19428000">
              <a:off x="1704600" y="3430440"/>
              <a:ext cx="5578200" cy="244440"/>
            </a:xfrm>
            <a:custGeom>
              <a:avLst/>
              <a:gdLst>
                <a:gd name="textAreaLeft" fmla="*/ 0 w 5578200"/>
                <a:gd name="textAreaRight" fmla="*/ 5578560 w 5578200"/>
                <a:gd name="textAreaTop" fmla="*/ 0 h 244440"/>
                <a:gd name="textAreaBottom" fmla="*/ 24444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29" y="0"/>
                  </a:lnTo>
                  <a:lnTo>
                    <a:pt x="21600" y="10800"/>
                  </a:lnTo>
                  <a:lnTo>
                    <a:pt x="2032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5" name="AutoShape 9"/>
            <p:cNvSpPr/>
            <p:nvPr/>
          </p:nvSpPr>
          <p:spPr>
            <a:xfrm rot="19428000">
              <a:off x="2543040" y="4608720"/>
              <a:ext cx="766440" cy="209520"/>
            </a:xfrm>
            <a:prstGeom prst="roundRect">
              <a:avLst>
                <a:gd name="adj" fmla="val 36111"/>
              </a:avLst>
            </a:prstGeom>
            <a:solidFill>
              <a:srgbClr val="ddf2ff"/>
            </a:solidFill>
            <a:ln w="0">
              <a:noFill/>
            </a:ln>
            <a:effectLst>
              <a:outerShdw dist="153753" dir="2700000" blurRad="0" rotWithShape="0">
                <a:srgbClr val="859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80808"/>
                  </a:solidFill>
                  <a:latin typeface="Arial"/>
                </a:rPr>
                <a:t>Technical</a:t>
              </a:r>
              <a:endParaRPr b="0" lang="en-US" sz="8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80808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6" name="AutoShape 10"/>
            <p:cNvSpPr/>
            <p:nvPr/>
          </p:nvSpPr>
          <p:spPr>
            <a:xfrm rot="19428000">
              <a:off x="3609360" y="3760560"/>
              <a:ext cx="928440" cy="209520"/>
            </a:xfrm>
            <a:prstGeom prst="roundRect">
              <a:avLst>
                <a:gd name="adj" fmla="val 36111"/>
              </a:avLst>
            </a:prstGeom>
            <a:solidFill>
              <a:srgbClr val="ddf2ff"/>
            </a:solidFill>
            <a:ln w="0">
              <a:noFill/>
            </a:ln>
            <a:effectLst>
              <a:outerShdw dist="153753" dir="2700000" blurRad="0" rotWithShape="0">
                <a:srgbClr val="859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0808"/>
                  </a:solidFill>
                  <a:latin typeface="Arial"/>
                </a:rPr>
                <a:t>O&amp;m</a:t>
              </a:r>
              <a:endParaRPr b="0" lang="en-US" sz="1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7" name="AutoShape 11"/>
            <p:cNvSpPr/>
            <p:nvPr/>
          </p:nvSpPr>
          <p:spPr>
            <a:xfrm rot="19428000">
              <a:off x="4749120" y="2989080"/>
              <a:ext cx="765000" cy="209520"/>
            </a:xfrm>
            <a:prstGeom prst="roundRect">
              <a:avLst>
                <a:gd name="adj" fmla="val 36111"/>
              </a:avLst>
            </a:prstGeom>
            <a:solidFill>
              <a:srgbClr val="ddf2ff"/>
            </a:solidFill>
            <a:ln w="0">
              <a:noFill/>
            </a:ln>
            <a:effectLst>
              <a:outerShdw dist="153753" dir="2700000" blurRad="0" rotWithShape="0">
                <a:srgbClr val="859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80808"/>
                  </a:solidFill>
                  <a:latin typeface="Arial"/>
                </a:rPr>
                <a:t>BPO</a:t>
              </a:r>
              <a:endParaRPr b="0" lang="en-US" sz="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8" name="AutoShape 12"/>
            <p:cNvSpPr/>
            <p:nvPr/>
          </p:nvSpPr>
          <p:spPr>
            <a:xfrm rot="19428000">
              <a:off x="5639760" y="2327040"/>
              <a:ext cx="765000" cy="209520"/>
            </a:xfrm>
            <a:prstGeom prst="roundRect">
              <a:avLst>
                <a:gd name="adj" fmla="val 36111"/>
              </a:avLst>
            </a:prstGeom>
            <a:solidFill>
              <a:srgbClr val="ddf2ff"/>
            </a:solidFill>
            <a:ln w="0">
              <a:noFill/>
            </a:ln>
            <a:effectLst>
              <a:outerShdw dist="153753" dir="2700000" blurRad="0" rotWithShape="0">
                <a:srgbClr val="859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0808"/>
                  </a:solidFill>
                  <a:latin typeface="Arial"/>
                </a:rPr>
                <a:t>++ PPPs</a:t>
              </a:r>
              <a:endParaRPr b="0" lang="en-US" sz="1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9" name="Rectangle 13"/>
            <p:cNvSpPr/>
            <p:nvPr/>
          </p:nvSpPr>
          <p:spPr>
            <a:xfrm>
              <a:off x="1704960" y="1389240"/>
              <a:ext cx="7086240" cy="4829040"/>
            </a:xfrm>
            <a:prstGeom prst="rect">
              <a:avLst/>
            </a:prstGeom>
            <a:noFill/>
            <a:ln w="9360">
              <a:solidFill>
                <a:srgbClr val="7666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0" name="Line 14"/>
            <p:cNvSpPr/>
            <p:nvPr/>
          </p:nvSpPr>
          <p:spPr>
            <a:xfrm>
              <a:off x="7572240" y="2027520"/>
              <a:ext cx="0" cy="3276360"/>
            </a:xfrm>
            <a:prstGeom prst="line">
              <a:avLst/>
            </a:prstGeom>
            <a:ln cap="sq" w="12600">
              <a:solidFill>
                <a:srgbClr val="08080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1" name="Text Box 15"/>
            <p:cNvSpPr/>
            <p:nvPr/>
          </p:nvSpPr>
          <p:spPr>
            <a:xfrm>
              <a:off x="7647840" y="1962360"/>
              <a:ext cx="1114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Times New Roman"/>
                </a:rPr>
                <a:t>Relationship</a:t>
              </a: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Times New Roman"/>
                </a:rPr>
                <a:t>Management</a:t>
              </a: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Times New Roman"/>
                </a:rPr>
                <a:t>Dominates</a:t>
              </a: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2" name="Text Box 16"/>
            <p:cNvSpPr/>
            <p:nvPr/>
          </p:nvSpPr>
          <p:spPr>
            <a:xfrm>
              <a:off x="7724160" y="4542120"/>
              <a:ext cx="1114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Times New Roman"/>
                </a:rPr>
                <a:t>Contractual</a:t>
              </a: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Times New Roman"/>
                </a:rPr>
                <a:t>Management</a:t>
              </a: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Times New Roman"/>
                </a:rPr>
                <a:t>Dominates</a:t>
              </a: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3" name="Oval 17"/>
            <p:cNvSpPr/>
            <p:nvPr/>
          </p:nvSpPr>
          <p:spPr>
            <a:xfrm>
              <a:off x="3304800" y="4313520"/>
              <a:ext cx="1142640" cy="838080"/>
            </a:xfrm>
            <a:prstGeom prst="ellipse">
              <a:avLst/>
            </a:prstGeom>
            <a:solidFill>
              <a:srgbClr val="76669a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4" name="Oval 18"/>
            <p:cNvSpPr/>
            <p:nvPr/>
          </p:nvSpPr>
          <p:spPr>
            <a:xfrm>
              <a:off x="4905000" y="3170520"/>
              <a:ext cx="1142640" cy="838080"/>
            </a:xfrm>
            <a:prstGeom prst="ellipse">
              <a:avLst/>
            </a:prstGeom>
            <a:solidFill>
              <a:srgbClr val="76669a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5" name="Oval 19"/>
            <p:cNvSpPr/>
            <p:nvPr/>
          </p:nvSpPr>
          <p:spPr>
            <a:xfrm>
              <a:off x="6276600" y="2179800"/>
              <a:ext cx="1142640" cy="838080"/>
            </a:xfrm>
            <a:prstGeom prst="ellipse">
              <a:avLst/>
            </a:prstGeom>
            <a:solidFill>
              <a:srgbClr val="76669a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6" name="Oval 20"/>
            <p:cNvSpPr/>
            <p:nvPr/>
          </p:nvSpPr>
          <p:spPr>
            <a:xfrm>
              <a:off x="3381120" y="4465800"/>
              <a:ext cx="990360" cy="685800"/>
            </a:xfrm>
            <a:prstGeom prst="ellipse">
              <a:avLst/>
            </a:prstGeom>
            <a:solidFill>
              <a:srgbClr val="99ccff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80808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7" name="Oval 21"/>
            <p:cNvSpPr/>
            <p:nvPr/>
          </p:nvSpPr>
          <p:spPr>
            <a:xfrm>
              <a:off x="4981320" y="3446640"/>
              <a:ext cx="761760" cy="533520"/>
            </a:xfrm>
            <a:prstGeom prst="ellipse">
              <a:avLst/>
            </a:prstGeom>
            <a:solidFill>
              <a:srgbClr val="99ccff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8" name="Oval 22"/>
            <p:cNvSpPr/>
            <p:nvPr/>
          </p:nvSpPr>
          <p:spPr>
            <a:xfrm>
              <a:off x="6429240" y="2656080"/>
              <a:ext cx="609120" cy="304920"/>
            </a:xfrm>
            <a:prstGeom prst="ellipse">
              <a:avLst/>
            </a:prstGeom>
            <a:solidFill>
              <a:srgbClr val="99ccff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9" name="Text Box 23"/>
            <p:cNvSpPr/>
            <p:nvPr/>
          </p:nvSpPr>
          <p:spPr>
            <a:xfrm>
              <a:off x="3754440" y="42786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7aa6b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0" name="Text Box 24"/>
            <p:cNvSpPr/>
            <p:nvPr/>
          </p:nvSpPr>
          <p:spPr>
            <a:xfrm>
              <a:off x="5363640" y="3124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aa6b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1" name="Text Box 25"/>
            <p:cNvSpPr/>
            <p:nvPr/>
          </p:nvSpPr>
          <p:spPr>
            <a:xfrm>
              <a:off x="6658920" y="2097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aa6b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2" name="Text Box 26"/>
            <p:cNvSpPr/>
            <p:nvPr/>
          </p:nvSpPr>
          <p:spPr>
            <a:xfrm>
              <a:off x="2165760" y="5546880"/>
              <a:ext cx="277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Times New Roman"/>
                </a:rPr>
                <a:t>C = </a:t>
              </a: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Contractual Management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Times New Roman"/>
                </a:rPr>
                <a:t>R</a:t>
              </a:r>
              <a:r>
                <a:rPr b="1" lang="en-US" sz="2000" spc="-1" strike="noStrike">
                  <a:solidFill>
                    <a:srgbClr val="7aa6b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80808"/>
                  </a:solidFill>
                  <a:latin typeface="Times New Roman"/>
                </a:rPr>
                <a:t>= </a:t>
              </a: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Relationship Management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3" name="Text Box 27"/>
            <p:cNvSpPr/>
            <p:nvPr/>
          </p:nvSpPr>
          <p:spPr>
            <a:xfrm>
              <a:off x="4754520" y="551988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80808"/>
                  </a:solidFill>
                  <a:latin typeface="Times New Roman"/>
                </a:rPr>
                <a:t>}</a:t>
              </a:r>
              <a:endParaRPr b="0" lang="en-US" sz="4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4" name="Text Box 28"/>
            <p:cNvSpPr/>
            <p:nvPr/>
          </p:nvSpPr>
          <p:spPr>
            <a:xfrm>
              <a:off x="4980960" y="5710320"/>
              <a:ext cx="21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= </a:t>
              </a:r>
              <a:r>
                <a:rPr b="1" lang="en-US" sz="2000" spc="-1" strike="noStrike">
                  <a:solidFill>
                    <a:srgbClr val="080808"/>
                  </a:solidFill>
                  <a:latin typeface="Times New Roman"/>
                </a:rPr>
                <a:t>The Partnership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495" name="Slide Number Placeholder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49B2-A527-4A6B-BD42-9F4B9974ACB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2921400" y="220680"/>
            <a:ext cx="52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PP for e-Government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2743200" y="4983120"/>
            <a:ext cx="39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Full service delivery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2957400" y="2286000"/>
            <a:ext cx="32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Fee-based funding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022560" y="3154320"/>
            <a:ext cx="34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hared cost saving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2916720" y="4068720"/>
            <a:ext cx="28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hared revenu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1943280" y="144792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PPP Model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2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13A0-136D-4950-836C-5A1D650D363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1600200" y="5570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Full service deliver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1795320" y="149220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80808"/>
                </a:solidFill>
                <a:uFillTx/>
                <a:latin typeface="Times New Roman"/>
                <a:ea typeface="新細明體"/>
              </a:rPr>
              <a:t>PPP Mode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4433760" y="149220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80808"/>
                </a:solidFill>
                <a:uFillTx/>
                <a:latin typeface="Times New Roman"/>
                <a:ea typeface="新細明體"/>
              </a:rPr>
              <a:t>Advantage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7250040" y="1492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80808"/>
                </a:solidFill>
                <a:uFillTx/>
                <a:latin typeface="Times New Roman"/>
                <a:ea typeface="新細明體"/>
              </a:rPr>
              <a:t>Disadvantage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1604160" y="212256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Fee-based funding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1603080" y="342900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hared cost saving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1603080" y="4419720"/>
            <a:ext cx="15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hared revenu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3733920" y="2122560"/>
            <a:ext cx="24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Encourages customer-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centric focu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3733920" y="3429000"/>
            <a:ext cx="27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Results in more efficient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Gov operation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2" name="Rectangle 16"/>
          <p:cNvSpPr/>
          <p:nvPr/>
        </p:nvSpPr>
        <p:spPr>
          <a:xfrm>
            <a:off x="3733920" y="4419720"/>
            <a:ext cx="272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No impact on existing ops;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may result in higher complianc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3" name="Rectangle 17"/>
          <p:cNvSpPr/>
          <p:nvPr/>
        </p:nvSpPr>
        <p:spPr>
          <a:xfrm>
            <a:off x="3733920" y="557064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hifting services to new org.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encourages innovation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&amp; efficienc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4" name="Rectangle 18"/>
          <p:cNvSpPr/>
          <p:nvPr/>
        </p:nvSpPr>
        <p:spPr>
          <a:xfrm>
            <a:off x="6715080" y="2122560"/>
            <a:ext cx="258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Customers will not accept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new charges so agenc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owning service wil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5" name="Rectangle 19"/>
          <p:cNvSpPr/>
          <p:nvPr/>
        </p:nvSpPr>
        <p:spPr>
          <a:xfrm>
            <a:off x="6846480" y="3429000"/>
            <a:ext cx="224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Cost hard to measure;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requires BPR (not easy)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6" name="Rectangle 20"/>
          <p:cNvSpPr/>
          <p:nvPr/>
        </p:nvSpPr>
        <p:spPr>
          <a:xfrm>
            <a:off x="6814800" y="441972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May not produce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more efficient Gov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7" name="Rectangle 21"/>
          <p:cNvSpPr/>
          <p:nvPr/>
        </p:nvSpPr>
        <p:spPr>
          <a:xfrm>
            <a:off x="6823080" y="557064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Loss of control /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authorit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8" name="Straight Connector 22"/>
          <p:cNvSpPr/>
          <p:nvPr/>
        </p:nvSpPr>
        <p:spPr>
          <a:xfrm flipH="1">
            <a:off x="6627960" y="1600200"/>
            <a:ext cx="1440" cy="4800600"/>
          </a:xfrm>
          <a:prstGeom prst="line">
            <a:avLst/>
          </a:prstGeom>
          <a:ln w="3240">
            <a:solidFill>
              <a:srgbClr val="c1c1c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9" name="Straight Connector 23"/>
          <p:cNvSpPr/>
          <p:nvPr/>
        </p:nvSpPr>
        <p:spPr>
          <a:xfrm flipH="1">
            <a:off x="3733920" y="1600200"/>
            <a:ext cx="1440" cy="4800600"/>
          </a:xfrm>
          <a:prstGeom prst="line">
            <a:avLst/>
          </a:prstGeom>
          <a:ln w="3240">
            <a:solidFill>
              <a:srgbClr val="c1c1c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0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2624-847E-47D5-BD42-34CC8FBC0DB5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2921400" y="220680"/>
            <a:ext cx="52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PP for e-Government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4"/>
          <p:cNvSpPr/>
          <p:nvPr/>
        </p:nvSpPr>
        <p:spPr>
          <a:xfrm>
            <a:off x="2888640" y="228600"/>
            <a:ext cx="525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PP Drivers / Benefit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2514600" y="152388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ahoma"/>
              </a:rPr>
              <a:t>Why are governments using PPP?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2148840" y="2270160"/>
            <a:ext cx="57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Faster, more efficient delivery of services / informatio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2214720" y="272736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Access to private sector expertise, skills, ICT and innovatio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2215440" y="326088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Enabling an agency to focus on its core busines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2191320" y="3718080"/>
            <a:ext cx="64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Enhancing organizational learning / skills within public secto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2211120" y="4175280"/>
            <a:ext cx="48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Increasing service levels or scope of e-servic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2082960" y="4632480"/>
            <a:ext cx="45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hifting risk from agency to private secto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2162160" y="5089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Increased effectiveness of project manageme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2132280" y="5622840"/>
            <a:ext cx="38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Reduce costs and increase revenu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2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3069-A6D9-413C-BC0B-C4A6B7AE111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4"/>
          <p:cNvSpPr/>
          <p:nvPr/>
        </p:nvSpPr>
        <p:spPr>
          <a:xfrm>
            <a:off x="2903040" y="228600"/>
            <a:ext cx="525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PP Drivers / Benefit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2133720" y="144792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Who benefits from using PPP?</a:t>
            </a: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832400" y="198108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80808"/>
                </a:solidFill>
                <a:uFillTx/>
                <a:latin typeface="Times New Roman"/>
                <a:ea typeface="新細明體"/>
              </a:rPr>
              <a:t>To  Government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4347360" y="198108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80808"/>
                </a:solidFill>
                <a:uFillTx/>
                <a:latin typeface="Times New Roman"/>
                <a:ea typeface="新細明體"/>
              </a:rPr>
              <a:t>To  Private Secto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6860520" y="198108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80808"/>
                </a:solidFill>
                <a:uFillTx/>
                <a:latin typeface="Times New Roman"/>
                <a:ea typeface="新細明體"/>
              </a:rPr>
              <a:t>To  Communit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1600200" y="265104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Minimise capi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investment and risk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607400" y="3581280"/>
            <a:ext cx="190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Faster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implementatio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1600200" y="481320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Tap private secto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management and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market expertis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4191120" y="265104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Unique busines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opportunitie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2" name="Rectangle 13"/>
          <p:cNvSpPr/>
          <p:nvPr/>
        </p:nvSpPr>
        <p:spPr>
          <a:xfrm>
            <a:off x="4191120" y="358128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Income fro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government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transaction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3" name="Rectangle 14"/>
          <p:cNvSpPr/>
          <p:nvPr/>
        </p:nvSpPr>
        <p:spPr>
          <a:xfrm>
            <a:off x="4191120" y="48132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Income fro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commercial service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and advertisement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4" name="Rectangle 15"/>
          <p:cNvSpPr/>
          <p:nvPr/>
        </p:nvSpPr>
        <p:spPr>
          <a:xfrm>
            <a:off x="6781680" y="265104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One-stop-shop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of public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service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5" name="Rectangle 16"/>
          <p:cNvSpPr/>
          <p:nvPr/>
        </p:nvSpPr>
        <p:spPr>
          <a:xfrm>
            <a:off x="6781680" y="358128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Views from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citizens and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 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  <a:ea typeface="新細明體"/>
              </a:rPr>
              <a:t>customer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6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BB42-E5D2-4140-8BBF-A0CB548189F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4"/>
          <p:cNvSpPr/>
          <p:nvPr/>
        </p:nvSpPr>
        <p:spPr>
          <a:xfrm>
            <a:off x="2880000" y="228600"/>
            <a:ext cx="48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Current PPP Policie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29000" y="144792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ahoma"/>
              </a:rPr>
              <a:t>Highlights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1600200" y="2209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PP are intended to become a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best practic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in e-government implementation in KSA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1600200" y="3200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rivate sector participation in E-Gov based on principle o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“</a:t>
            </a:r>
            <a:r>
              <a:rPr b="1" i="1" lang="en-US" sz="1800" spc="-1" strike="noStrike">
                <a:solidFill>
                  <a:srgbClr val="080808"/>
                </a:solidFill>
                <a:latin typeface="Times New Roman"/>
              </a:rPr>
              <a:t>shared expected revenu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1600200" y="42670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Feasibility study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public tender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(if feasible) are required fo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ny proposed E-Gov PPP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2" name="Rectangle 10"/>
          <p:cNvSpPr/>
          <p:nvPr/>
        </p:nvSpPr>
        <p:spPr>
          <a:xfrm>
            <a:off x="1600200" y="52578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PP rules apply when agencies contract private sector entity t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“</a:t>
            </a:r>
            <a:r>
              <a:rPr b="1" i="1" lang="en-US" sz="1800" spc="-1" strike="noStrike">
                <a:solidFill>
                  <a:srgbClr val="080808"/>
                </a:solidFill>
                <a:latin typeface="Times New Roman"/>
              </a:rPr>
              <a:t>fund and impl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“ a projec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C1A0-0B15-4D8C-A455-9ED3D922A1B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2670480" y="228600"/>
            <a:ext cx="56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Roles &amp; Responsibilitie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1467000" y="2397240"/>
            <a:ext cx="726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MoF: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                      *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versight of budgets, pricing and revenues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f all project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* Manages National e-Government Fund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* Agencies must coordinate with MoF on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inancing PPP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1753560" y="4305240"/>
            <a:ext cx="58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General Audit Bureau: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Oversight powers that apply to PPP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1910520" y="510552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Yesser: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        Facilitator of e-government (and e-services) in KS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1467000" y="1600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ponsor Agencies: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rimary responsibility for their PPP project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F8D1-207A-4A13-AB8E-F0E71931EA3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4"/>
          <p:cNvSpPr/>
          <p:nvPr/>
        </p:nvSpPr>
        <p:spPr>
          <a:xfrm>
            <a:off x="2570760" y="30492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Cambria"/>
              </a:rPr>
              <a:t>Best Practices &amp; Lessons Learned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3666960" y="1752480"/>
            <a:ext cx="38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Global Best Practic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1966320" y="2666880"/>
            <a:ext cx="634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Create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a single, dedicated entity responsible for PPP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1984320" y="3429000"/>
            <a:ext cx="642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Establish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clear mechanisms, rules and review criteria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1600200" y="420696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Make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PPP decision-making is streamlined, fair, open and 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transparent, enabling faster “go / no-go” decisions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1991520" y="5410080"/>
            <a:ext cx="652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Free 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PPP from overly bureaucratic approval processes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B1CD-9E9D-46CE-8C3F-D30C4260ABCC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3506400" y="1523880"/>
            <a:ext cx="38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Global Lessons Learned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1905120" y="24382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Coordination with multiple agencies complicates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(or obstruct) use of PPP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1905120" y="4876920"/>
            <a:ext cx="78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Lack of clear process leaves sponsor agencies unsure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when to consult and creates inconsistencies in what     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different agencies do (or don’t do)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1905120" y="34876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</a:rPr>
              <a:t>Too much bureaucracy and too many approvals can create major problems for sponsor agencies (and projects)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39DA-CDBC-4593-AC94-2643C96B885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2570760" y="30492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Cambria"/>
              </a:rPr>
              <a:t>Best Practices &amp; Lessons Learned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4"/>
          <p:cNvSpPr/>
          <p:nvPr/>
        </p:nvSpPr>
        <p:spPr>
          <a:xfrm>
            <a:off x="1981080" y="3124080"/>
            <a:ext cx="67057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80808"/>
                </a:solidFill>
                <a:latin typeface="Cambria"/>
              </a:rPr>
              <a:t>E-GOV PPP FRAMEWORK 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80808"/>
                </a:solidFill>
                <a:latin typeface="Cambria"/>
              </a:rPr>
              <a:t>WHY &amp; HOW?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0469-C3AE-4782-A35B-850B3BE62A4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6"/>
          <p:cNvSpPr/>
          <p:nvPr/>
        </p:nvSpPr>
        <p:spPr>
          <a:xfrm>
            <a:off x="3349800" y="156204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Global Best Practice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1597320" y="3478320"/>
            <a:ext cx="353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Identify, understand and consult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your stakeholder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6296040" y="34513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mployee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6296760" y="19652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User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6292440" y="39466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olitical official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6291720" y="4937040"/>
            <a:ext cx="25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Financing institution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6292800" y="4441680"/>
            <a:ext cx="16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ffected staff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6292800" y="54324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Other department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291720" y="592776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Other organization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1549800" y="4621320"/>
            <a:ext cx="29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Consult early, consult often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3" name="Rectangle 16"/>
          <p:cNvSpPr/>
          <p:nvPr/>
        </p:nvSpPr>
        <p:spPr>
          <a:xfrm>
            <a:off x="1592640" y="2411280"/>
            <a:ext cx="30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Stakeholder buy-in is key t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PP succes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4" name="Rectangle 17"/>
          <p:cNvSpPr/>
          <p:nvPr/>
        </p:nvSpPr>
        <p:spPr>
          <a:xfrm>
            <a:off x="1583640" y="5307120"/>
            <a:ext cx="30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Make stakeholders genuine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articipants in PPP proces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5" name="AutoShape 18"/>
          <p:cNvSpPr/>
          <p:nvPr/>
        </p:nvSpPr>
        <p:spPr>
          <a:xfrm rot="10800000">
            <a:off x="5791320" y="2285640"/>
            <a:ext cx="304560" cy="3886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7"/>
                </a:lnTo>
                <a:cubicBezTo>
                  <a:pt x="10800" y="9917"/>
                  <a:pt x="5400" y="10817"/>
                  <a:pt x="0" y="10817"/>
                </a:cubicBezTo>
                <a:cubicBezTo>
                  <a:pt x="5400" y="10817"/>
                  <a:pt x="10800" y="11717"/>
                  <a:pt x="10800" y="126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6" name="Rectangle 19"/>
          <p:cNvSpPr/>
          <p:nvPr/>
        </p:nvSpPr>
        <p:spPr>
          <a:xfrm>
            <a:off x="6295320" y="246060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ervice owner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7" name="Rectangle 20"/>
          <p:cNvSpPr/>
          <p:nvPr/>
        </p:nvSpPr>
        <p:spPr>
          <a:xfrm>
            <a:off x="6293880" y="295596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dentity owner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8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23B0-0D10-4AB6-82FF-898019BD18B7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2570760" y="30492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Cambria"/>
              </a:rPr>
              <a:t>Best Practices &amp; Lessons Learned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1501920"/>
            <a:ext cx="7391160" cy="48942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4"/>
          <p:cNvSpPr/>
          <p:nvPr/>
        </p:nvSpPr>
        <p:spPr>
          <a:xfrm>
            <a:off x="2598120" y="228600"/>
            <a:ext cx="613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New Stakeholder Formula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3954600" y="153828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Transparency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3" name="AutoShape 6"/>
          <p:cNvSpPr/>
          <p:nvPr/>
        </p:nvSpPr>
        <p:spPr>
          <a:xfrm flipV="1" rot="16197000">
            <a:off x="4829040" y="2185200"/>
            <a:ext cx="533520" cy="457200"/>
          </a:xfrm>
          <a:prstGeom prst="leftArrow">
            <a:avLst>
              <a:gd name="adj1" fmla="val 56231"/>
              <a:gd name="adj2" fmla="val 44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4487760" y="28335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Buy-in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5" name="AutoShape 8"/>
          <p:cNvSpPr/>
          <p:nvPr/>
        </p:nvSpPr>
        <p:spPr>
          <a:xfrm flipV="1" rot="16197000">
            <a:off x="4829040" y="3633120"/>
            <a:ext cx="533520" cy="457200"/>
          </a:xfrm>
          <a:prstGeom prst="leftArrow">
            <a:avLst>
              <a:gd name="adj1" fmla="val 56231"/>
              <a:gd name="adj2" fmla="val 44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1438200" y="420516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Willingness to …push, mandate, create incentive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7" name="AutoShape 10"/>
          <p:cNvSpPr/>
          <p:nvPr/>
        </p:nvSpPr>
        <p:spPr>
          <a:xfrm flipV="1" rot="16197000">
            <a:off x="4829040" y="5004720"/>
            <a:ext cx="533520" cy="457200"/>
          </a:xfrm>
          <a:prstGeom prst="leftArrow">
            <a:avLst>
              <a:gd name="adj1" fmla="val 56231"/>
              <a:gd name="adj2" fmla="val 44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4156200" y="565308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PPP succes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17F4-28AD-43D6-A2B4-AA7D52C9F5C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7467480" cy="482940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5"/>
          <p:cNvSpPr/>
          <p:nvPr/>
        </p:nvSpPr>
        <p:spPr>
          <a:xfrm>
            <a:off x="3098880" y="228600"/>
            <a:ext cx="46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Readiness Checklist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0113-6893-4911-9D9E-F1EF63AD5FE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6"/>
          <p:cNvSpPr/>
          <p:nvPr/>
        </p:nvSpPr>
        <p:spPr>
          <a:xfrm>
            <a:off x="3200400" y="31240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80808"/>
                </a:solidFill>
                <a:latin typeface="Cambria"/>
              </a:rPr>
              <a:t>Coffee Break</a:t>
            </a:r>
            <a:endParaRPr b="0" lang="en-US" sz="6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3591-B016-4DE8-A607-F007A65483C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34"/>
          <p:cNvSpPr/>
          <p:nvPr/>
        </p:nvSpPr>
        <p:spPr>
          <a:xfrm>
            <a:off x="1523880" y="2819520"/>
            <a:ext cx="769644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80808"/>
                </a:solidFill>
                <a:latin typeface="Cambria"/>
              </a:rPr>
              <a:t>USING THE FRAMEWORK BUILDING THE RELATIONSHIP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6874-6B31-418C-8355-73818FF6F84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97200" y="1276200"/>
            <a:ext cx="4898880" cy="525780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6"/>
          <p:cNvSpPr/>
          <p:nvPr/>
        </p:nvSpPr>
        <p:spPr>
          <a:xfrm>
            <a:off x="3744360" y="2286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PP Lifecycle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D2CF-4911-491E-9879-2F09880500E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5"/>
          <p:cNvSpPr/>
          <p:nvPr/>
        </p:nvSpPr>
        <p:spPr>
          <a:xfrm>
            <a:off x="0" y="0"/>
            <a:ext cx="19810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EDA4-5F68-49F9-B483-215EF4DB379B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12" name="Picture 5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4"/>
          <p:cNvSpPr/>
          <p:nvPr/>
        </p:nvSpPr>
        <p:spPr>
          <a:xfrm>
            <a:off x="2642400" y="228600"/>
            <a:ext cx="53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hase I: PPP Inception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1617120" y="302256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Develop a business case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5640120" y="3076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6172200" y="26416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Feasibility Study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7" name="Rectangle 9"/>
          <p:cNvSpPr/>
          <p:nvPr/>
        </p:nvSpPr>
        <p:spPr>
          <a:xfrm>
            <a:off x="6250680" y="355608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Risk Assessment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8" name="Rectangle 10"/>
          <p:cNvSpPr/>
          <p:nvPr/>
        </p:nvSpPr>
        <p:spPr>
          <a:xfrm>
            <a:off x="7316280" y="3098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9" name="Rectangle 11"/>
          <p:cNvSpPr/>
          <p:nvPr/>
        </p:nvSpPr>
        <p:spPr>
          <a:xfrm>
            <a:off x="1855080" y="4876920"/>
            <a:ext cx="66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… </a:t>
            </a:r>
            <a:r>
              <a:rPr b="1" lang="en-US" sz="2200" spc="-1" strike="noStrike">
                <a:solidFill>
                  <a:srgbClr val="080808"/>
                </a:solidFill>
                <a:latin typeface="Times New Roman"/>
              </a:rPr>
              <a:t>comparing costs of PPP vs. traditional procurement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6B75-6265-4182-ABFD-0F543D6A6F4F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4"/>
          <p:cNvSpPr/>
          <p:nvPr/>
        </p:nvSpPr>
        <p:spPr>
          <a:xfrm>
            <a:off x="2744640" y="228600"/>
            <a:ext cx="504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hase I: PPP Analysi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2036880" y="1724040"/>
            <a:ext cx="22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80808"/>
                </a:solidFill>
                <a:uFillTx/>
                <a:latin typeface="Times New Roman"/>
              </a:rPr>
              <a:t>Due Diligenc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6510240" y="1724040"/>
            <a:ext cx="21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80808"/>
                </a:solidFill>
                <a:uFillTx/>
                <a:latin typeface="Times New Roman"/>
              </a:rPr>
              <a:t>Project Desig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6019920" y="2401920"/>
            <a:ext cx="327636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Be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service-oriented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rom star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PP must enable priva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tor to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earn a profi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Clear, detailed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description of servic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being delivered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1523880" y="2401920"/>
            <a:ext cx="419580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Examine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new risks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created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by private sector delivering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Evaluate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opportunity and market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t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ttract viable bidder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inuing use of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marke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E68A-C59D-4A60-8D7A-CEF12212FDA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4"/>
          <p:cNvSpPr/>
          <p:nvPr/>
        </p:nvSpPr>
        <p:spPr>
          <a:xfrm>
            <a:off x="2366280" y="297000"/>
            <a:ext cx="643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hase II : PPP Procurement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2085120" y="1798560"/>
            <a:ext cx="43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Make RFP outcomes-based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2057400" y="2971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Business case ensures feasibility and identifies procurement strategy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2061720" y="445140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Pre-RFP consultants with private sect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3419-A9E9-4502-914D-78142742A393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22824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PP Definit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523880" y="1752480"/>
            <a:ext cx="7372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PPP is a contractual agreement (partnership) whereby a priva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partners performs part or all of government services or function.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Such a partnership are characterized by sharing of investment,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risk, responsibility and reward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he essentials of PPP agreements are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- Focus on the service to be provided, not the assets to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be employed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- Shift of the risk and responsibility to a private provider.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679400" y="5334120"/>
            <a:ext cx="11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PPP =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818440" y="533412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38720" y="533412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+  long-term provision of service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3F17-1437-47F4-B6B3-F33C6D6C0DD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4"/>
          <p:cNvSpPr/>
          <p:nvPr/>
        </p:nvSpPr>
        <p:spPr>
          <a:xfrm>
            <a:off x="3536640" y="304920"/>
            <a:ext cx="325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PP Selection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2362320" y="402444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Minimum thresholds eliminate bids that underestimate cost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2438280" y="18144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Clear selection criteria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2437920" y="2895480"/>
            <a:ext cx="58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Bidder’s capacity to execute a projec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0194-EA47-4047-915C-2D17A8C12AAC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4"/>
          <p:cNvSpPr/>
          <p:nvPr/>
        </p:nvSpPr>
        <p:spPr>
          <a:xfrm>
            <a:off x="2098800" y="30492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Cambria"/>
              </a:rPr>
              <a:t>Phase III :PPP Contract Management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1752480" y="43434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Service Level Agreement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9" name="Rectangle 6"/>
          <p:cNvSpPr/>
          <p:nvPr/>
        </p:nvSpPr>
        <p:spPr>
          <a:xfrm>
            <a:off x="1752480" y="5334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Contract transparency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5486400" y="43434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Well-defined deliverable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1" name="Rectangle 8"/>
          <p:cNvSpPr/>
          <p:nvPr/>
        </p:nvSpPr>
        <p:spPr>
          <a:xfrm>
            <a:off x="5486400" y="5029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Performance benchmark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5486400" y="57150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Documentation method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1905120" y="16225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Well-designed contract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3254400" y="20700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1899000" y="2517840"/>
            <a:ext cx="33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ctive contract managemen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5792760" y="25146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7" name="Rectangle 14"/>
          <p:cNvSpPr/>
          <p:nvPr/>
        </p:nvSpPr>
        <p:spPr>
          <a:xfrm>
            <a:off x="6553080" y="25146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PPP succes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8" name="AutoShape 15"/>
          <p:cNvSpPr/>
          <p:nvPr/>
        </p:nvSpPr>
        <p:spPr>
          <a:xfrm rot="10800000">
            <a:off x="4952520" y="4114800"/>
            <a:ext cx="304920" cy="2209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7"/>
                </a:lnTo>
                <a:cubicBezTo>
                  <a:pt x="10800" y="9917"/>
                  <a:pt x="5400" y="10817"/>
                  <a:pt x="0" y="10817"/>
                </a:cubicBezTo>
                <a:cubicBezTo>
                  <a:pt x="5400" y="10817"/>
                  <a:pt x="10800" y="11717"/>
                  <a:pt x="10800" y="126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9" name="Rectangle 16"/>
          <p:cNvSpPr/>
          <p:nvPr/>
        </p:nvSpPr>
        <p:spPr>
          <a:xfrm>
            <a:off x="3254400" y="29653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0" name="Rectangle 17"/>
          <p:cNvSpPr/>
          <p:nvPr/>
        </p:nvSpPr>
        <p:spPr>
          <a:xfrm>
            <a:off x="1900080" y="3413160"/>
            <a:ext cx="30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elationship managemen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1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3B66-D576-40E0-9A16-0538C915B6E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4"/>
          <p:cNvSpPr/>
          <p:nvPr/>
        </p:nvSpPr>
        <p:spPr>
          <a:xfrm>
            <a:off x="2138760" y="2826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Cambria"/>
              </a:rPr>
              <a:t>Phase IV : PPP Project Management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3736440" y="144792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imes New Roman"/>
              </a:rPr>
              <a:t>Project Execution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4296240" y="220968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1828800" y="3048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 trus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6" name="AutoShape 8"/>
          <p:cNvSpPr/>
          <p:nvPr/>
        </p:nvSpPr>
        <p:spPr>
          <a:xfrm rot="10803000">
            <a:off x="3728520" y="3048120"/>
            <a:ext cx="533520" cy="457200"/>
          </a:xfrm>
          <a:prstGeom prst="leftArrow">
            <a:avLst>
              <a:gd name="adj1" fmla="val 56231"/>
              <a:gd name="adj2" fmla="val 44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4488480" y="304812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 Use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8" name="AutoShape 10"/>
          <p:cNvSpPr/>
          <p:nvPr/>
        </p:nvSpPr>
        <p:spPr>
          <a:xfrm rot="10803000">
            <a:off x="6263640" y="3048120"/>
            <a:ext cx="533160" cy="457200"/>
          </a:xfrm>
          <a:prstGeom prst="leftArrow">
            <a:avLst>
              <a:gd name="adj1" fmla="val 56231"/>
              <a:gd name="adj2" fmla="val 4473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9" name="Rectangle 11"/>
          <p:cNvSpPr/>
          <p:nvPr/>
        </p:nvSpPr>
        <p:spPr>
          <a:xfrm>
            <a:off x="7025400" y="304812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 PPP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0" name="Rectangle 12"/>
          <p:cNvSpPr/>
          <p:nvPr/>
        </p:nvSpPr>
        <p:spPr>
          <a:xfrm>
            <a:off x="3780720" y="388620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municatio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1" name="Rectangle 13"/>
          <p:cNvSpPr/>
          <p:nvPr/>
        </p:nvSpPr>
        <p:spPr>
          <a:xfrm>
            <a:off x="2890800" y="4648320"/>
            <a:ext cx="45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litical and Admin Suppor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2" name="Rectangle 14"/>
          <p:cNvSpPr/>
          <p:nvPr/>
        </p:nvSpPr>
        <p:spPr>
          <a:xfrm>
            <a:off x="3644640" y="541008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ispute resolution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3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9F3B-E1E4-4975-9B4A-5C57F5B37F8F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5"/>
          <p:cNvSpPr/>
          <p:nvPr/>
        </p:nvSpPr>
        <p:spPr>
          <a:xfrm>
            <a:off x="175248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imes New Roman"/>
              </a:rPr>
              <a:t>Performance &amp; Knowledge Managemen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3043440" y="533412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ject-level monitoring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6" name="AutoShape 7"/>
          <p:cNvSpPr/>
          <p:nvPr/>
        </p:nvSpPr>
        <p:spPr>
          <a:xfrm rot="10800000">
            <a:off x="6927480" y="502884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7"/>
                </a:lnTo>
                <a:cubicBezTo>
                  <a:pt x="10800" y="9917"/>
                  <a:pt x="5400" y="10817"/>
                  <a:pt x="0" y="10817"/>
                </a:cubicBezTo>
                <a:cubicBezTo>
                  <a:pt x="5400" y="10817"/>
                  <a:pt x="10800" y="11717"/>
                  <a:pt x="10800" y="126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7364520" y="4952880"/>
            <a:ext cx="170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igh performance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7294320" y="563868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Clear performance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measurements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9" name="AutoShape 10"/>
          <p:cNvSpPr/>
          <p:nvPr/>
        </p:nvSpPr>
        <p:spPr>
          <a:xfrm rot="5403000">
            <a:off x="4832280" y="4533840"/>
            <a:ext cx="533520" cy="457200"/>
          </a:xfrm>
          <a:prstGeom prst="leftArrow">
            <a:avLst>
              <a:gd name="adj1" fmla="val 56231"/>
              <a:gd name="adj2" fmla="val 44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0" name="Rectangle 11"/>
          <p:cNvSpPr/>
          <p:nvPr/>
        </p:nvSpPr>
        <p:spPr>
          <a:xfrm>
            <a:off x="2624400" y="3581280"/>
            <a:ext cx="51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onsor knowledge managemen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1" name="AutoShape 12"/>
          <p:cNvSpPr/>
          <p:nvPr/>
        </p:nvSpPr>
        <p:spPr>
          <a:xfrm rot="5403000">
            <a:off x="4832280" y="2857320"/>
            <a:ext cx="533160" cy="457200"/>
          </a:xfrm>
          <a:prstGeom prst="leftArrow">
            <a:avLst>
              <a:gd name="adj1" fmla="val 56231"/>
              <a:gd name="adj2" fmla="val 4473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2" name="Rectangle 13"/>
          <p:cNvSpPr/>
          <p:nvPr/>
        </p:nvSpPr>
        <p:spPr>
          <a:xfrm>
            <a:off x="2588400" y="213372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entral knowledge managemen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3" name="AutoShape 14"/>
          <p:cNvSpPr/>
          <p:nvPr/>
        </p:nvSpPr>
        <p:spPr>
          <a:xfrm rot="1065600">
            <a:off x="1822320" y="2743200"/>
            <a:ext cx="381240" cy="2057400"/>
          </a:xfrm>
          <a:custGeom>
            <a:avLst/>
            <a:gdLst>
              <a:gd name="textAreaLeft" fmla="*/ 51120 w 381240"/>
              <a:gd name="textAreaRight" fmla="*/ 330120 w 38124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4" name="AutoShape 15"/>
          <p:cNvSpPr/>
          <p:nvPr/>
        </p:nvSpPr>
        <p:spPr>
          <a:xfrm flipH="1" rot="20534400">
            <a:off x="7841880" y="2743200"/>
            <a:ext cx="380880" cy="2057400"/>
          </a:xfrm>
          <a:custGeom>
            <a:avLst/>
            <a:gdLst>
              <a:gd name="textAreaLeft" fmla="*/ 50760 w 380880"/>
              <a:gd name="textAreaRight" fmla="*/ 330120 w 38088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4A54-F61C-47A7-BA8C-72A6886AFF5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2138760" y="2826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Cambria"/>
              </a:rPr>
              <a:t>Phase IV : PPP Project Management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0" presetSubtype="1398327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7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0" presetSubtype="1220320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0" presetSubtype="1220368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5"/>
          <p:cNvSpPr/>
          <p:nvPr/>
        </p:nvSpPr>
        <p:spPr>
          <a:xfrm>
            <a:off x="2982960" y="175248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imes New Roman"/>
              </a:rPr>
              <a:t>Relationship Managemen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8" name="Rectangle 6"/>
          <p:cNvSpPr/>
          <p:nvPr/>
        </p:nvSpPr>
        <p:spPr>
          <a:xfrm>
            <a:off x="5041800" y="25909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ong-term partnership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5037120" y="3124080"/>
            <a:ext cx="36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ong-term investment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2200680" y="2819520"/>
            <a:ext cx="12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PP 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3973320" y="2514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2" name="Rectangle 10"/>
          <p:cNvSpPr/>
          <p:nvPr/>
        </p:nvSpPr>
        <p:spPr>
          <a:xfrm>
            <a:off x="3973320" y="3048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4653000" y="419112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≠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4" name="Rectangle 12"/>
          <p:cNvSpPr/>
          <p:nvPr/>
        </p:nvSpPr>
        <p:spPr>
          <a:xfrm>
            <a:off x="3139560" y="426708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5" name="Rectangle 13"/>
          <p:cNvSpPr/>
          <p:nvPr/>
        </p:nvSpPr>
        <p:spPr>
          <a:xfrm>
            <a:off x="5269320" y="428148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tract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6" name="Rectangle 14"/>
          <p:cNvSpPr/>
          <p:nvPr/>
        </p:nvSpPr>
        <p:spPr>
          <a:xfrm>
            <a:off x="3700080" y="527220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argins coun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7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B4EF-5639-4789-87F4-62244CBB76B5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2138760" y="2826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Cambria"/>
              </a:rPr>
              <a:t>Phase IV : PPP Project Management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4"/>
          <p:cNvSpPr/>
          <p:nvPr/>
        </p:nvSpPr>
        <p:spPr>
          <a:xfrm>
            <a:off x="2272320" y="304920"/>
            <a:ext cx="67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Cambria"/>
              </a:rPr>
              <a:t>Phase IV :PPP Auditing &amp; Oversight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2149200" y="220968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Auditing for regulatory and financial compliance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3254040" y="344340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Independent external auditor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2574360" y="4738680"/>
            <a:ext cx="55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Quarterly review by PPP governing body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ECA8-4AA3-4A41-AEC1-68784002A17F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4"/>
          <p:cNvSpPr/>
          <p:nvPr/>
        </p:nvSpPr>
        <p:spPr>
          <a:xfrm>
            <a:off x="3907800" y="304920"/>
            <a:ext cx="290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PP Closure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1597320" y="2819520"/>
            <a:ext cx="247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ptions at end of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PP contract period: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4719960" y="28195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Extend PPP with same partne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4718160" y="3352680"/>
            <a:ext cx="39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gency takes over service delivery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4721400" y="396252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ward PPP to new partne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9" name="Rectangle 9"/>
          <p:cNvSpPr/>
          <p:nvPr/>
        </p:nvSpPr>
        <p:spPr>
          <a:xfrm>
            <a:off x="1508400" y="1752480"/>
            <a:ext cx="62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#1 Issue:  Continuity (and transition) of service delivery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0" name="Rectangle 10"/>
          <p:cNvSpPr/>
          <p:nvPr/>
        </p:nvSpPr>
        <p:spPr>
          <a:xfrm>
            <a:off x="2438280" y="51055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llect and publish PPP  lessons learned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1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C52A-8120-49B4-8B81-9905A188B705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4"/>
          <p:cNvSpPr/>
          <p:nvPr/>
        </p:nvSpPr>
        <p:spPr>
          <a:xfrm>
            <a:off x="3232440" y="228600"/>
            <a:ext cx="377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riority Agenda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3" name="Rectangle 5"/>
          <p:cNvSpPr/>
          <p:nvPr/>
        </p:nvSpPr>
        <p:spPr>
          <a:xfrm>
            <a:off x="1521000" y="14367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PPP Governance: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4192200" y="1887480"/>
            <a:ext cx="32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Coordination proces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1612800" y="30621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PPP Analysis: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6" name="Rectangle 8"/>
          <p:cNvSpPr/>
          <p:nvPr/>
        </p:nvSpPr>
        <p:spPr>
          <a:xfrm>
            <a:off x="4525920" y="3062160"/>
            <a:ext cx="39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 case requiremen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7" name="Rectangle 9"/>
          <p:cNvSpPr/>
          <p:nvPr/>
        </p:nvSpPr>
        <p:spPr>
          <a:xfrm>
            <a:off x="4528440" y="41148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sk assessment requiremen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8" name="Rectangle 10"/>
          <p:cNvSpPr/>
          <p:nvPr/>
        </p:nvSpPr>
        <p:spPr>
          <a:xfrm>
            <a:off x="1673280" y="5562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Management: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9" name="Rectangle 11"/>
          <p:cNvSpPr/>
          <p:nvPr/>
        </p:nvSpPr>
        <p:spPr>
          <a:xfrm>
            <a:off x="4191480" y="5562720"/>
            <a:ext cx="38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Stakeholder consultation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0" name="Rectangle 12"/>
          <p:cNvSpPr/>
          <p:nvPr/>
        </p:nvSpPr>
        <p:spPr>
          <a:xfrm>
            <a:off x="4191840" y="599436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Contract management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1" name="Rectangle 13"/>
          <p:cNvSpPr/>
          <p:nvPr/>
        </p:nvSpPr>
        <p:spPr>
          <a:xfrm>
            <a:off x="1673280" y="4876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PPP Selection: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2" name="Rectangle 14"/>
          <p:cNvSpPr/>
          <p:nvPr/>
        </p:nvSpPr>
        <p:spPr>
          <a:xfrm>
            <a:off x="4335120" y="4876920"/>
            <a:ext cx="26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lection criteri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3" name="Rectangle 15"/>
          <p:cNvSpPr/>
          <p:nvPr/>
        </p:nvSpPr>
        <p:spPr>
          <a:xfrm>
            <a:off x="4204800" y="3589200"/>
            <a:ext cx="44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Feasibility study requiremen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4" name="Rectangle 16"/>
          <p:cNvSpPr/>
          <p:nvPr/>
        </p:nvSpPr>
        <p:spPr>
          <a:xfrm>
            <a:off x="4350960" y="1436760"/>
            <a:ext cx="36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entral PPP coordinator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5" name="Rectangle 17"/>
          <p:cNvSpPr/>
          <p:nvPr/>
        </p:nvSpPr>
        <p:spPr>
          <a:xfrm>
            <a:off x="4366080" y="2336760"/>
            <a:ext cx="30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flicts of interest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6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2617-A817-4C1F-97C1-0E32DBCDF8B5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4"/>
          <p:cNvSpPr/>
          <p:nvPr/>
        </p:nvSpPr>
        <p:spPr>
          <a:xfrm>
            <a:off x="2413800" y="228600"/>
            <a:ext cx="52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Central PPP Authority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1801080" y="1752480"/>
            <a:ext cx="56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Establish central PPP Unit with responsibility for: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1523880" y="2517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Maintaining, as needed, specific regulations and standardized method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 PPP procurement procedures, model contracts and documentation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1845720" y="3414600"/>
            <a:ext cx="65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roposing new PPP policies with regard to financial issues for PPP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1523880" y="403704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ublishing guidelines to resolve any obstacles (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</a:rPr>
              <a:t>e.g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in tax, servic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ricing, use of “special purpose companies” and joint ventures) to use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f PPP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1813680" y="5208480"/>
            <a:ext cx="67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acilitating the setting of priority of PPP projects across government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nd encouraging use of PPP as standard option in e-government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EA92-E5D4-44CB-9A9C-41B1E11A88E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4"/>
          <p:cNvSpPr/>
          <p:nvPr/>
        </p:nvSpPr>
        <p:spPr>
          <a:xfrm>
            <a:off x="2783520" y="297000"/>
            <a:ext cx="466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Conflicts of Interest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870280" y="1573200"/>
            <a:ext cx="47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Standard rule against conflicts of interest: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1419120" y="2362320"/>
            <a:ext cx="8534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Any person or entity that has a potential conflict of interest in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erforming their official duties during the PPP lifecycle – fo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example due to their financial interests or personal relationships –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must report this to appropriate authorities prior to the exercise of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that person or entity’s duty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7" name="Rectangle 8"/>
          <p:cNvSpPr/>
          <p:nvPr/>
        </p:nvSpPr>
        <p:spPr>
          <a:xfrm>
            <a:off x="1447920" y="490392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In general, persons or entities with a potential conflict of interest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ith respect to a PPP project shall remove themselve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from the decision-making process for that PPP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339E-C8B7-4B55-94A7-53F65A6CEB1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620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Rationa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4760" y="2133360"/>
            <a:ext cx="6933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o establish a framework that will help government to achieve the best outcome of PPP, which is driven by increased need of efficiency and quality of E-Gov services delivered.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Secondly, the need for cost saving, access to advanced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chnologies and resources and minimizing the risk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A3CD-85B6-4FEE-BC9C-3BFB195982D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4"/>
          <p:cNvSpPr/>
          <p:nvPr/>
        </p:nvSpPr>
        <p:spPr>
          <a:xfrm>
            <a:off x="2823120" y="228600"/>
            <a:ext cx="508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Use of Business Case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1944360" y="1461960"/>
            <a:ext cx="626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Business plan (and tender docs) should clearly describe: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1" name="Rectangle 6"/>
          <p:cNvSpPr/>
          <p:nvPr/>
        </p:nvSpPr>
        <p:spPr>
          <a:xfrm>
            <a:off x="1531080" y="1995480"/>
            <a:ext cx="26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ervices being delivered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1528920" y="2390760"/>
            <a:ext cx="44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Business, technical and procurement option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1527120" y="2757600"/>
            <a:ext cx="59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trategic alignment with the business plan of sponsor agenc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1547640" y="3138480"/>
            <a:ext cx="67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perational impact on sponsor agency and delivery of public servic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1533600" y="353376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takeholders and their business requirement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552320" y="3990960"/>
            <a:ext cx="37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ricing / revenue sharing for servic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7" name="Rectangle 12"/>
          <p:cNvSpPr/>
          <p:nvPr/>
        </p:nvSpPr>
        <p:spPr>
          <a:xfrm>
            <a:off x="1938960" y="435780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Resources needed from government partner (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including human resources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8" name="Rectangle 13"/>
          <p:cNvSpPr/>
          <p:nvPr/>
        </p:nvSpPr>
        <p:spPr>
          <a:xfrm>
            <a:off x="1594800" y="4829040"/>
            <a:ext cx="48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easibility, risk assessment and risk manageme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9" name="Rectangle 14"/>
          <p:cNvSpPr/>
          <p:nvPr/>
        </p:nvSpPr>
        <p:spPr>
          <a:xfrm>
            <a:off x="1603800" y="5272200"/>
            <a:ext cx="36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mplementation strategy / timetab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0" name="Rectangle 15"/>
          <p:cNvSpPr/>
          <p:nvPr/>
        </p:nvSpPr>
        <p:spPr>
          <a:xfrm>
            <a:off x="1605240" y="5729400"/>
            <a:ext cx="42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ntract management processes and tool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1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FDD6-CBA1-4833-A551-4B46A81E02EF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4"/>
          <p:cNvSpPr/>
          <p:nvPr/>
        </p:nvSpPr>
        <p:spPr>
          <a:xfrm>
            <a:off x="2935080" y="228600"/>
            <a:ext cx="397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Risk Assessment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3276360" y="1371600"/>
            <a:ext cx="34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Areas of risk to consider: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1765440" y="1981080"/>
            <a:ext cx="63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Reduced demand for service or failure to realize projected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increases Revenue and cash flow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5" name="Rectangle 8"/>
          <p:cNvSpPr/>
          <p:nvPr/>
        </p:nvSpPr>
        <p:spPr>
          <a:xfrm>
            <a:off x="1774800" y="2725560"/>
            <a:ext cx="66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Operational risks (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</a:rPr>
              <a:t>e.g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failures in deployment or degraded servic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qualit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6" name="Rectangle 9"/>
          <p:cNvSpPr/>
          <p:nvPr/>
        </p:nvSpPr>
        <p:spPr>
          <a:xfrm>
            <a:off x="1566360" y="3470400"/>
            <a:ext cx="23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Infrastructure cost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1562760" y="3909960"/>
            <a:ext cx="31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olitical / Regulatory risk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8" name="Rectangle 11"/>
          <p:cNvSpPr/>
          <p:nvPr/>
        </p:nvSpPr>
        <p:spPr>
          <a:xfrm>
            <a:off x="1697040" y="4349880"/>
            <a:ext cx="69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Technology (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</a:rPr>
              <a:t>e.g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failure of existing ICT or inappropriate ICT choic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9" name="Rectangle 12"/>
          <p:cNvSpPr/>
          <p:nvPr/>
        </p:nvSpPr>
        <p:spPr>
          <a:xfrm>
            <a:off x="1688760" y="4789440"/>
            <a:ext cx="50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Financial strength of private sector partner(s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0" name="Rectangle 13"/>
          <p:cNvSpPr/>
          <p:nvPr/>
        </p:nvSpPr>
        <p:spPr>
          <a:xfrm>
            <a:off x="1616400" y="5229360"/>
            <a:ext cx="45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Inflation / foreign exchange fluctuation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1" name="Rectangle 14"/>
          <p:cNvSpPr/>
          <p:nvPr/>
        </p:nvSpPr>
        <p:spPr>
          <a:xfrm>
            <a:off x="1742400" y="5668920"/>
            <a:ext cx="60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ew risks are introduced because private partners will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deliver service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2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CCE4-D0F9-4BF0-8F51-6281944D933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4"/>
          <p:cNvSpPr/>
          <p:nvPr/>
        </p:nvSpPr>
        <p:spPr>
          <a:xfrm>
            <a:off x="3155760" y="228600"/>
            <a:ext cx="325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PP Selection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2796480" y="1447920"/>
            <a:ext cx="49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PPP selection criteria might include: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5" name="Rectangle 6"/>
          <p:cNvSpPr/>
          <p:nvPr/>
        </p:nvSpPr>
        <p:spPr>
          <a:xfrm>
            <a:off x="1788120" y="2590920"/>
            <a:ext cx="71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Appropriateness of PPP for objectives and needs of E-Gov projec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1527120" y="2133720"/>
            <a:ext cx="34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Value-for-money  (feasibility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7" name="Rectangle 8"/>
          <p:cNvSpPr/>
          <p:nvPr/>
        </p:nvSpPr>
        <p:spPr>
          <a:xfrm>
            <a:off x="1483560" y="304812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Cos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1655640" y="3505320"/>
            <a:ext cx="592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Ability to effectively implement and manage a projec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9" name="Rectangle 10"/>
          <p:cNvSpPr/>
          <p:nvPr/>
        </p:nvSpPr>
        <p:spPr>
          <a:xfrm>
            <a:off x="1662480" y="4038480"/>
            <a:ext cx="46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Viability of revenue sources and forecast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0" name="Rectangle 11"/>
          <p:cNvSpPr/>
          <p:nvPr/>
        </p:nvSpPr>
        <p:spPr>
          <a:xfrm>
            <a:off x="1528200" y="457200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Availability of skills needed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1" name="Rectangle 12"/>
          <p:cNvSpPr/>
          <p:nvPr/>
        </p:nvSpPr>
        <p:spPr>
          <a:xfrm>
            <a:off x="1523880" y="5089680"/>
            <a:ext cx="23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Time to implemen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2" name="Rectangle 13"/>
          <p:cNvSpPr/>
          <p:nvPr/>
        </p:nvSpPr>
        <p:spPr>
          <a:xfrm>
            <a:off x="1701360" y="5562720"/>
            <a:ext cx="62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Financial and legal risks in partnering with private secto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682D-2B76-4219-A03E-A143C036662B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5"/>
          <p:cNvSpPr/>
          <p:nvPr/>
        </p:nvSpPr>
        <p:spPr>
          <a:xfrm>
            <a:off x="3454200" y="228600"/>
            <a:ext cx="337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PP Contract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2548440" y="1355760"/>
            <a:ext cx="60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Areas addressed in a standard PPP contract: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1779480" y="1889280"/>
            <a:ext cx="706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roject objectives, quantitative outcomes, performance indicator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7" name="Rectangle 8"/>
          <p:cNvSpPr/>
          <p:nvPr/>
        </p:nvSpPr>
        <p:spPr>
          <a:xfrm>
            <a:off x="1783440" y="2287440"/>
            <a:ext cx="69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ayment mechanism (based on availability, demand and quality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8" name="Rectangle 9"/>
          <p:cNvSpPr/>
          <p:nvPr/>
        </p:nvSpPr>
        <p:spPr>
          <a:xfrm>
            <a:off x="1666080" y="2684520"/>
            <a:ext cx="53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Sharing of additional yields and excessive profi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9" name="Rectangle 10"/>
          <p:cNvSpPr/>
          <p:nvPr/>
        </p:nvSpPr>
        <p:spPr>
          <a:xfrm>
            <a:off x="1733400" y="308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Consequences of contract breach by either party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0" name="Rectangle 11"/>
          <p:cNvSpPr/>
          <p:nvPr/>
        </p:nvSpPr>
        <p:spPr>
          <a:xfrm>
            <a:off x="1660680" y="3481560"/>
            <a:ext cx="49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Restriction of concessionaire's responsibility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1" name="Rectangle 12"/>
          <p:cNvSpPr/>
          <p:nvPr/>
        </p:nvSpPr>
        <p:spPr>
          <a:xfrm>
            <a:off x="1514160" y="387828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Risk sharing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2" name="Rectangle 13"/>
          <p:cNvSpPr/>
          <p:nvPr/>
        </p:nvSpPr>
        <p:spPr>
          <a:xfrm>
            <a:off x="1569960" y="427680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Change Mechanism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3" name="Rectangle 14"/>
          <p:cNvSpPr/>
          <p:nvPr/>
        </p:nvSpPr>
        <p:spPr>
          <a:xfrm>
            <a:off x="1447920" y="4675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Agency’s right to withdraw from project at its discretion with    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fair compensation to private partne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4" name="Rectangle 15"/>
          <p:cNvSpPr/>
          <p:nvPr/>
        </p:nvSpPr>
        <p:spPr>
          <a:xfrm>
            <a:off x="1780200" y="539424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hat happens with assets after PPP contract end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5" name="Rectangle 16"/>
          <p:cNvSpPr/>
          <p:nvPr/>
        </p:nvSpPr>
        <p:spPr>
          <a:xfrm>
            <a:off x="1632960" y="5791320"/>
            <a:ext cx="40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Settlement of disputes and conflict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6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5945-3167-4D24-BDE5-71C26EF78087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59092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Relationship Risk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Relationship risks that exist when external resources are chosen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over internal resources. These risks includ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xpectations on service delivery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Vendor responsiveness to the need for improvements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Vendor failure to deliver on time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Impact on staff—job satisfaction, morale, workload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ED69-85C7-4F89-A0AF-4A990D6B94C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4"/>
          <p:cNvSpPr/>
          <p:nvPr/>
        </p:nvSpPr>
        <p:spPr>
          <a:xfrm>
            <a:off x="3465360" y="228600"/>
            <a:ext cx="24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Why Fail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1" name="Text Box 5"/>
          <p:cNvSpPr/>
          <p:nvPr/>
        </p:nvSpPr>
        <p:spPr>
          <a:xfrm>
            <a:off x="1984680" y="2133720"/>
            <a:ext cx="694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hort term focu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Failure to understand the project motivation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oor communication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Failure to recognize risk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Failure to identify risk until contract signed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Inadequate or none existence of SLA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(service level agreement)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Reward contract at low price approach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No performance measures  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0B2D-0870-4B38-B16D-7CDF566C7E28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4"/>
          <p:cNvSpPr/>
          <p:nvPr/>
        </p:nvSpPr>
        <p:spPr>
          <a:xfrm>
            <a:off x="20574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After Signing the Contract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618560" y="1523880"/>
            <a:ext cx="7349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8080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The people who come to know us in the sales cycle go away once th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contract is signed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-How can vendors be flexible during negotiation and not in delivery?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-I expected detail processes for implementation then I got (How d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you want to do this?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-Insufficient effort during the discovery phase, it will come out in th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delivery phase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-Do the vendor have a track record with others.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-There was no transition plan, I want to see tools that would facilitat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the transition.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C2EE-CFCC-4FE6-8532-42A7101EDF9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3126600" y="231480"/>
            <a:ext cx="315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Pre-contract 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7" name="Text Box 5"/>
          <p:cNvSpPr/>
          <p:nvPr/>
        </p:nvSpPr>
        <p:spPr>
          <a:xfrm>
            <a:off x="1398600" y="1447920"/>
            <a:ext cx="775836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efined the nee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Focus on result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: Not procedures or processe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Be accurat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: Do not guess what is to be expected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Be comprehensiv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: Cover all issues and express all expectation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Be detaile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: Cover all desired outcom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Be specific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: Illustrate in the needed outcom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Be measurab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: include performance requirements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evelop the means and methods to meet the needs: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Sitting the expectations for both partie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Know the: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- Wha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- When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- Wher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- How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of the contract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29D6-0788-47D6-AA52-94B2B1F241E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4"/>
          <p:cNvSpPr/>
          <p:nvPr/>
        </p:nvSpPr>
        <p:spPr>
          <a:xfrm>
            <a:off x="205740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Make it Successful 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0" name="Text Box 5"/>
          <p:cNvSpPr/>
          <p:nvPr/>
        </p:nvSpPr>
        <p:spPr>
          <a:xfrm>
            <a:off x="2711520" y="2146320"/>
            <a:ext cx="5137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Always think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80808"/>
                </a:solidFill>
                <a:latin typeface="Cambria"/>
              </a:rPr>
              <a:t>Win-Win</a:t>
            </a:r>
            <a:endParaRPr b="0" lang="en-US" sz="9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D534-25A7-4842-9DBE-4251F605183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5" descr="Picture1"/>
          <p:cNvPicPr/>
          <p:nvPr/>
        </p:nvPicPr>
        <p:blipFill>
          <a:blip r:embed="rId1"/>
          <a:stretch/>
        </p:blipFill>
        <p:spPr>
          <a:xfrm>
            <a:off x="3174840" y="2819520"/>
            <a:ext cx="4978440" cy="189360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6"/>
          <p:cNvSpPr/>
          <p:nvPr/>
        </p:nvSpPr>
        <p:spPr>
          <a:xfrm>
            <a:off x="4224240" y="228600"/>
            <a:ext cx="18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Thank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8FDE-EAFD-4907-A3B5-6D3CB2A7357E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Framework Objectiv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057400" y="1892880"/>
            <a:ext cx="6553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Developing a comprehensive framework to govern the use of public-private partnerships (PPP) for e-government in the Kingdom of Saudi Arabia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In compliance with the Council of Ministers resolution No. 110 dated 5/4/1425.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49F9-C691-4DC3-894C-3700BFB1EA8C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66720" y="-3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Challeng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4389480" y="3305160"/>
            <a:ext cx="1906560" cy="85572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465800" y="3533760"/>
            <a:ext cx="17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新細明體"/>
              </a:rPr>
              <a:t>Government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4587840" y="21304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Globalizatio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8" name="AutoShape 12"/>
          <p:cNvSpPr/>
          <p:nvPr/>
        </p:nvSpPr>
        <p:spPr>
          <a:xfrm flipV="1" rot="16197000">
            <a:off x="5137920" y="2709000"/>
            <a:ext cx="385560" cy="358560"/>
          </a:xfrm>
          <a:prstGeom prst="leftArrow">
            <a:avLst>
              <a:gd name="adj1" fmla="val 56231"/>
              <a:gd name="adj2" fmla="val 412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1832040" y="324180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Consumer / Customer Expectation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 rot="10803000">
            <a:off x="3779640" y="3533760"/>
            <a:ext cx="415800" cy="331920"/>
          </a:xfrm>
          <a:prstGeom prst="leftArrow">
            <a:avLst>
              <a:gd name="adj1" fmla="val 56231"/>
              <a:gd name="adj2" fmla="val 480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7209000" y="340992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Technology Innovatio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2" name="AutoShape 16"/>
          <p:cNvSpPr/>
          <p:nvPr/>
        </p:nvSpPr>
        <p:spPr>
          <a:xfrm flipH="1" rot="10797000">
            <a:off x="6446160" y="3533400"/>
            <a:ext cx="417600" cy="330120"/>
          </a:xfrm>
          <a:prstGeom prst="leftArrow">
            <a:avLst>
              <a:gd name="adj1" fmla="val 56231"/>
              <a:gd name="adj2" fmla="val 485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4461120" y="5057640"/>
            <a:ext cx="190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Limited Resources 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Skill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4" name="AutoShape 18"/>
          <p:cNvSpPr/>
          <p:nvPr/>
        </p:nvSpPr>
        <p:spPr>
          <a:xfrm rot="5403000">
            <a:off x="5136120" y="4386600"/>
            <a:ext cx="387360" cy="357120"/>
          </a:xfrm>
          <a:prstGeom prst="leftArrow">
            <a:avLst>
              <a:gd name="adj1" fmla="val 56231"/>
              <a:gd name="adj2" fmla="val 416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5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00BA-A7C2-4999-B982-55BD962FA2C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609560" y="14191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Globalization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2525400" y="15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433960" y="202896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ustomers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132360" y="2638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Technology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4122720" y="30956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Resources / Skills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5862960" y="2990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158640" y="2257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4069080" y="27399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1"/>
          <a:stretch/>
        </p:blipFill>
        <p:spPr>
          <a:xfrm>
            <a:off x="6324480" y="2590920"/>
            <a:ext cx="1828800" cy="1368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6"/>
          <p:cNvSpPr/>
          <p:nvPr/>
        </p:nvSpPr>
        <p:spPr>
          <a:xfrm>
            <a:off x="5943600" y="4038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ssur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498560" y="4746600"/>
            <a:ext cx="39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n governments to change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3885840" y="304920"/>
            <a:ext cx="32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New Formula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120400" y="5638680"/>
            <a:ext cx="36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-Government  +  PPP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5813280" y="5575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6348240" y="5429160"/>
            <a:ext cx="218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vernment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novation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1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CC6C-F0C2-47B0-9235-0D9DB480FFB3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7"/>
          <p:cNvSpPr/>
          <p:nvPr/>
        </p:nvSpPr>
        <p:spPr>
          <a:xfrm>
            <a:off x="3429000" y="2362320"/>
            <a:ext cx="3124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17aa4"/>
              </a:gs>
              <a:gs pos="100000">
                <a:srgbClr val="43384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Project Stage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316320" y="228600"/>
            <a:ext cx="501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ambria"/>
              </a:rPr>
              <a:t>Scope of Work Track 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6858000" y="3124080"/>
            <a:ext cx="1371600" cy="15242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272d0"/>
              </a:gs>
              <a:gs pos="100000">
                <a:srgbClr val="353560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5638680" y="3124080"/>
            <a:ext cx="1447920" cy="1524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aa6b0"/>
              </a:gs>
              <a:gs pos="100000">
                <a:srgbClr val="384d51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495680" y="3124080"/>
            <a:ext cx="1373400" cy="1524240"/>
          </a:xfrm>
          <a:custGeom>
            <a:avLst/>
            <a:gdLst>
              <a:gd name="textAreaLeft" fmla="*/ 0 w 1373400"/>
              <a:gd name="textAreaRight" fmla="*/ 1373760 w 137340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76669a"/>
              </a:gs>
              <a:gs pos="100000">
                <a:srgbClr val="372f4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276720" y="3124080"/>
            <a:ext cx="1447560" cy="152424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77b89"/>
              </a:gs>
              <a:gs pos="100000">
                <a:srgbClr val="19393f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3556800" y="3581280"/>
            <a:ext cx="108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PP Polic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amework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834800" y="3581280"/>
            <a:ext cx="8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nu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947920" y="3581280"/>
            <a:ext cx="102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emplate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7013160" y="3762360"/>
            <a:ext cx="12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ap analysi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2" name="AutoShape 25"/>
          <p:cNvSpPr/>
          <p:nvPr/>
        </p:nvSpPr>
        <p:spPr>
          <a:xfrm>
            <a:off x="2057400" y="3124080"/>
            <a:ext cx="1447920" cy="1524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2289600" y="358128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adines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4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C43D-8619-4F65-A6F1-60C8DBC5EB2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2362320" y="1600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Yesser PPP Framework development Projec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09:05:00Z</dcterms:created>
  <dc:creator>Eng. Suhail Al-Almaee</dc:creator>
  <dc:description/>
  <dc:language>en-US</dc:language>
  <cp:lastModifiedBy>Maya</cp:lastModifiedBy>
  <dcterms:modified xsi:type="dcterms:W3CDTF">2008-02-22T19:34:16Z</dcterms:modified>
  <cp:revision>297</cp:revision>
  <dc:subject/>
  <dc:title>Saudi E-Gov PPP Framework</dc:title>
</cp:coreProperties>
</file>