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A090-323B-4C3B-90F6-F2A0DBF7B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440440" y="2561040"/>
            <a:ext cx="44326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jectives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pert Group Mee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ovanni Savio, UN-ESC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Expert Group Meeting on National Ac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airo, 12-14 May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yriad Pro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stablish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ble for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exchange of vie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onsul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discu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dec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main issues for NA harmonization at reg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ackle relevant issues in SNA 2008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y at global and regional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challenges (classifications, constant prices and rebasing, back-recalculation, Q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issues relevant at regional level (mineral exploration, FISIM etc.) and exhaustive estimation of NA, including informal sector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inalize an inventory of sources and methods of NA estimation in the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7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s undertaken by the ESCWA (with partners) in latest few years in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89"/>
              </a:spcBef>
              <a:buClr>
                <a:srgbClr val="ff0066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gional Workshop on NA, Cairo, Dec.  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89"/>
              </a:spcBef>
              <a:buClr>
                <a:srgbClr val="ff0066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ational Workshop on Estimation of NA at Constant Prices for Iraqi Officials, Cairo, Oct.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89"/>
              </a:spcBef>
              <a:buClr>
                <a:srgbClr val="ff0066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cal assistance through Regional Advisor in NA &amp; ES since January 2007: </a:t>
            </a:r>
            <a:r>
              <a:rPr b="0" lang="en-GB" sz="2200" spc="-1" strike="noStrike">
                <a:solidFill>
                  <a:srgbClr val="ff9900"/>
                </a:solidFill>
                <a:latin typeface="Arial"/>
                <a:ea typeface="Times New Roman"/>
              </a:rPr>
              <a:t>25 missions to 7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89"/>
              </a:spcBef>
              <a:buClr>
                <a:srgbClr val="ff0066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Account Project on Informal Sector and Informal Employ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7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ture activities plan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ff0066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pert Group Meeting on NA &amp; ES,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ff0066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rom outcomes/recommendations of this EG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yriad Pro"/>
              </a:rPr>
              <a:t>Actions undertaken and the fut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7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rst day, 12 Ma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51"/>
              </a:spcBef>
              <a:buClr>
                <a:srgbClr val="ff0066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ssue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Updating on recent development for SNA 2008, future steps, global implementati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51"/>
              </a:spcBef>
              <a:buClr>
                <a:srgbClr val="ff0066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Issue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Assessment of NA practices in the ESCWA region (booklet on sources and metho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814"/>
              </a:spcBef>
              <a:buClr>
                <a:srgbClr val="ff0066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Issue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Countries’ presentation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81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7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cond day, 13 Ma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66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Issu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Main challenges (classifications, constant prices, back-recalculation and rebasing, QNA, other it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0066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Issue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Exhaustivity and the informal sect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yriad Pro"/>
              </a:rPr>
              <a:t>Agenda of EG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7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rd day, 14 Ma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814"/>
              </a:spcBef>
              <a:buClr>
                <a:srgbClr val="ff0066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ssue 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contd.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haustivity and the informal sect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51"/>
              </a:spcBef>
              <a:buClr>
                <a:srgbClr val="ff0066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Issue 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Implementation strategy for SN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51"/>
              </a:spcBef>
              <a:buClr>
                <a:srgbClr val="ff0066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Issue 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Evaluation and future steps, including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yriad Pro"/>
              </a:rPr>
              <a:t>Agenda of EG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8:27:11Z</dcterms:created>
  <dc:creator>User</dc:creator>
  <dc:description/>
  <dc:language>en-US</dc:language>
  <cp:lastModifiedBy> </cp:lastModifiedBy>
  <dcterms:modified xsi:type="dcterms:W3CDTF">2009-04-28T05:48:27Z</dcterms:modified>
  <cp:revision>68</cp:revision>
  <dc:subject/>
  <dc:title>Mai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ReviewCycleID">
    <vt:r8>-129936745</vt:r8>
  </property>
</Properties>
</file>