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B4D-31A6-4408-AA51-6E497D3D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EEA-A054-47E9-BFDF-89FCB1E7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1CC-B09D-42EB-BC88-34366A9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DA5-98AC-48C2-AE18-E95AEED5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A993-7764-4210-B7BC-CF6B1E7E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6AB4-67E4-4200-B3BD-CA9E0FC1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48BB3-A91F-4C91-A913-3305EF4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6481-391F-4BB9-9E7B-66D783B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04B2D-E27A-4FB1-A75F-76C8C57D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1D7A1-7424-4972-B65A-2FAD2EB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A961-13BA-480F-A615-F01F973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7AD-C3BA-4418-9F62-F167290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F698-F491-42B3-8546-5F0C275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5DC5C-B4F8-463B-8719-8C74540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33FC-8BB3-442B-9600-95E34B1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CD62A-E77A-4B44-B5E5-4A0D625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6494B-91BF-4561-919A-DEAC4F75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C54-8BE3-4C8A-8D23-4BDCF78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583-9617-45D2-8A4E-5099B7D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6A0-1F3A-44FE-9DE1-676B0C4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A4A-1898-4FF9-91B0-D463222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21D-90AC-477B-955C-79016CD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AB7-6C85-4243-BD26-9687D87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010-BEBE-42EA-8793-CDCF8412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F978-8F20-4592-AF93-FBA77DAB4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DCE7-A174-40AA-B9D4-39BADC2FD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9600" spc="-1" strike="noStrike">
                <a:solidFill>
                  <a:srgbClr val="ffffff"/>
                </a:solidFill>
                <a:latin typeface="Tahoma"/>
              </a:rPr>
              <a:t>دراسة الهجرة</a:t>
            </a:r>
            <a:r>
              <a:rPr b="0" lang="ar-DZ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من خلال الإحصاء ا الجزائر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لسنة </a:t>
            </a: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900" spc="-1" strike="noStrike">
                <a:solidFill>
                  <a:srgbClr val="ffffff"/>
                </a:solidFill>
                <a:latin typeface="Tahoma"/>
              </a:rPr>
              <a:t>تقديم : ع. بن بله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ar-DZ" sz="1900" spc="-1" strike="noStrike">
                <a:solidFill>
                  <a:srgbClr val="ffffff"/>
                </a:solidFill>
                <a:latin typeface="Tahoma"/>
              </a:rPr>
              <a:t>د.و.ا الجزائر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38163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الهجرة (الدخول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استمارة الإحصاء العام لسنة 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 تضمنت سؤالين للمقيمين في الجزائر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سؤال حول مكان ولادته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سؤال حول إقامتهم في سنة 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 و سنة 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تسمح بمعرفة التنقلات الداخلية خلال هذه الفترة و تسمح أيضا بمعرفة القادمين الى الجزائر من الخارج</a:t>
            </a:r>
            <a:r>
              <a:rPr b="0" lang="ar-DZ" sz="24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26920" y="260280"/>
          <a:ext cx="8057880" cy="334800"/>
        </p:xfrm>
        <a:graphic>
          <a:graphicData uri="http://schemas.openxmlformats.org/drawingml/2006/table">
            <a:tbl>
              <a:tblPr/>
              <a:tblGrid>
                <a:gridCol w="2940120"/>
                <a:gridCol w="5117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TE  |_</a:t>
                      </a:r>
                      <a:r>
                        <a:rPr b="1" lang="ar-DZ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abic Transparent"/>
                        </a:rPr>
                        <a:t>5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abic Transparent"/>
                        </a:rPr>
                        <a:t>_| 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Arabic Transparent"/>
                        </a:rPr>
                        <a:t>مغادرة الوطن (الهجرة) خلال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abic Transparent"/>
                        </a:rPr>
                        <a:t>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abic Transparent"/>
                        </a:rPr>
                        <a:t> سنوات الماضي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-388800" y="-102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21240" y="-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21240" y="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27640" y="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27640" y="16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21240" y="-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21240" y="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27640" y="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27640" y="16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21240" y="-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1240" y="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27640" y="16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27640" y="2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620640"/>
          <a:ext cx="8785440" cy="6075360"/>
        </p:xfrm>
        <a:graphic>
          <a:graphicData uri="http://schemas.openxmlformats.org/drawingml/2006/table">
            <a:tbl>
              <a:tblPr/>
              <a:tblGrid>
                <a:gridCol w="1190880"/>
                <a:gridCol w="1257120"/>
                <a:gridCol w="720720"/>
                <a:gridCol w="938160"/>
                <a:gridCol w="933480"/>
                <a:gridCol w="841320"/>
                <a:gridCol w="887400"/>
                <a:gridCol w="1224000"/>
                <a:gridCol w="792360"/>
              </a:tblGrid>
              <a:tr h="730440">
                <a:tc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|___|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1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ar-DZ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: 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هل حدثت حالات هجرة إلي الخارج خلال 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5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سنوات الأخيرة لأشخاص  بالغين 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15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سنة فما فوق و كانوا أعضاء في الأسر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- سجل عدد الحالات وأملأ الجدول إذا كان الجواب "نعم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- سجل 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إذا كان الجواب "لا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gridSpan="9">
                  <a:txBody>
                    <a:bodyPr lIns="18000" rIns="72000" tIns="18000" bIns="180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2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مميزات الشخص أثناء مغادرة الأسر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72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P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560">
                <a:tc gridSpan="2" rowSpan="3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اسم و اللقب و 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رقم الترتيبي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تاريخ المغادر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جن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سن عند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المغادرة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حالة الزواجي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ى التعليم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حالة الفردية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4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سجل شهر وسنة المغادر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 ذك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أنثى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سجل 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سن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ند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غادر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1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-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أعزب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2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-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متزو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3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-  مطلق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4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ahoma"/>
                          <a:ea typeface="Arabic Transparent"/>
                        </a:rPr>
                        <a:t> – أرمل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10800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 بدون مستوى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ابتدائ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3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– متوس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4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.ثانو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5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جامع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6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– غير معن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108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10800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شتغل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بطال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3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-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طالب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4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–حالة أخرى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5</a:t>
                      </a:r>
                      <a:r>
                        <a:rPr b="0" lang="ar-D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–غير معني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108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الشه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ahoma"/>
                          <a:cs typeface="Arabic Transparent"/>
                        </a:rPr>
                        <a:t>السن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8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|__|__| |__|__|__|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|__| |__|__|__|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|__| |__|__|__|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|__| |__|__|__|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___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6553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DZ" sz="6000" spc="-1" strike="noStrike">
                <a:solidFill>
                  <a:srgbClr val="ffffff"/>
                </a:solidFill>
                <a:latin typeface="Tahoma"/>
              </a:rPr>
              <a:t>نموذج تسجيل (استمارة)</a:t>
            </a:r>
            <a:r>
              <a:rPr b="1" lang="ar-DZ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50760" indent="0" algn="r" rtl="1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6000" spc="-1" strike="noStrike">
                <a:solidFill>
                  <a:srgbClr val="ffffff"/>
                </a:solidFill>
                <a:latin typeface="Tahoma"/>
              </a:rPr>
              <a:t>نموذج التسجيل (رقم </a:t>
            </a: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DZ" sz="6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DZ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6000" spc="-1" strike="noStrike">
                <a:solidFill>
                  <a:srgbClr val="ffffff"/>
                </a:solidFill>
                <a:latin typeface="Arabic Transparent"/>
              </a:rPr>
              <a:t>  </a:t>
            </a:r>
            <a:r>
              <a:rPr b="0" lang="ar-DZ" sz="4800" spc="-1" strike="noStrike">
                <a:solidFill>
                  <a:srgbClr val="ffffff"/>
                </a:solidFill>
                <a:latin typeface="Arabic Transparent"/>
              </a:rPr>
              <a:t>لأول مرة أدمجت الجزائر  بمناسبة الإحصاء العام الخامس للسكان و السكن، استمارة مستقلة لدراسة الهجرة الدولية</a:t>
            </a:r>
            <a:r>
              <a:rPr b="0" lang="ar-DZ" sz="6000" spc="-1" strike="noStrike">
                <a:solidFill>
                  <a:srgbClr val="ffffff"/>
                </a:solidFill>
                <a:latin typeface="Arabic Transparent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446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ffffff"/>
                </a:solidFill>
                <a:latin typeface="Tahoma"/>
              </a:rPr>
              <a:t>الفترة المدروسة</a:t>
            </a:r>
            <a:r>
              <a:rPr b="0" lang="ar-DZ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ال</a:t>
            </a:r>
            <a:r>
              <a:rPr b="0" lang="ar-SA" sz="5400" spc="-1" strike="noStrike">
                <a:solidFill>
                  <a:srgbClr val="ffffff"/>
                </a:solidFill>
                <a:latin typeface="Arabic Transparent"/>
              </a:rPr>
              <a:t>مغادرة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</a:t>
            </a:r>
            <a:r>
              <a:rPr b="0" lang="ar-SA" sz="5400" spc="-1" strike="noStrike">
                <a:solidFill>
                  <a:srgbClr val="ffffff"/>
                </a:solidFill>
                <a:latin typeface="Arabic Transparent"/>
              </a:rPr>
              <a:t>إلى الخارج (الهجرة) خلال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abic Transparent"/>
              </a:rPr>
              <a:t> ”</a:t>
            </a:r>
            <a:r>
              <a:rPr b="1" lang="ar-SA" sz="5400" spc="-1" strike="noStrike" u="sng">
                <a:solidFill>
                  <a:srgbClr val="ffffff"/>
                </a:solidFill>
                <a:uFillTx/>
                <a:latin typeface="Arabic Transparent"/>
              </a:rPr>
              <a:t>الخمس سنوات الأخيرة</a:t>
            </a:r>
            <a:r>
              <a:rPr b="1" lang="ar-SA" sz="5400" spc="-1" strike="noStrike">
                <a:solidFill>
                  <a:srgbClr val="ffffff"/>
                </a:solidFill>
                <a:latin typeface="Arabic Transparent"/>
              </a:rPr>
              <a:t>“</a:t>
            </a:r>
            <a:r>
              <a:rPr b="1" lang="ar-SA" sz="5400" spc="-1" strike="noStrike" u="sng">
                <a:solidFill>
                  <a:srgbClr val="ffffff"/>
                </a:solidFill>
                <a:uFillTx/>
                <a:latin typeface="Arabic Transparen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تخص المغادرين ما بين أفريل 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2003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و أفريل 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2008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الهدف من تمديد الفترة المدروسة هو ملاحظة عدد أكبر من الحالات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33336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ffffff"/>
                </a:solidFill>
                <a:latin typeface="Tahoma"/>
              </a:rPr>
              <a:t>الأشخاص المعنيين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85176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Arabic Transparent"/>
              </a:rPr>
              <a:t>السؤال : هل يوجد </a:t>
            </a:r>
            <a:r>
              <a:rPr b="0" lang="ar-DZ" sz="4800" spc="-1" strike="noStrike" u="sng">
                <a:solidFill>
                  <a:srgbClr val="ffffff"/>
                </a:solidFill>
                <a:uFillTx/>
                <a:latin typeface="Arabic Transparent"/>
              </a:rPr>
              <a:t>أشخاص كانوا أعضاء في الأسرة</a:t>
            </a:r>
            <a:r>
              <a:rPr b="0" lang="ar-DZ" sz="4800" spc="-1" strike="noStrike">
                <a:solidFill>
                  <a:srgbClr val="ffffff"/>
                </a:solidFill>
                <a:latin typeface="Arabic Transparent"/>
              </a:rPr>
              <a:t> و هم  الآن </a:t>
            </a:r>
            <a:r>
              <a:rPr b="0" lang="ar-DZ" sz="4800" spc="-1" strike="noStrike" u="sng">
                <a:solidFill>
                  <a:srgbClr val="ffffff"/>
                </a:solidFill>
                <a:uFillTx/>
                <a:latin typeface="Arabic Transparent"/>
              </a:rPr>
              <a:t>مقيمين</a:t>
            </a:r>
            <a:r>
              <a:rPr b="0" lang="ar-DZ" sz="4800" spc="-1" strike="noStrike">
                <a:solidFill>
                  <a:srgbClr val="ffffff"/>
                </a:solidFill>
                <a:latin typeface="Arabic Transparent"/>
              </a:rPr>
              <a:t> في الخارج. و بالتالي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لا يخص إلا الأشخاص الذين لهم صلة عائلية مباشرة مع أسرة مقيمة بصفة دائمة في الجزائر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abic Transparen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لا يخص إلا الأشخاص المقيمين لأكثر من 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6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اشهر في الخارج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</a:t>
            </a:r>
            <a:r>
              <a:rPr b="0" lang="ar-DZ" sz="5400" spc="-1" strike="noStrike" u="sng">
                <a:solidFill>
                  <a:srgbClr val="ffffff"/>
                </a:solidFill>
                <a:uFillTx/>
                <a:latin typeface="Arabic Transparent"/>
              </a:rPr>
              <a:t>النتيجة</a:t>
            </a: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: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 معظم الأفراد هم شبان و عزاب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Arabic Transparent"/>
              </a:rPr>
              <a:t>الأسر الكاملة و معظم العائلات التي هاجرت لا يمكن تغطيتها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4" marL="1944360" indent="0" algn="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6000" spc="-1" strike="noStrike">
                <a:solidFill>
                  <a:srgbClr val="ffffff"/>
                </a:solidFill>
                <a:latin typeface="Tahoma"/>
              </a:rPr>
              <a:t>خصائص المهاجرين</a:t>
            </a:r>
            <a:r>
              <a:rPr b="0" lang="ar-DZ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Tahoma"/>
              </a:rPr>
              <a:t>ملاحظة :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299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Tahoma"/>
              </a:rPr>
              <a:t>هي خصائص متعلقة بلحظة المغادرة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299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 algn="r" rtl="1">
              <a:lnSpc>
                <a:spcPct val="90000"/>
              </a:lnSpc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تاريخ الذهاب</a:t>
            </a:r>
            <a:r>
              <a:rPr b="1" lang="ar-DZ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يسمح بمعرفة الشهر و سنة الذها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يسمح بمعرفة فترة غياب المهاجر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992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 algn="r" rtl="1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جنس المهاجر</a:t>
            </a:r>
            <a:r>
              <a:rPr b="1" lang="ar-DZ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 algn="r" rtl="1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يسمح بتوزيع المهاجرين حسب الجنس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سن المهاجر عند الذهاب</a:t>
            </a:r>
            <a:r>
              <a:rPr b="1" lang="ar-D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r" rtl="1"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يسمح بتوزيع المهاجرين حسب الس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r" rtl="1"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يسمح بمعرفة السن الحالي للمهاجري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5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r" rtl="1">
              <a:spcBef>
                <a:spcPts val="1001"/>
              </a:spcBef>
              <a:buClr>
                <a:srgbClr val="ffff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الحالة الزواجية، المستوى التعليمي و الحالة الفردية للمهاجر</a:t>
            </a: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r" rtl="1"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ffff"/>
                </a:solidFill>
                <a:latin typeface="Tahoma"/>
              </a:rPr>
              <a:t>تسمح بمعرفة خصائص المهاجر حين الذهاب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5440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Tahoma"/>
              </a:rPr>
              <a:t>المعلومات الغير مستقاة</a:t>
            </a: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400" spc="-1" strike="noStrike">
                <a:solidFill>
                  <a:srgbClr val="ffffff"/>
                </a:solidFill>
                <a:latin typeface="Tahoma"/>
              </a:rPr>
              <a:t>بلد الاتجاه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D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Tahoma"/>
              </a:rPr>
              <a:t>هذا السؤال لم يطرح وهذا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DZ" sz="3200" spc="-1" strike="noStrike">
                <a:solidFill>
                  <a:srgbClr val="ffffff"/>
                </a:solidFill>
                <a:latin typeface="Tahoma"/>
              </a:rPr>
              <a:t>لتجنب التصريحات السيئة بسبب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فظ</a:t>
            </a:r>
            <a:r>
              <a:rPr b="0" lang="ar-DZ" sz="3200" spc="-1" strike="noStrike">
                <a:solidFill>
                  <a:srgbClr val="ffffff"/>
                </a:solidFill>
                <a:latin typeface="Tahoma"/>
              </a:rPr>
              <a:t> الأسر</a:t>
            </a:r>
            <a:r>
              <a:rPr b="0" lang="ar-DZ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عدم التأكد بأن البلد المتوجه إليه هو بلد الاقامة النهائ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800" spc="-1" strike="noStrike">
                <a:solidFill>
                  <a:srgbClr val="ffffff"/>
                </a:solidFill>
                <a:latin typeface="Tahoma"/>
              </a:rPr>
              <a:t>سبب الهجرة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Tahoma"/>
              </a:rPr>
              <a:t>لتجنب </a:t>
            </a:r>
            <a:r>
              <a:rPr b="0" lang="ar-DZ" sz="3600" spc="-1" strike="noStrike">
                <a:solidFill>
                  <a:srgbClr val="ffffff"/>
                </a:solidFill>
                <a:latin typeface="Tahoma"/>
              </a:rPr>
              <a:t>عدم التصريح او التصريحات الخاطئ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0:29:34Z</dcterms:created>
  <dc:creator>hachemi</dc:creator>
  <dc:description/>
  <dc:language>en-US</dc:language>
  <cp:lastModifiedBy> </cp:lastModifiedBy>
  <dcterms:modified xsi:type="dcterms:W3CDTF">2009-06-27T06:41:24Z</dcterms:modified>
  <cp:revision>73</cp:revision>
  <dc:subject/>
  <dc:title>Diapositive 1</dc:title>
</cp:coreProperties>
</file>