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7EF-1BD8-4334-9181-0147B2B9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574-4447-4F31-B34E-9B3059E3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ADA-4739-40BC-BA4D-21E8279A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EEC-1273-443D-A9CE-DEE280D6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AB73-134E-4EFA-9DF1-650AF3FF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8F73-F9BF-43F5-A8C2-242E133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452-251D-47E3-928E-1EB7D19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984-657E-4487-9CAA-DE3C869B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15F9-D793-4782-A63A-DD99B3DE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0DF4-6F22-4D6B-8757-622F24A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E5A2-5FE8-4CAA-AEAD-020E739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841-059C-4180-BCE2-BA0B197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CC3C-DFEF-44B6-9375-4823BF0F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F637-3D68-4040-A95A-715AB2B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2237-D928-4B87-9F62-3742D46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CBE-2E76-4CA7-8409-832ABD2B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1EFB-EE8F-4E45-AD47-09548D49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E47-382B-4DF4-8B43-52A31EE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E80-BBD0-44F1-B754-F6FD772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98A-59F3-456F-95AB-BD61A007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DA0-46F0-497C-8DAA-4C946F0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D33-0982-410C-AFA5-7599E06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94D-1B6B-4B98-B4E9-6C6D0DF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5A3-1D09-43ED-B5DA-D2F1FC8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3B22-37EB-495E-B19B-79C2544BF5F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17E4-0E48-4078-BA3F-FA036F19E42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IE" sz="3200" spc="-1" strike="noStrike">
                <a:solidFill>
                  <a:srgbClr val="003366"/>
                </a:solidFill>
                <a:latin typeface="Arial"/>
              </a:rPr>
              <a:t>INTERNATIONAL MIGRATION </a:t>
            </a:r>
            <a:r>
              <a:rPr b="1" lang="lv-LV" sz="3200" spc="-1" strike="noStrike">
                <a:solidFill>
                  <a:srgbClr val="003366"/>
                </a:solidFill>
                <a:latin typeface="Arial"/>
              </a:rPr>
              <a:t>STATISTICS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The challenges and the solutions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2920" y="2491920"/>
            <a:ext cx="408636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6666"/>
                </a:solidFill>
                <a:latin typeface="Arial"/>
              </a:rPr>
              <a:t>UNESCWA / DESA /ALO MEDSTAT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6666"/>
                </a:solidFill>
                <a:latin typeface="Arial"/>
              </a:rPr>
              <a:t>Regional Training Workshop on International Migration Statistics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6666"/>
                </a:solidFill>
                <a:latin typeface="Arial"/>
              </a:rPr>
              <a:t>Cairo – Egypt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6666"/>
                </a:solidFill>
                <a:latin typeface="Arial"/>
              </a:rPr>
              <a:t>30</a:t>
            </a:r>
            <a:r>
              <a:rPr b="0" lang="en-IE" sz="1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6666"/>
                </a:solidFill>
                <a:latin typeface="Arial"/>
              </a:rPr>
              <a:t> June – 3</a:t>
            </a:r>
            <a:r>
              <a:rPr b="0" lang="en-IE" sz="18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0" lang="en-IE" sz="1800" spc="-1" strike="noStrike">
                <a:solidFill>
                  <a:srgbClr val="006666"/>
                </a:solidFill>
                <a:latin typeface="Arial"/>
              </a:rPr>
              <a:t> July 2009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Ann Singleto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ata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2923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inimum variables need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evious country of res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itizensh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3116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Estimating the size and composition of the foreign and migrant popul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rveys in-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ens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esidence permits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opulation registers and/or registers of foreigners and/or censuses and regi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stimates of undocumented mi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ata 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8055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Cens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Administrative regi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Population regis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Other administrative databases relating to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Residence permits/permits to st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Asylum proced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Surveys Large-scale national surveys (eg LF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Customs data; surveys at the bor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stimating migration flows: data sour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-country surv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order surv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yprus, U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us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ulgaria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atabases on residence perm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rance, Portugal, Greece, Roma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opulation registers and/or registers of foreign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,B,CZ,D,E,H,I,FIN,DK,NL,SK,S (+CH, IS, 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stimating stocks of foreign population: data sour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rvey in-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ens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esidence permit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opulation registers and/or registers of the foreign population and/or cenusus + reg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for the us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compatability of concepts and defin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ata quality is often mediocre and coverage is part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ouble coun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timely production and disse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reli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ck of transparency and confidence in th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ck of reliability,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ck of clarity about what the data mea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for policy-mak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he difficulty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onitoring the implementation of legislation and the effectiveness of poli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nticipating and planning for public service prov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lanning for the needs of the local and national labour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was the solution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loser collaboration between Ministries and statistical off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ocumentation of the 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Funding of projects to correct the 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With the collaboration (amongst others) of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ivers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tatistical Off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inis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esearch Institu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was the limitation of these measures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iversity of data collection sys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bsence of a single harmonised definition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ck of political wi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eluctance of authorities to admit the unreliablity and poor quality of som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eluctance of authorities to release statistical data on asylum applications and decisions and illegal immi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ight be the solution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ore transparency; more data users; more user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imely dissemination of compiled, checked and documente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egular Public reports (monthly, quarterly, ann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se of the internet, simple Excel sheets, online 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Where appropriate: acknowledgement of the need to introduce legislation on statistics on migration and asyl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The con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here is a growing need for good quality statistical data on migration and asyl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which is not being met becaus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ight be the solution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Knowing the strengths and the limitations of  obtaining statistical data through voluntary agre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cknowledgement of the need to introduce legislation on community statistics on migration and asyl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blems of quality and comparability stemming fr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ifferent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fin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gislative arrang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ata collection sys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within cou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etween cou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37880" y="1023840"/>
            <a:ext cx="71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  <a:ea typeface="Arial"/>
              </a:rPr>
              <a:t>The context: problems with the da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The causes of these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he difference between concepts and definitions 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Who/what is an international migra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- according to the United N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- according to each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- according to each data collection ag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39640" y="2349360"/>
          <a:ext cx="7850160" cy="4273560"/>
        </p:xfrm>
        <a:graphic>
          <a:graphicData uri="http://schemas.openxmlformats.org/drawingml/2006/table">
            <a:tbl>
              <a:tblPr/>
              <a:tblGrid>
                <a:gridCol w="530280"/>
                <a:gridCol w="3262320"/>
                <a:gridCol w="1091880"/>
                <a:gridCol w="296568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 month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U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time criterio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ermanen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U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 months /1 year (EEA/non-EEA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Z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ermanen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 or 6 month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L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 in the last 6 month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time criterio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 month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L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ermanen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time criterio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ermanen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 month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time criterio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ermanent / 3 month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time criterion / 1 year for (EEA/EEA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Y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V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66"/>
                </a:solidFill>
                <a:latin typeface="Arial"/>
              </a:rPr>
              <a:t>Time criteria defining an immigration </a:t>
            </a:r>
            <a:br>
              <a:rPr sz="2400"/>
            </a:br>
            <a:r>
              <a:rPr b="1" lang="fr-BE" sz="2400" spc="-1" strike="noStrike">
                <a:solidFill>
                  <a:srgbClr val="006666"/>
                </a:solidFill>
                <a:latin typeface="Arial"/>
              </a:rPr>
              <a:t>examples from European Union countries</a:t>
            </a:r>
            <a:br>
              <a:rPr sz="2400"/>
            </a:br>
            <a:r>
              <a:rPr b="1" lang="fr-BE" sz="2400" spc="-1" strike="noStrike">
                <a:solidFill>
                  <a:srgbClr val="006666"/>
                </a:solidFill>
                <a:latin typeface="Arial"/>
              </a:rPr>
              <a:t> (Poulain and al., 2006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The causes of these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ources have been created or exist for administrative, fiscal or planning purposes (other than the collection of migration dat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hey respond to various administrative and policy  needs of the national administration or government not necessarily to the need for harmonised migration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nsequently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here is no single source of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ata from different sources have to be brought toge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at is international migrati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t includes the following categories and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Asyl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empo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Perman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ternational, inter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Citizenship (nationals, non-nationals, acquisition of citizenshi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Dependants/family memb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These categories overlap in the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Data 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Asylum applications and decisions </a:t>
            </a: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Ministries of the Interi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Labour (work permits/residence permits/visa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Ministries of Interior and Employ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Temporary (Work permits/residence permits/visa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Population registration systems, Ministr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Permanent migration (Population censuses, survey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Statistical offi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itizenshi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3366"/>
                </a:solidFill>
                <a:latin typeface="Arial"/>
              </a:rPr>
              <a:t>Ministries of Justice and Interio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llegal immigration (Border control, police and immigration dat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3366"/>
                </a:solidFill>
                <a:latin typeface="Arial"/>
              </a:rPr>
              <a:t>Estima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Retur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3366"/>
                </a:solidFill>
                <a:latin typeface="Arial"/>
              </a:rPr>
              <a:t>Ministries of the Interio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ifferent types of migration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tocks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Flows: immigration and emigration (short and long-ter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syl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abour mi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Family reunification ((re-) form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08:46:49Z</dcterms:created>
  <dc:creator> Ann Singleton</dc:creator>
  <dc:description/>
  <dc:language>en-US</dc:language>
  <cp:lastModifiedBy>nbk</cp:lastModifiedBy>
  <dcterms:modified xsi:type="dcterms:W3CDTF">2009-06-30T06:14:43Z</dcterms:modified>
  <cp:revision>36</cp:revision>
  <dc:subject/>
  <dc:title>MIGRATION AND ASYLUM IN THE EU 25</dc:title>
</cp:coreProperties>
</file>