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8976-B0D4-4B5D-BC8A-5D381E317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F2CD-D6CF-46B1-AE71-ECF3287B5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6EC0-1528-4B5C-9476-9F298071A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FADB-E9FE-495E-95A9-38846457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7D39-21EE-40EE-8666-392F6CC13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318B-011F-4F34-862B-BEBC2D4A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8956-4854-4937-AC64-4EA77CBE5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722B-546F-474E-9C4D-B5DA2BF8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C206-24C5-48A4-B87D-42A4096E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2E52-134F-4306-BA07-88624AD4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46E7-DBB8-4742-93D8-126BA24B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013A-76CE-4866-8F2E-BD6CAA91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E708-89F4-4555-9E59-FEC05AC1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C93B-B67A-418D-8D88-BACEDF93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DC79-FBCE-4F69-857A-95DBC709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253B-7155-41AC-9BCC-D3A4E700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1EC2-6947-49D5-A066-60A83DF8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5C16-0296-4100-9CF7-6272C7034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7DED-D590-4352-91BF-A15FF3E5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A8C3-0675-4002-A896-193BBCBF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1615-B898-48AB-B014-EE47D889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F79F-9C04-4FF5-BD64-1297737B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BDD7-F06D-48F1-89E4-6D2AC3C3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47B6-233B-4623-8A6F-8C263EBB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FD87-AC90-48F3-8AB3-14F1FA3B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30DE-14B2-458B-9F60-89DFFCD8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763D-A8D7-4E7E-9C32-31AA7E5B5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6" descr="Cover Page Corporate Arabic August 2008"/>
          <p:cNvPicPr/>
          <p:nvPr/>
        </p:nvPicPr>
        <p:blipFill>
          <a:blip r:embed="rId2"/>
          <a:stretch/>
        </p:blipFill>
        <p:spPr>
          <a:xfrm>
            <a:off x="0" y="0"/>
            <a:ext cx="9177480" cy="688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882B-6477-4A1D-95E8-99A28C2C3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Header 2 Arabic Power Point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9"/>
          <p:cNvSpPr/>
          <p:nvPr/>
        </p:nvSpPr>
        <p:spPr>
          <a:xfrm>
            <a:off x="685800" y="263664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Arial"/>
              </a:rPr>
              <a:t>ورشة العمل الاقليمية حول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ar-LB" sz="2800" spc="-1" strike="noStrike">
                <a:solidFill>
                  <a:srgbClr val="ffffff"/>
                </a:solidFill>
                <a:latin typeface="Arial"/>
              </a:rPr>
              <a:t>احصاءات الهجرة الدو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2590920" y="4419720"/>
            <a:ext cx="3886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</a:rPr>
              <a:t>القاهرة، مص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</a:rPr>
              <a:t>30/6/2009 – 3/7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تبويبات العامة لتدفقات المهاجرين الدوليين الى الخار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361960" y="2712960"/>
            <a:ext cx="60958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بويبات موصى ب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بويبات أساس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غير متوفرة لدي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تبويبات الخاصة لتدفقات المواطنين المهاجرين الدوليين الى الخار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361960" y="2712960"/>
            <a:ext cx="60958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بويبات موصى ب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بويبات أساس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غير متوفرة لدي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تبويبات الخاصة لتدفقات المواطنين المهاجرين  الدوليين الذين يعتزمون العمل في الخار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006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تبويبات موصى ب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تبويبات أساس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بويب واحد لدولة واحدة متوفر من مصدر ثانو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2057400"/>
          <a:ext cx="4038480" cy="218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صدر ثانو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اعدة معطيات ال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وات: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ى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Object 12"/>
          <p:cNvGraphicFramePr/>
          <p:nvPr/>
        </p:nvGraphicFramePr>
        <p:xfrm>
          <a:off x="457200" y="4495680"/>
          <a:ext cx="4038480" cy="151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495680"/>
                    <a:ext cx="4038480" cy="15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تبويبات الخاصة لتدفقات المواطنين المهاجرين الدوليين</a:t>
            </a:r>
            <a:r>
              <a:rPr b="1" lang="ar-LB" sz="4000" spc="-1" strike="noStrike">
                <a:solidFill>
                  <a:srgbClr val="000000"/>
                </a:solidFill>
                <a:latin typeface="Arial"/>
              </a:rPr>
              <a:t> الأجانب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الى الخار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361960" y="2712960"/>
            <a:ext cx="60958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بويبات موصى ب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بويب أساس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غير متوفرة لدي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تبويبات الخاصة لتدفقات المهاجرين الدوليين</a:t>
            </a:r>
            <a:r>
              <a:rPr b="1" lang="ar-LB" sz="4000" spc="-1" strike="noStrike">
                <a:solidFill>
                  <a:srgbClr val="000000"/>
                </a:solidFill>
                <a:latin typeface="Arial"/>
              </a:rPr>
              <a:t> الأجانب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الى الخارج</a:t>
            </a:r>
            <a:r>
              <a:rPr b="1" lang="ar-LB" sz="4000" spc="-1" strike="noStrike">
                <a:solidFill>
                  <a:srgbClr val="000000"/>
                </a:solidFill>
                <a:latin typeface="Arial"/>
              </a:rPr>
              <a:t> الذين كانوا يعملون في بلد المغاد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361960" y="2971800"/>
            <a:ext cx="60958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بويبات موصى ب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بويب أساس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غير متوفرة لدي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تبويبات </a:t>
            </a:r>
            <a:r>
              <a:rPr b="1" lang="ar-LB" sz="4000" spc="-1" strike="noStrike">
                <a:solidFill>
                  <a:srgbClr val="000000"/>
                </a:solidFill>
                <a:latin typeface="Arial"/>
              </a:rPr>
              <a:t>العامة الموصى بها باستخدام كل من محل الميلاد والمواطن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40384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تبويبات موصى ب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تبويبات أساس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بويب واحد متوفر من مص</a:t>
            </a:r>
            <a:r>
              <a:rPr b="0" lang="ar-LB" sz="28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در</a:t>
            </a:r>
            <a:r>
              <a:rPr b="0" lang="ar-LB" sz="2800" spc="-1" strike="noStrike">
                <a:solidFill>
                  <a:srgbClr val="000000"/>
                </a:solidFill>
                <a:latin typeface="Arial"/>
              </a:rPr>
              <a:t> أولية و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ثانوي</a:t>
            </a:r>
            <a:r>
              <a:rPr b="0" lang="ar-LB" sz="2800" spc="-1" strike="noStrike">
                <a:solidFill>
                  <a:srgbClr val="000000"/>
                </a:solidFill>
                <a:latin typeface="Arial"/>
              </a:rPr>
              <a:t>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133720"/>
          <a:ext cx="3810240" cy="1127160"/>
        </p:xfrm>
        <a:graphic>
          <a:graphicData uri="http://schemas.openxmlformats.org/drawingml/2006/table">
            <a:tbl>
              <a:tblPr/>
              <a:tblGrid>
                <a:gridCol w="3810240"/>
              </a:tblGrid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صدر ثانو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GM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لجميع البلدان الأعضاء ما عدا دولة فلسط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Object 13"/>
          <p:cNvGraphicFramePr/>
          <p:nvPr/>
        </p:nvGraphicFramePr>
        <p:xfrm>
          <a:off x="152280" y="3429000"/>
          <a:ext cx="4648320" cy="263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429000"/>
                    <a:ext cx="464832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تبويبات الخاصة </a:t>
            </a:r>
            <a:r>
              <a:rPr b="1" lang="ar-LB" sz="4000" spc="-1" strike="noStrike">
                <a:solidFill>
                  <a:srgbClr val="000000"/>
                </a:solidFill>
                <a:latin typeface="Arial"/>
              </a:rPr>
              <a:t>الموصى بها باستخدام المعلومات المتعلقة بمحل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361960" y="2971800"/>
            <a:ext cx="60958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بويبات موصى ب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بويب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</a:rPr>
              <a:t>ات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أساسي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</a:rPr>
              <a:t>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غير متوفرة لدي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تبويبات الخاصة </a:t>
            </a:r>
            <a:r>
              <a:rPr b="1" lang="ar-LB" sz="4000" spc="-1" strike="noStrike">
                <a:solidFill>
                  <a:srgbClr val="000000"/>
                </a:solidFill>
                <a:latin typeface="Arial"/>
              </a:rPr>
              <a:t>الموصى بها باستخدام المعلومات المتعلقة بالمواطنة (</a:t>
            </a:r>
            <a:r>
              <a:rPr b="1" lang="ar-LB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LB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361960" y="2514600"/>
            <a:ext cx="60958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بويبات موصى ب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بويب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</a:rPr>
              <a:t>ات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أساسي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</a:rPr>
              <a:t>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بويب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</a:rPr>
              <a:t> متوفر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ن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</a:rPr>
              <a:t> مصدر أولي لبلد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اح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</a:rPr>
              <a:t> تبويبات لبعض البلدان الأعضاء متوفر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ن  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</a:rPr>
              <a:t> مصدر ثان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تبويبات الخاصة </a:t>
            </a:r>
            <a:r>
              <a:rPr b="1" lang="ar-LB" sz="4000" spc="-1" strike="noStrike">
                <a:solidFill>
                  <a:srgbClr val="000000"/>
                </a:solidFill>
                <a:latin typeface="Arial"/>
              </a:rPr>
              <a:t>الموصى بها باستخدام المعلومات المتعلقة بالمواطنة (</a:t>
            </a:r>
            <a:r>
              <a:rPr b="1" lang="ar-LB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LB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80880" y="2133720"/>
          <a:ext cx="4038840" cy="1981080"/>
        </p:xfrm>
        <a:graphic>
          <a:graphicData uri="http://schemas.openxmlformats.org/drawingml/2006/table">
            <a:tbl>
              <a:tblPr/>
              <a:tblGrid>
                <a:gridCol w="4038840"/>
              </a:tblGrid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صدر ثانو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O</a:t>
                      </a:r>
                      <a:r>
                        <a:rPr b="0" lang="ar-L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اعدة بيانات ال</a:t>
                      </a:r>
                      <a:r>
                        <a:rPr b="0" lang="ar-L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0" lang="ar-L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بويبات أساسية للبحرين،  عمان، اليمن و المملكة العربية السعود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ar-L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بويبات اساسية للكوي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572000" y="2133720"/>
          <a:ext cx="4114800" cy="195732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19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صدر أول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مارات العربية المتحد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سح العام </a:t>
                      </a:r>
                      <a:r>
                        <a:rPr b="0" lang="ar-L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 تبويب منشو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Object 30"/>
          <p:cNvGraphicFramePr/>
          <p:nvPr/>
        </p:nvGraphicFramePr>
        <p:xfrm>
          <a:off x="4724280" y="4343400"/>
          <a:ext cx="4038840" cy="182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43400"/>
                    <a:ext cx="4038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32"/>
          <p:cNvGraphicFramePr/>
          <p:nvPr/>
        </p:nvGraphicFramePr>
        <p:xfrm>
          <a:off x="533520" y="4495680"/>
          <a:ext cx="4038480" cy="1676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0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495680"/>
                    <a:ext cx="40384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تبويبات </a:t>
            </a:r>
            <a:r>
              <a:rPr b="1" lang="ar-LB" sz="4000" spc="-1" strike="noStrike">
                <a:solidFill>
                  <a:srgbClr val="000000"/>
                </a:solidFill>
                <a:latin typeface="Arial"/>
              </a:rPr>
              <a:t>العامة لبيانات طالبي اللجوء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800600" y="1904760"/>
            <a:ext cx="40384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تبويبات موصى بها</a:t>
            </a:r>
            <a:r>
              <a:rPr b="0" lang="ar-LB" sz="2800" spc="-1" strike="noStrike">
                <a:solidFill>
                  <a:srgbClr val="000000"/>
                </a:solidFill>
                <a:latin typeface="Arial"/>
              </a:rPr>
              <a:t> لطالبي اللجو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تبويب أساسي</a:t>
            </a:r>
            <a:r>
              <a:rPr b="0" lang="ar-LB" sz="2800" spc="-1" strike="noStrike">
                <a:solidFill>
                  <a:srgbClr val="000000"/>
                </a:solidFill>
                <a:latin typeface="Arial"/>
              </a:rPr>
              <a:t> للاجئي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بويب واحد ل</a:t>
            </a:r>
            <a:r>
              <a:rPr b="0" lang="ar-LB" sz="2800" spc="-1" strike="noStrike">
                <a:solidFill>
                  <a:srgbClr val="000000"/>
                </a:solidFill>
                <a:latin typeface="Arial"/>
              </a:rPr>
              <a:t>لبلدان ال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نتمية الى منظمة الاسكوا منشور في مصدر</a:t>
            </a:r>
            <a:r>
              <a:rPr b="0" lang="ar-LB" sz="2800" spc="-1" strike="noStrike">
                <a:solidFill>
                  <a:srgbClr val="000000"/>
                </a:solidFill>
                <a:latin typeface="Arial"/>
              </a:rPr>
              <a:t> أولي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38080" y="1905120"/>
          <a:ext cx="3810240" cy="1431720"/>
        </p:xfrm>
        <a:graphic>
          <a:graphicData uri="http://schemas.openxmlformats.org/drawingml/2006/table">
            <a:tbl>
              <a:tblPr/>
              <a:tblGrid>
                <a:gridCol w="3810240"/>
              </a:tblGrid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صدر ثانو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HCR 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بويب أساسي لجميع البلدان الأعضاء ما عدا دولة فلسط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Object 13"/>
          <p:cNvGraphicFramePr/>
          <p:nvPr/>
        </p:nvGraphicFramePr>
        <p:xfrm>
          <a:off x="304920" y="4038480"/>
          <a:ext cx="4724280" cy="167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038480"/>
                    <a:ext cx="47242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ffffff"/>
                </a:solidFill>
                <a:latin typeface="Arial"/>
              </a:rPr>
              <a:t>وضعية إحصاءات الهجرة الدولية في البلدان الأعضاء لمنظمة الاسكوا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362320" y="4038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</a:rPr>
              <a:t>فتحية عبد الفاض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</a:rPr>
              <a:t>شعبة الاحصاء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LB" sz="1800" spc="-1" strike="noStrike">
                <a:solidFill>
                  <a:srgbClr val="ffffff"/>
                </a:solidFill>
                <a:latin typeface="Arial"/>
              </a:rPr>
              <a:t>الاسكو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4000" spc="-1" strike="noStrike">
                <a:solidFill>
                  <a:srgbClr val="000000"/>
                </a:solidFill>
                <a:latin typeface="Arial"/>
              </a:rPr>
              <a:t>النتائج والتوصيات (</a:t>
            </a:r>
            <a:r>
              <a:rPr b="1" lang="ar-LB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LB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2361960"/>
            <a:ext cx="754380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LB" sz="2000" spc="-1" strike="noStrike">
                <a:solidFill>
                  <a:srgbClr val="000000"/>
                </a:solidFill>
                <a:latin typeface="Arial"/>
              </a:rPr>
              <a:t>من أجل فهم دينام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كية</a:t>
            </a:r>
            <a:r>
              <a:rPr b="0" lang="ar-LB" sz="2000" spc="-1" strike="noStrike">
                <a:solidFill>
                  <a:srgbClr val="000000"/>
                </a:solidFill>
                <a:latin typeface="Arial"/>
              </a:rPr>
              <a:t> الهجرة الدولية وأسبابها ونتائجها، يجب علينا طرح وإجابة بعض الاسئلة منها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00000"/>
                </a:solidFill>
                <a:latin typeface="Arial"/>
              </a:rPr>
              <a:t>صافي التغير السنوي الكلي زيادة أو نقصاً في عدد السكان نتيجة للهجرة الدولية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00000"/>
                </a:solidFill>
                <a:latin typeface="Arial"/>
              </a:rPr>
              <a:t>عدد المهاجرين الدوليين الذين يسمح بدخولهم سنوياً؟  وما هي بلدانهم الأصلية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00000"/>
                </a:solidFill>
                <a:latin typeface="Arial"/>
              </a:rPr>
              <a:t>عدد المواطنين الذين يهاجرون الى الخارج كل عام؟ وما أي البلدان التي يقصدونها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00000"/>
                </a:solidFill>
                <a:latin typeface="Arial"/>
              </a:rPr>
              <a:t>عدد الذين يعودون من المواطنين المهاجرين الى الخارج كل سنة؟ ومن أي بلدان يعودون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00000"/>
                </a:solidFill>
                <a:latin typeface="Arial"/>
              </a:rPr>
              <a:t>عدد العمال المهاجرين الذين يسمح بدخولهم سنوياً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00000"/>
                </a:solidFill>
                <a:latin typeface="Arial"/>
              </a:rPr>
              <a:t>عدد طالبين اللجوء واللاجئين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00000"/>
                </a:solidFill>
                <a:latin typeface="Arial"/>
              </a:rPr>
              <a:t>مجموع عدد المهاجرين الدوليين في البلد؟ عدد الناشطين اقتصادياً من بين هؤلاء المهاجرين الدوليين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4000" spc="-1" strike="noStrike">
                <a:solidFill>
                  <a:srgbClr val="000000"/>
                </a:solidFill>
                <a:latin typeface="Arial"/>
              </a:rPr>
              <a:t>النتائج والتوصيات (</a:t>
            </a:r>
            <a:r>
              <a:rPr b="1" lang="ar-LB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LB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1760" y="2361960"/>
            <a:ext cx="754380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LB" sz="2000" spc="-1" strike="noStrike">
                <a:solidFill>
                  <a:srgbClr val="000000"/>
                </a:solidFill>
                <a:latin typeface="Arial"/>
              </a:rPr>
              <a:t>الوضع الراهن لإحصاءات الهجرة الدولية في الدول الأعضاء في منظمة الاسكوا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00000"/>
                </a:solidFill>
                <a:latin typeface="Arial"/>
              </a:rPr>
              <a:t>في بعض الحالات تكون البيانات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متوفوة</a:t>
            </a:r>
            <a:r>
              <a:rPr b="0" lang="ar-LB" sz="2000" spc="-1" strike="noStrike">
                <a:solidFill>
                  <a:srgbClr val="000000"/>
                </a:solidFill>
                <a:latin typeface="Arial"/>
              </a:rPr>
              <a:t> لكنها غير منشور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00000"/>
                </a:solidFill>
                <a:latin typeface="Arial"/>
              </a:rPr>
              <a:t>معظم احصاءات الهجرة الدولية تخص المهاجرين الى الداخل وليس المهاجرين الى الخار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61760" y="2361960"/>
            <a:ext cx="754380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r" rtl="1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وشكر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الهدف</a:t>
            </a: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قاء الضوء على وضع البيانات المتعلقة بالهجرة الدولية وفقا“  لمنشور الأمم المتحدة: ”توصيات بشأن احصاءات الهجرة الدولية، تنقيح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” وذلك خلا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راجعة التبويبات الموصى بها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رض للتبويبات المتوفرة لدينا حسب المصادر المتاح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مجموعات البيان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بويبات الموصى بها مقسمة الى مجموعات وفقا“ لنوع البيان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حصاءات عن تدفقات المهاجرين الدوليين الى الداخل والى الخار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يانات المخزون (محل الميلاد والمواطن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حصاءات 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</a:rPr>
              <a:t>اللجو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تبويبات العامة لتدفقات المهاجرين الدوليين الى الداخ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8006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تبويبات موصى ب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تبويبات أساس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بويب واحد لدولة واحدة منتمية من مصدر ثانو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1905120"/>
          <a:ext cx="4038480" cy="218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صدر ثانو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اعدة معطيات ال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كوي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وات: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،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و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Object 17"/>
          <p:cNvGraphicFramePr/>
          <p:nvPr/>
        </p:nvGraphicFramePr>
        <p:xfrm>
          <a:off x="685800" y="4284720"/>
          <a:ext cx="3778200" cy="234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284720"/>
                    <a:ext cx="3778200" cy="23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تبويبات الخاصة لتدفقات المواطنين المهاجرين الدوليين الى الداخل (المواطنون العائدون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361960" y="2712960"/>
            <a:ext cx="60958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بويبات موصى ب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بويبات أساس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غير متوفرة لدي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تبويبات الخاصة لتدفقات للمواطنين العائدين الذين كانوا يعملون في الخار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361960" y="2712960"/>
            <a:ext cx="60958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بويبات موصى ب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بويب أساس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غير متوفرة لدي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تبويبات الخاصة لتدفقات المهاجرين الدوليين الأجانب الى الداخ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361960" y="2712960"/>
            <a:ext cx="60958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بويبات موصى ب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بويب أساس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غير متوفرة لدي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تبويبات الخاصة لتدفقات المهاجرين الدوليين الأجانب الى الداخل المسموح لهم بالعم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361960" y="2712960"/>
            <a:ext cx="60958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بويبات موصى ب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بويبات أساس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غير متوفرة لدي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8:04:29Z</dcterms:created>
  <dc:creator>User</dc:creator>
  <dc:description/>
  <dc:language>en-US</dc:language>
  <cp:lastModifiedBy>mr.mostafa</cp:lastModifiedBy>
  <dcterms:modified xsi:type="dcterms:W3CDTF">2009-07-02T20:49:07Z</dcterms:modified>
  <cp:revision>40</cp:revision>
  <dc:subject/>
  <dc:title>Slide 1</dc:title>
</cp:coreProperties>
</file>