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4ECA-2DEE-4B85-859F-0F2EC7378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46DA-86A1-412D-A650-ADB3CE288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802-7E0E-404C-83FF-B19AD7A6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054-DE6E-4111-AF6B-B0A6EE4B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088-87A1-4D59-A846-EB6AF508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66A-6BF3-4FDE-9E55-88A7CD3E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8B72-98F9-4FDC-9349-A199E404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F68F-92C1-4C9C-9B4F-227845AA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2868-8B1F-4486-A927-77E07912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FC53-FC3F-4A46-B622-74169283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387A-9EC6-40A9-BCEE-A3354D10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EA4A-40CD-41F5-A43C-525A748C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D61E-CEA3-4578-AC3E-9A69DAA4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56E-0300-42D7-964F-02B206C1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CD82-0BA5-48CD-A2F3-54017E89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B329-FD03-4D0D-866F-0447BFF4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5E2D-2D66-464D-9441-C474BDE8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3574-9DC6-4647-910A-F182C67D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58D5-8982-42BF-9BFB-876A72AA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122B9-C8D7-4EF2-AE47-C59219EA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337BF-852E-4271-9AE9-9F2BC5D3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A54C-C4C7-4A8A-ABF9-A638B290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8DD7-874F-4053-8103-CADF005F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40BD2-475C-40BC-91FA-0003890B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6D9-A423-47C5-9E14-33E38DFC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9F159-1825-47BA-B100-DB5B6FA1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4F743-B75C-42D8-84A7-54CE7740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422E-A316-470D-8E3F-43E3A332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7EFED-70E3-4972-99A2-88C953C4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638E4-E7B3-4DFC-B145-838B51C8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26D42-7711-4711-84E9-7ED94DB1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5C4E-CA18-44D7-AA66-D08447C9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FF2-6F2D-4034-BF00-294B7A95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934-C28A-422D-AC3C-611C87E3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42D-E8D9-42AA-9E9B-6DFCB93F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05B-3F1C-43A9-A073-DE6EFAFA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A8E-9CC8-4B8C-9473-3B90B697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0BA0-5AA5-4E97-B511-16B4D6A6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8585-0696-40F4-A125-1958B812AC6D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Cover Page Corporate English August 2008"/>
          <p:cNvPicPr/>
          <p:nvPr/>
        </p:nvPicPr>
        <p:blipFill>
          <a:blip r:embed="rId2"/>
          <a:stretch/>
        </p:blipFill>
        <p:spPr>
          <a:xfrm>
            <a:off x="0" y="0"/>
            <a:ext cx="917748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2DEE-EE6E-400C-BEB4-67CE93FFBD37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Header English Power Point August 2008"/>
          <p:cNvPicPr/>
          <p:nvPr/>
        </p:nvPicPr>
        <p:blipFill>
          <a:blip r:embed="rId2"/>
          <a:stretch/>
        </p:blipFill>
        <p:spPr>
          <a:xfrm>
            <a:off x="0" y="0"/>
            <a:ext cx="917748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792E-D3C0-48A8-9958-37243DF76154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Header 2 English Power Poi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213372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gional Workshop on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rnational Migration Stat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14040" y="449532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, 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/6/2009-3/7/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842F-6F9C-495E-B238-34F3A57AB5D7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NERAL TABULATIONS ON OUTFLOWS OF INTERNATIONAL 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13 recommended tabul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6 core tab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None availabl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E2BB-7B7C-41B0-841B-767A123350A8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PECIFIC TABULATIONS ON OUTFLOWS OF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6 recommended tabul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2 core tab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None availabl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829B-9A67-4CA4-AAE3-D01F0C5B6611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SPECIFIC TABULATIONS ON OUTFLOWS OF CITIZENS INTENDING TO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581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67b7"/>
                </a:solidFill>
                <a:latin typeface="Arial"/>
              </a:rPr>
              <a:t>5 recommended tabu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67b7"/>
                </a:solidFill>
                <a:latin typeface="Arial"/>
              </a:rPr>
              <a:t>3 core 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67b7"/>
                </a:solidFill>
                <a:latin typeface="Arial"/>
              </a:rPr>
              <a:t>1 “related” table for one ESCWA country  available from a secondary 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24280" y="1981080"/>
          <a:ext cx="3581640" cy="248148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24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condary sour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O data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s: 1997 through 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Object 16"/>
          <p:cNvGraphicFramePr/>
          <p:nvPr/>
        </p:nvGraphicFramePr>
        <p:xfrm>
          <a:off x="4648320" y="4648320"/>
          <a:ext cx="4038480" cy="151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648320"/>
                    <a:ext cx="403848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06CD-E7A9-4BE2-944C-E7E37CD6ABF8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PECIFIC TABULATIONS ON OUTFLOWS OF FOREIG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4 recommended tabul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1 core ta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None availa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5BAE-CBC9-4DA2-9618-21C7B8CE2435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PECIFIC TABULATIONS ON OUTFLOWS OF FOREIGNERS WHO WORKED IN THE COUNTRY OF DEPA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5 recommended tabul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1 core ta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None availa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77A5-55C3-432A-A3F7-AF2862200436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NERAL TABULATIONS USING BOTH PLACE OF BIRTH AND CITIZENSHIP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3047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67b7"/>
                </a:solidFill>
                <a:latin typeface="Arial"/>
              </a:rPr>
              <a:t>3 recommended tabu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67b7"/>
                </a:solidFill>
                <a:latin typeface="Arial"/>
              </a:rPr>
              <a:t>3 are core 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67b7"/>
                </a:solidFill>
                <a:latin typeface="Arial"/>
              </a:rPr>
              <a:t>1 “related” table available both in primary  and secondary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460"/>
          <p:cNvGraphicFramePr/>
          <p:nvPr/>
        </p:nvGraphicFramePr>
        <p:xfrm>
          <a:off x="3886200" y="2514600"/>
          <a:ext cx="52578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Object 24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514600"/>
                    <a:ext cx="5257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2462"/>
          <p:cNvSpPr/>
          <p:nvPr/>
        </p:nvSpPr>
        <p:spPr>
          <a:xfrm>
            <a:off x="3809880" y="1752480"/>
            <a:ext cx="5105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condary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G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SCWA countries except for Palestine. Some countries did not disaggregate by age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FFCD-0B2A-4842-9496-E48348AFD6CB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PECIFIC TABULATIONS USING INFORMATION ON PLACE OF BIRTH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26 recommended tabul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8 core tab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None availa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150F-D4AB-4D78-A244-9EF1C3A313D5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PECIFIC TABULATIONS USING INFORMATION ON CITIZENSHIP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5438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f67b7"/>
                </a:solidFill>
                <a:latin typeface="Arial"/>
              </a:rPr>
              <a:t>28 recommended tabul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f67b7"/>
                </a:solidFill>
                <a:latin typeface="Arial"/>
              </a:rPr>
              <a:t>14 core tab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f67b7"/>
                </a:solidFill>
                <a:latin typeface="Arial"/>
              </a:rPr>
              <a:t>1 core table for one ESCWA country found in a </a:t>
            </a:r>
            <a:r>
              <a:rPr b="0" lang="en-US" sz="3000" spc="-1" strike="noStrike" u="sng">
                <a:solidFill>
                  <a:srgbClr val="1f67b7"/>
                </a:solidFill>
                <a:uFillTx/>
                <a:latin typeface="Arial"/>
              </a:rPr>
              <a:t>primary 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f67b7"/>
                </a:solidFill>
                <a:latin typeface="Arial"/>
              </a:rPr>
              <a:t>3 core “related tables” for some ESCWA countries found in a </a:t>
            </a:r>
            <a:r>
              <a:rPr b="0" lang="en-US" sz="3000" spc="-1" strike="noStrike" u="sng">
                <a:solidFill>
                  <a:srgbClr val="1f67b7"/>
                </a:solidFill>
                <a:uFillTx/>
                <a:latin typeface="Arial"/>
              </a:rPr>
              <a:t>secondary 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08D2-B032-4F9C-B20D-534C143B382A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PECIFIC TABULATIONS USING INFORMATION ON CITIZENSHIP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19"/>
          <p:cNvGraphicFramePr/>
          <p:nvPr/>
        </p:nvGraphicFramePr>
        <p:xfrm>
          <a:off x="152280" y="4191120"/>
          <a:ext cx="4343400" cy="148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191120"/>
                    <a:ext cx="434340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04920" y="1752480"/>
          <a:ext cx="3733560" cy="2109960"/>
        </p:xfrm>
        <a:graphic>
          <a:graphicData uri="http://schemas.openxmlformats.org/drawingml/2006/table">
            <a:tbl>
              <a:tblPr/>
              <a:tblGrid>
                <a:gridCol w="3733560"/>
              </a:tblGrid>
              <a:tr h="21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imary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sus 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isseminated core 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419720" y="1828800"/>
          <a:ext cx="3962160" cy="2035080"/>
        </p:xfrm>
        <a:graphic>
          <a:graphicData uri="http://schemas.openxmlformats.org/drawingml/2006/table">
            <a:tbl>
              <a:tblPr/>
              <a:tblGrid>
                <a:gridCol w="3962160"/>
              </a:tblGrid>
              <a:tr h="20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condary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O Data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ore tables for Bahrain, Oman, Yemen and Saudi Ara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ore tables for Kuwa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Object 21"/>
          <p:cNvGraphicFramePr/>
          <p:nvPr/>
        </p:nvGraphicFramePr>
        <p:xfrm>
          <a:off x="4572000" y="4287960"/>
          <a:ext cx="4572000" cy="1274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287960"/>
                    <a:ext cx="45720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8CAB-3894-41E0-A642-58B30DC2BFE6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NERAL TABULATIONS ON ASYLUM-SEEKERS AND REFUG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67b7"/>
                </a:solidFill>
                <a:latin typeface="Arial"/>
              </a:rPr>
              <a:t>5 recommended tabulations for asylum-seekers where 5 are c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67b7"/>
                </a:solidFill>
                <a:latin typeface="Arial"/>
              </a:rPr>
              <a:t>1 recommended table for refuge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67b7"/>
                </a:solidFill>
                <a:latin typeface="Arial"/>
              </a:rPr>
              <a:t>1 “related” table for ESCWA countries found in secondary 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648320" y="190512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condary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UNHCR Statistical Yearbo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ore table for all ESCWA countries except for Palest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Object 12"/>
          <p:cNvGraphicFramePr/>
          <p:nvPr/>
        </p:nvGraphicFramePr>
        <p:xfrm>
          <a:off x="4419720" y="4267080"/>
          <a:ext cx="4724280" cy="16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267080"/>
                    <a:ext cx="4724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3DC4-80B9-4F19-99FF-36A9DB8D6BA3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tus of International Migration Statistics in the ESCWA Re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4114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hia AbdelFad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stics Division- ESC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58C7-A697-4014-83A7-A4260CF46A7B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 AND RECOMMENDATION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understand the dynamics of international migration, its causes and consequences certain crucial questions should b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ked and answe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mong them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net gain/net loss of population through international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ly admitted international migrants? Countries of orig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zens emigrating every year? Countries of destin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grants citizens returning every year? From which count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nt workers admitted annuall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s searching for asylum arriving annually? Refuge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umber of international migrants in the country? How many are economically a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21BB-1C8F-40AE-AD1C-AAA4AF83EDDA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 AND RECOMMENDATION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 of international migration statistics in the ESC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ta is ever available, it is not all disse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available migration data are on immigrants and not emig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77DB-7BDB-434B-859F-7679FF97AB52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OBJECTIVE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To shed lights on the status of data concerning international migration based on the UN-Recommendations on Statistics of International Migration, Rev.1, wh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4572000"/>
            <a:ext cx="8458200" cy="21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76"/>
              </a:spcBef>
              <a:buClr>
                <a:srgbClr val="7c2c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c2c8c"/>
                </a:solidFill>
                <a:latin typeface="Arial"/>
              </a:rPr>
              <a:t>Reconsidering the recommended tabul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76"/>
              </a:spcBef>
              <a:buClr>
                <a:srgbClr val="7c2c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c2c8c"/>
                </a:solidFill>
                <a:latin typeface="Arial"/>
              </a:rPr>
              <a:t>Exposing the available tabul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46F4-004F-4650-B64B-778772CB2A86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DATA GROUP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mmended tabulations divided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cc"/>
                </a:solidFill>
                <a:uFillTx/>
                <a:latin typeface="Arial"/>
              </a:rPr>
              <a:t>data groups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 based on types of data </a:t>
            </a:r>
            <a:r>
              <a:rPr b="1" lang="en-US" sz="3500" spc="-1" strike="noStrike">
                <a:solidFill>
                  <a:srgbClr val="0099cc"/>
                </a:solidFill>
                <a:latin typeface="Arial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7c2c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c2c8c"/>
                </a:solidFill>
                <a:latin typeface="Arial"/>
              </a:rPr>
              <a:t>Statistics on inflows and outflows of international migr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7c2c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c2c8c"/>
                </a:solidFill>
                <a:latin typeface="Arial"/>
              </a:rPr>
              <a:t>Stock data (place of birth data/citizenship dat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7c2c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c2c8c"/>
                </a:solidFill>
                <a:latin typeface="Arial"/>
              </a:rPr>
              <a:t>Asylum-seekers and refugees stat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0984-FE45-41ED-B588-0C9EE83F7E8D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NERAL TABULATIONS ON INTERNATIONAL MIGRATION INFLOW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f67b7"/>
                </a:solidFill>
                <a:latin typeface="Arial"/>
              </a:rPr>
              <a:t>13 recommended tabul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f67b7"/>
                </a:solidFill>
                <a:latin typeface="Arial"/>
              </a:rPr>
              <a:t>6 core tab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f67b7"/>
                </a:solidFill>
                <a:latin typeface="Arial"/>
              </a:rPr>
              <a:t>1 core table available for one ESCWA country taken from a secondary source as show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724280" y="2057400"/>
          <a:ext cx="3962520" cy="176220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7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condary sour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O data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wa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s: 1997, 1998, and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Object 101"/>
          <p:cNvGraphicFramePr/>
          <p:nvPr/>
        </p:nvGraphicFramePr>
        <p:xfrm>
          <a:off x="4776840" y="3938760"/>
          <a:ext cx="3779640" cy="218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Object 1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6840" y="3938760"/>
                    <a:ext cx="377964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669C-60D3-41BF-8824-687A6FAF977C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PECIFIC TABULATIONS ON INFLOWS OF RETURNING 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6 recommended tabul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2 core tab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None availabl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31DD-8446-4A39-8530-CE2BC82CB950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PECIFIC TABULATIONS ON INFLOWS OF RETURNING  CITIZENS WHO WORKED 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5 recommended tabul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1 core ta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None availabl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DAEE-056C-4412-93B3-F826236DC0E8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PECIFIC TABULATIONS ON INFLOWS OF FOREIG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4 recommended tabul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1 core ta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None availabl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16D4-A75D-4BE5-9908-A39FE643FBD7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PECIFIC TABULATIONS ON INFLOWS OF FOREIGNERS ALLOWED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12 recommended tabul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2 core tab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1f67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67b7"/>
                </a:solidFill>
                <a:latin typeface="Arial"/>
              </a:rPr>
              <a:t>None availabl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8:27:11Z</dcterms:created>
  <dc:creator>User</dc:creator>
  <dc:description/>
  <dc:language>en-US</dc:language>
  <cp:lastModifiedBy>mr.mostafa</cp:lastModifiedBy>
  <dcterms:modified xsi:type="dcterms:W3CDTF">2009-07-02T20:47:52Z</dcterms:modified>
  <cp:revision>42</cp:revision>
  <dc:subject/>
  <dc:title>Main Title</dc:title>
</cp:coreProperties>
</file>