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48450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5D8-F748-4615-9DE7-0E696B7C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78A9-346D-42D6-9329-39A0B090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AF4-6F1D-4FFB-B5A1-93A2A10F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879D-3DB5-412A-8EB7-A20585D1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FAE1-B271-4525-ADEF-99540156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11AE-5FED-4613-ACAA-384256BC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7E3D-A3BC-40DF-8F2E-666F9B14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DE81-DD50-4B59-89EC-BB870BD1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2B8A-06BC-4394-BFD1-B6E76B39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B369-2A99-4A3F-B31B-2A3B69ED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3A4C-466C-48A7-BC03-B9F12290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39E-41B1-4AC7-9005-A70EF6CA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15BB-4C99-4EB1-9F0C-0807C4D7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0EFF-AEFF-41E2-8794-FC9C1018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0D96-88F4-4082-9A29-EA64804A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CB3A-3BDA-48C5-A241-DFF076A0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9C53-1117-4973-8612-59C184EE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81C-5EFC-4A3B-A459-EB8F547C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2AC-2D69-40E0-8FA1-BBB92B9B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5BC-55F1-4474-961E-6A400F8B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635-E57B-4CF4-BB52-5B663564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F1B-B74D-41D2-8CA4-AFD9D78F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CC0-B032-4660-B9EC-40189304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9CB-44A6-4F60-A463-0FFD7A1D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CE59-D904-454A-83F7-3039278F1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B10C-FF6C-4072-A0C8-E00250AA2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31800" y="1741320"/>
            <a:ext cx="8012160" cy="40993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 baseline="-25000">
                <a:solidFill>
                  <a:srgbClr val="e70153"/>
                </a:solidFill>
                <a:latin typeface="Arial"/>
              </a:rPr>
              <a:t>مقارنة نتائج بحث القوى العاملة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baseline="-25000">
                <a:solidFill>
                  <a:srgbClr val="0000ff"/>
                </a:solidFill>
                <a:latin typeface="Arial"/>
              </a:rPr>
              <a:t>خلال الربع الاول لعام </a:t>
            </a:r>
            <a:r>
              <a:rPr b="1" lang="ar-EG" sz="4000" spc="-1" strike="noStrike" baseline="-25000">
                <a:solidFill>
                  <a:srgbClr val="0000ff"/>
                </a:solidFill>
                <a:latin typeface="Arial"/>
              </a:rPr>
              <a:t>200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baseline="-25000">
                <a:solidFill>
                  <a:srgbClr val="0000ff"/>
                </a:solidFill>
                <a:latin typeface="Arial"/>
              </a:rPr>
              <a:t> مع الربع الرابع </a:t>
            </a:r>
            <a:r>
              <a:rPr b="1" lang="ar-EG" sz="4000" spc="-1" strike="noStrike" baseline="-25000">
                <a:solidFill>
                  <a:srgbClr val="0000ff"/>
                </a:solidFill>
                <a:latin typeface="Arial"/>
              </a:rPr>
              <a:t>2008</a:t>
            </a:r>
            <a:r>
              <a:rPr b="1" lang="ar-EG" sz="4000" spc="-1" strike="noStrike" baseline="-25000">
                <a:solidFill>
                  <a:srgbClr val="0000ff"/>
                </a:solidFill>
                <a:latin typeface="Arial"/>
              </a:rPr>
              <a:t> والربع الاول </a:t>
            </a:r>
            <a:r>
              <a:rPr b="1" lang="ar-EG" sz="4000" spc="-1" strike="noStrike" baseline="-25000">
                <a:solidFill>
                  <a:srgbClr val="0000ff"/>
                </a:solidFill>
                <a:latin typeface="Arial"/>
              </a:rPr>
              <a:t>200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8EB4-B8D2-444C-867A-F6660331D7F6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457200" y="1295280"/>
          <a:ext cx="8126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126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838080" y="152280"/>
            <a:ext cx="762012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10d4"/>
              </a:gs>
              <a:gs pos="100000">
                <a:srgbClr val="0d076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مقارنة حجم قوة العمل (بالمليون)  فى الربع الأول 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مع الربع الرابع 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2008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والربع الاول 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2008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5257800"/>
            <a:ext cx="8399520" cy="1724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 algn="just" rtl="1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 بلغ حجم قوة العمل 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25.031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 مليون فرد فى الربع الاول 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2009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cs typeface="MCS Taybah S_U normal."/>
              </a:rPr>
              <a:t>بزيادة قدرها 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36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 ألف فرد مقارنة بالربع الرابع 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2008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 وبزيادة قدرها 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841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 ألف فرد عن نفس الربع من العام الساب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BD0-77EE-4E1C-A84F-E1229894E1F0}" type="slidenum">
              <a:t>2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4400" y="1371600"/>
          <a:ext cx="90090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" y="1371600"/>
                    <a:ext cx="90090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33520" y="228600"/>
            <a:ext cx="784836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10d4"/>
              </a:gs>
              <a:gs pos="100000">
                <a:srgbClr val="0d076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مقارنة أعداد المشتغلين (بالمليون)  فى الربع الأول 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مع الربع الرابع 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2008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والربع الاول 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2008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5257800"/>
            <a:ext cx="8399520" cy="1724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 algn="just" rtl="1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 بلغت اعداد المشتغلين 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22.685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 مليون فرد فى الربع الاول 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2009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cs typeface="MCS Taybah S_U normal."/>
              </a:rPr>
              <a:t>بانخفاض  قدره 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101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 ألف مشتغل مقارنة بالربع الرابع 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2008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 وبزيادة قدرها 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684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 ألف مشتغل عن نفس الربع من العام الساب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8FF-B2D2-4D28-A831-8CAA109BB31B}" type="slidenum">
              <a:t>3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23760" y="1295280"/>
          <a:ext cx="902988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0" y="1295280"/>
                    <a:ext cx="90298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533520" y="304920"/>
            <a:ext cx="7848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10d4"/>
              </a:gs>
              <a:gs pos="100000">
                <a:srgbClr val="0d076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مقارنة اعداد المتعطلين (بالمليون)  فى الربع الأول 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مع الربع الرابع 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2008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والربع الاول 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2008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5522760"/>
            <a:ext cx="8399520" cy="1724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 algn="just" rtl="1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 بلغت اعداد المتعطلين 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2.346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cs typeface="MCS Taybah S_U normal."/>
              </a:rPr>
              <a:t>مليون فرد فى الربع الاول 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2009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cs typeface="MCS Taybah S_U normal."/>
              </a:rPr>
              <a:t>بزيادة قدرها 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137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 ألف متعطل مقارنة بالربع الرابع 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2008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 وبزيادة قدرها 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157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 ألف متعطل عن نفس الربع من العام الساب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985-FE1A-4754-85A2-F9F048B94084}" type="slidenum">
              <a:t>4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0" y="1297080"/>
          <a:ext cx="9037800" cy="44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7080"/>
                    <a:ext cx="903780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457200" y="304920"/>
            <a:ext cx="78487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10d4"/>
              </a:gs>
              <a:gs pos="100000">
                <a:srgbClr val="0d076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مقارنة معدل البطالة (%) فى الربع الأول 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مع الربع الرابع 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2008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والربع الاول 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2008</a:t>
            </a:r>
            <a:r>
              <a:rPr b="1" lang="ar-EG" sz="36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5638680"/>
            <a:ext cx="8359560" cy="13201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 algn="just" rtl="1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 بلغ معدل البطالة 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9.4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% فى الربع الاول 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2009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cs typeface="MCS Taybah S_U normal."/>
              </a:rPr>
              <a:t>بينما كان 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8.8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% فى الربع السابق وبلغ 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9.04</a:t>
            </a:r>
            <a:r>
              <a:rPr b="1" lang="ar-EG" sz="2400" spc="-1" strike="noStrike">
                <a:solidFill>
                  <a:srgbClr val="0000ff"/>
                </a:solidFill>
                <a:latin typeface="Tahoma"/>
                <a:ea typeface="MCS Taybah S_U normal."/>
              </a:rPr>
              <a:t>% فى نفس الربع من العام الساب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D26-C75A-461E-A3DA-1ADE8DD89D44}" type="slidenum">
              <a:t>5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7:59:14Z</dcterms:created>
  <dc:creator>mohsen</dc:creator>
  <dc:description/>
  <dc:language>en-US</dc:language>
  <cp:lastModifiedBy>CAPMAS</cp:lastModifiedBy>
  <dcterms:modified xsi:type="dcterms:W3CDTF">1978-06-28T10:52:29Z</dcterms:modified>
  <cp:revision>717</cp:revision>
  <dc:subject/>
  <dc:title>حجم الواردات</dc:title>
</cp:coreProperties>
</file>