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9436-940D-4D85-A0E9-CFCE8717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6CD2-6E8A-4C24-963C-7167210E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201C-C136-4C01-9C4C-51C3B400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A184-DE69-4BEA-9C7E-ECD683F7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C794-018C-427D-B198-C663DE9E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7568-C284-443F-8185-7B27BDD4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A4E7-823E-4CB7-9B77-03DF42BD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FDBF-C41B-429C-B763-FBA3C747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A95F-DCDB-413C-BA67-B539A334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A28-AB93-46B1-9304-AD2FEA35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32FF-24AA-4EB9-A380-64F0C0C8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4AC4-7222-410A-8BF5-EF7F1036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BC35-F8EA-43E1-9924-1039F747D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cc0000"/>
                </a:solidFill>
                <a:latin typeface="Arial"/>
              </a:rPr>
              <a:t>النظرة المستقبلية لإحصاءات </a:t>
            </a:r>
            <a:br>
              <a:rPr sz="3600"/>
            </a:br>
            <a:r>
              <a:rPr b="1" lang="ar-JO" sz="3600" spc="-1" strike="noStrike">
                <a:solidFill>
                  <a:srgbClr val="cc0000"/>
                </a:solidFill>
                <a:latin typeface="Arial"/>
              </a:rPr>
              <a:t>الهجرة في الأردن</a:t>
            </a:r>
            <a:br>
              <a:rPr sz="3600"/>
            </a:br>
            <a:br>
              <a:rPr sz="3600"/>
            </a:br>
            <a:r>
              <a:rPr b="1" lang="ar-JO" sz="2800" spc="-1" strike="noStrike">
                <a:solidFill>
                  <a:srgbClr val="cc0000"/>
                </a:solidFill>
                <a:latin typeface="Arial"/>
              </a:rPr>
              <a:t>ورقة عمل مقدمة إلى ورشة العمل الإقليمية حول</a:t>
            </a:r>
            <a:br>
              <a:rPr sz="2800"/>
            </a:br>
            <a:r>
              <a:rPr b="1" lang="ar-JO" sz="2800" spc="-1" strike="noStrike">
                <a:solidFill>
                  <a:srgbClr val="cc0000"/>
                </a:solidFill>
                <a:latin typeface="Arial"/>
              </a:rPr>
              <a:t>” إحصاءات الهجرة الدولية“</a:t>
            </a:r>
            <a:br>
              <a:rPr sz="2800"/>
            </a:br>
            <a:br>
              <a:rPr sz="2800"/>
            </a:br>
            <a:r>
              <a:rPr b="1" lang="ar-JO" sz="2800" spc="-1" strike="noStrike">
                <a:solidFill>
                  <a:srgbClr val="cc0000"/>
                </a:solidFill>
                <a:latin typeface="Arial"/>
              </a:rPr>
              <a:t>القاهرة</a:t>
            </a:r>
            <a:r>
              <a:rPr b="1" lang="ar-JO" sz="2000" spc="-1" strike="noStrike">
                <a:solidFill>
                  <a:srgbClr val="cc0000"/>
                </a:solidFill>
                <a:latin typeface="Arial"/>
              </a:rPr>
              <a:t>/مصر</a:t>
            </a:r>
            <a:br>
              <a:rPr sz="2000"/>
            </a:br>
            <a:r>
              <a:rPr b="1" lang="ar-JO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9/6</a:t>
            </a:r>
            <a:r>
              <a:rPr b="1" lang="ar-JO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- </a:t>
            </a:r>
            <a:r>
              <a:rPr b="1" lang="ar-JO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r>
              <a:rPr b="1" lang="ar-JO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/ </a:t>
            </a:r>
            <a:r>
              <a:rPr b="1" lang="ar-JO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7/2009</a:t>
            </a:r>
            <a:br>
              <a:rPr sz="2000"/>
            </a:br>
            <a:br>
              <a:rPr sz="3600"/>
            </a:br>
            <a:r>
              <a:rPr b="1" lang="ar-JO" sz="2800" spc="-1" strike="noStrike">
                <a:solidFill>
                  <a:srgbClr val="cc0000"/>
                </a:solidFill>
                <a:latin typeface="Arial"/>
              </a:rPr>
              <a:t>إعداد</a:t>
            </a:r>
            <a:br>
              <a:rPr sz="2800"/>
            </a:br>
            <a:r>
              <a:rPr b="1" lang="ar-JO" sz="3200" spc="-1" strike="noStrike">
                <a:solidFill>
                  <a:srgbClr val="cc0000"/>
                </a:solidFill>
                <a:latin typeface="Arial"/>
              </a:rPr>
              <a:t>محمد العسـاف</a:t>
            </a:r>
            <a:br>
              <a:rPr sz="2800"/>
            </a:br>
            <a:r>
              <a:rPr b="1" lang="ar-JO" sz="2800" spc="-1" strike="noStrike">
                <a:solidFill>
                  <a:srgbClr val="cc0000"/>
                </a:solidFill>
                <a:latin typeface="Arial"/>
              </a:rPr>
              <a:t>دائرة الإحصاءات العا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19120" cy="1447920"/>
          </a:xfrm>
          <a:prstGeom prst="rect">
            <a:avLst/>
          </a:prstGeom>
          <a:ln w="0">
            <a:noFill/>
          </a:ln>
        </p:spPr>
      </p:pic>
      <p:pic>
        <p:nvPicPr>
          <p:cNvPr id="44" name="AMON" descr=""/>
          <p:cNvPicPr/>
          <p:nvPr/>
        </p:nvPicPr>
        <p:blipFill>
          <a:blip r:embed="rId3"/>
          <a:stretch/>
        </p:blipFill>
        <p:spPr>
          <a:xfrm>
            <a:off x="7845480" y="0"/>
            <a:ext cx="129852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280" y="3749760"/>
            <a:ext cx="8764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53560" y="892080"/>
            <a:ext cx="193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400" spc="-1" strike="noStrike">
                <a:solidFill>
                  <a:srgbClr val="cc0000"/>
                </a:solidFill>
                <a:latin typeface="Arial"/>
              </a:rPr>
              <a:t>مقدم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2133720"/>
            <a:ext cx="861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وافر بيانات ومؤشرات عن الهجرة في العديد من التعدادات والمسوحات التي تجريها دائرة الإحصاءات العا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65760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سوحات التي تم إجرائها ليس هدفها الرئيسي دراسة الهجرة في الأرد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10552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 تتوافر بيانات عن الهجرة بشكل دوري أو سنوي من خلال المسوحات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3749760"/>
            <a:ext cx="8764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61880" y="685800"/>
            <a:ext cx="119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cc0000"/>
                </a:solidFill>
                <a:latin typeface="Arial"/>
              </a:rPr>
              <a:t>مصادر بيانات الهجرة لدى دائرة الإحصاءات العام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21337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عداد العام للسكان والمساك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304812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ح الأسرة متعدد الأهدا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510552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ح القادمين والمغادر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403848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سح الوطني لعمل الأطف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3749760"/>
            <a:ext cx="8764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828360" y="762120"/>
            <a:ext cx="107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400" spc="-1" strike="noStrike">
                <a:solidFill>
                  <a:srgbClr val="cc0000"/>
                </a:solidFill>
                <a:latin typeface="Arial"/>
              </a:rPr>
              <a:t>لتعزيز انتاج احصاءات الهجرة في الأرد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810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لا بد من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7432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إجراء مسح متخصص لإحصاءات الهجرة بشكل دوري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4290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إجراء مسح شامل لغير الأردنيين المتواجدين في الأرد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41148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إجراء مسح شامل للعمالة الوافدة في الأرد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472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إنشاء وحدة خاصة بإحصاءات الهج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3341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إنشاء مرصد وطني للعمالة الوافدة في الأرد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2280" y="3749760"/>
            <a:ext cx="8764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828360" y="762120"/>
            <a:ext cx="107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400" spc="-1" strike="noStrike">
                <a:solidFill>
                  <a:srgbClr val="cc0000"/>
                </a:solidFill>
                <a:latin typeface="Arial"/>
              </a:rPr>
              <a:t>لتعزيز انتاج احصاءات الهجرة في الأرد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16765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لا بد من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27432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إنشاء بؤرة نظام لإحصاءات الهجرة تحتوي على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429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مؤشرات الإحصائية للهج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4114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أعداد المهاجرين من وإلى الأرد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472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صادر البيان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53341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أهم الدراسات والأبحاث ذات العلا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597384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بيانات الوصفية للمؤشرات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Data</a:t>
            </a: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2280" y="3749760"/>
            <a:ext cx="8764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828360" y="762120"/>
            <a:ext cx="107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400" spc="-1" strike="noStrike">
                <a:solidFill>
                  <a:srgbClr val="cc0000"/>
                </a:solidFill>
                <a:latin typeface="Arial"/>
              </a:rPr>
              <a:t>لتعزيز انتاج احصاءات الهجرة في الأرد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16765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لا بد من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27432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تابع/ إنشاء بؤرة نظام لإحصاءات الهجرة تحتوي على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34290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جهات الرسمية والدولية والأهلية ذات العلا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41148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حليل البيانات الأولية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w Data</a:t>
            </a: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متوافرة لدى دائرة الإحصاء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2280" y="3749760"/>
            <a:ext cx="8764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16440" y="685800"/>
            <a:ext cx="967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cc0000"/>
                </a:solidFill>
                <a:latin typeface="Arial"/>
              </a:rPr>
              <a:t>خطط مستقبلية لإنتاج إحصاءات الهج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19051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يتم إعداد مقترح لتنفيذ مسح يتضمن جزءاً خاصاً بالهج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0481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سيتم تقييم الوضع الحالي، للوقوف على الاحتياجات والمتطلب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3749760"/>
            <a:ext cx="8764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1815840" y="685800"/>
            <a:ext cx="1275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cc0000"/>
                </a:solidFill>
                <a:latin typeface="Arial"/>
              </a:rPr>
              <a:t>خطط مستقبلية لإنتاج إحصاءات حول الهجرة الدو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9051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 إعداد مقترح لتنفيذ مسح حول أثر الهجرة الدولية على الأرد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0481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دم مشروع الميدستات الاستشارات الفنية حول تنفيذ المس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4114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حاليا إعداد استمارة المس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483084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حاليا إيجاد التمويل لتغطية تكلفة المس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993300"/>
                </a:solidFill>
                <a:latin typeface="Arial"/>
              </a:rPr>
              <a:t>شكــــراً لكــــ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1:08:13Z</dcterms:created>
  <dc:creator>ali Salaq</dc:creator>
  <dc:description/>
  <dc:language>en-US</dc:language>
  <cp:lastModifiedBy>Administrator</cp:lastModifiedBy>
  <dcterms:modified xsi:type="dcterms:W3CDTF">2009-06-22T04:59:03Z</dcterms:modified>
  <cp:revision>7</cp:revision>
  <dc:subject/>
  <dc:title>النظرة المستقبلية لإحصاءات  الهجرة في الأردن  ورقة عمل مقدمة إلى ورشة العمل الإقليمية حول "تعزيز إنتاج إحصاءات الهجرة في الدول الأورو- متوسطية”  فيسبادن/المانيا 10-13/3/2008  إعداد علي السلاق دائرة الإحصاءات العامة</dc:title>
</cp:coreProperties>
</file>