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09BE-90E7-4787-AA6A-B22F5720D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AD0E-4D59-4BDC-8E39-CDB1B2F49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B1B-3216-4F93-A510-29039FC6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245-901C-4606-A6DF-90C8B7C3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E95-586C-4A68-B104-1EFD3174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72C-5B87-4D13-9311-52DD62C5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037-B965-4A5A-9560-7AF32588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88B-D86F-4FBE-AE5C-5DF1687E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3DA-6764-4555-95A7-2497B630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A78-70C3-42ED-91FB-8A7ECD70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CF9-1806-4CEC-A8FC-8CE85234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90C-1AFD-4521-BD2B-196931AE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8F2-5119-4C75-B7EA-E16AC394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D3F-D4BF-4353-B5E6-0F1726B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6E7B-F968-43CC-A893-F2DA778B165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B754-C669-4C00-8052-3920E52FF9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Box 6"/>
          <p:cNvSpPr/>
          <p:nvPr/>
        </p:nvSpPr>
        <p:spPr>
          <a:xfrm>
            <a:off x="538200" y="193680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ecent Developments on Migration Statistics in Leban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500120" y="47530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ra B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EDSTAT II Migration National C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entral Administration for Statistics - Leba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990720" y="3049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STAT II – ESCWA regional workshop on migration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629080" y="838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iro, June 30 to July 3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9FCF-2260-4ED2-AC5A-2646748265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0A6F-7158-440D-9603-254A58E118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1B52-B6FD-405D-A8BA-27AD2372F4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8028-F394-42A2-BBF3-27D60CA412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7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8DCB-E811-4C2E-978E-231509D833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D315-7F65-4E62-8FAE-FB001A4299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457200" y="304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ministrative data - using individual border cro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5"/>
          <p:cNvSpPr/>
          <p:nvPr/>
        </p:nvSpPr>
        <p:spPr>
          <a:xfrm>
            <a:off x="609480" y="1143000"/>
            <a:ext cx="7696440" cy="42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dentifying that this person was IN for more than 6 months/ per y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look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situation for the 6 month previou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ment (M -1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dentify if he is an emigrant or not according to his duration of stay or residence within the sam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0"/>
          <a:stretch/>
        </p:blipFill>
        <p:spPr>
          <a:xfrm>
            <a:off x="685800" y="3838680"/>
            <a:ext cx="6781680" cy="504720"/>
          </a:xfrm>
          <a:prstGeom prst="rect">
            <a:avLst/>
          </a:prstGeom>
          <a:ln w="0">
            <a:noFill/>
          </a:ln>
        </p:spPr>
      </p:pic>
      <p:sp>
        <p:nvSpPr>
          <p:cNvPr id="227" name="Curved Left Arrow 36"/>
          <p:cNvSpPr/>
          <p:nvPr/>
        </p:nvSpPr>
        <p:spPr>
          <a:xfrm flipV="1" rot="16200000">
            <a:off x="4991040" y="1789920"/>
            <a:ext cx="685800" cy="3657600"/>
          </a:xfrm>
          <a:custGeom>
            <a:avLst/>
            <a:gdLst>
              <a:gd name="textAreaLeft" fmla="*/ 91800 w 685800"/>
              <a:gd name="textAreaRight" fmla="*/ 594000 w 685800"/>
              <a:gd name="textAreaTop" fmla="*/ 849960 h 3657600"/>
              <a:gd name="textAreaBottom" fmla="*/ 27219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041" stAng="-5400000" swAng="5400000"/>
                <a:lnTo>
                  <a:pt x="21600" y="11054"/>
                </a:lnTo>
                <a:arcTo wR="21600" hR="10041" stAng="0" swAng="3656975"/>
                <a:lnTo>
                  <a:pt x="5400" y="21281"/>
                </a:lnTo>
                <a:lnTo>
                  <a:pt x="0" y="20588"/>
                </a:lnTo>
                <a:lnTo>
                  <a:pt x="5400" y="19256"/>
                </a:lnTo>
                <a:lnTo>
                  <a:pt x="5400" y="19762"/>
                </a:lnTo>
                <a:arcTo wR="21600" hR="10041" stAng="3656975" swAng="-3576275"/>
                <a:lnTo>
                  <a:pt x="21572" y="10547"/>
                </a:lnTo>
                <a:arcTo wR="21600" hR="10041" stAng="-80700" swAng="-5319300"/>
                <a:close/>
              </a:path>
              <a:path fill="darkenLess" w="21600" h="21600">
                <a:moveTo>
                  <a:pt x="0" y="0"/>
                </a:moveTo>
                <a:arcTo wR="21600" hR="10041" stAng="-5400000" swAng="5400000"/>
                <a:lnTo>
                  <a:pt x="21600" y="11054"/>
                </a:lnTo>
                <a:arcTo wR="21600" hR="10041" stAng="0" swAng="-80700"/>
                <a:lnTo>
                  <a:pt x="21572" y="10547"/>
                </a:lnTo>
                <a:arcTo wR="21600" hR="10041" stAng="-80700" swAng="-53193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12A2-DDEB-4B8C-B916-C49DCC395C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457200" y="304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ministrative data - using individual border cro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21B-9697-4D8C-9E45-78096025EC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09480" y="914400"/>
            <a:ext cx="807732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ble to apply this methodology the country should h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data base for all movements for all citizens and foreign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border crossings have to be recorded by date, type of movement, sex, date of birth, citizenship, country of birt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nonymous data for individual 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link between all movements for each person crossing the bord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retely this methodology does not allow to register more than one immigration or one emigration during a calend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126D-6ED3-4991-B50D-D3DA1918DF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" y="304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ministrative data - using individual border cro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731A-B4DF-424E-AA9E-210856EDE4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457200" y="1127160"/>
            <a:ext cx="80773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tunately, we have to wait until the end of the second year T+1 in order to identify all international migrations to be enumerated during the first calendar yea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cases you should validate the data before applying this methodology (in case of illogical path  such as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- Ou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 I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single path such as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ly or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ebanon we created with Poulain ‘rules of similarity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 this you should know and identify the reasons for suc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5" descr=""/>
          <p:cNvPicPr/>
          <p:nvPr/>
        </p:nvPicPr>
        <p:blipFill>
          <a:blip r:embed="rId4"/>
          <a:stretch/>
        </p:blipFill>
        <p:spPr>
          <a:xfrm>
            <a:off x="1447920" y="3371760"/>
            <a:ext cx="68580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601E-2112-48CE-B417-B2D2AEAB40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6EA3-AE6F-41BC-88F2-FEF9AD9F50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685800" y="990720"/>
            <a:ext cx="46483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2- Survey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module with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S3 SURVE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5" descr=""/>
          <p:cNvPicPr/>
          <p:nvPr/>
        </p:nvPicPr>
        <p:blipFill>
          <a:blip r:embed="rId4"/>
          <a:stretch/>
        </p:blipFill>
        <p:spPr>
          <a:xfrm>
            <a:off x="5181480" y="2666880"/>
            <a:ext cx="347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897A-8BD0-43A3-BD65-92752A7CDF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457200" y="30492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urveys- Migration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D17F-BD0E-4AD6-A1C4-23A83432ED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609480" y="1066680"/>
            <a:ext cx="80773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 Administration of Statistics (CAS) prepared a module on migration within the ‘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Indicators Cluster Survey, Round 3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IC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S3 is conducted in partnership with the UNIC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STAT II project provided technical assistance to Leba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C32C-D923-4F97-BC57-A3219412BF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57200" y="30492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urveys- Migration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DB70-E8D6-4129-A329-C97099C0F0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2"/>
          <p:cNvSpPr/>
          <p:nvPr/>
        </p:nvSpPr>
        <p:spPr>
          <a:xfrm>
            <a:off x="609480" y="1066680"/>
            <a:ext cx="80773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urvey objectives and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dicators on women &amp; children’s health, employment, migration, housing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ize is 16500 Househ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conducting the survey using PDA’s for data collection for the fi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questionnaires: Household, Women, Under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4" descr="PDA.jpg"/>
          <p:cNvPicPr/>
          <p:nvPr/>
        </p:nvPicPr>
        <p:blipFill>
          <a:blip r:embed="rId4"/>
          <a:stretch/>
        </p:blipFill>
        <p:spPr>
          <a:xfrm>
            <a:off x="6986520" y="3816360"/>
            <a:ext cx="19321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BB86-BFE5-4147-8CC2-27E41DEF3E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57200" y="30492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urveys- Migration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22CD-5E32-4C01-B43A-CEEFA3FF06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2"/>
          <p:cNvSpPr/>
          <p:nvPr/>
        </p:nvSpPr>
        <p:spPr>
          <a:xfrm>
            <a:off x="533520" y="1143000"/>
            <a:ext cx="807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cepts an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hallenging issues related to mig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Household’s member that have emig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Household’s that have emigrated as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immi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B401-16FF-46B0-8D37-2F3CE49646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457200" y="30492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urveys- Migration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2A13-BD8C-4DDB-B434-32150E5BB6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609480" y="1219320"/>
            <a:ext cx="80773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cepts an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be able to collect information related to migration we did inquire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eriod 5 years previous to th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gration linked to the head of the househol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emigrated person was/ was not living within the same household with the head of the household before emig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nd characteristics of the migrants at the time of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of address during the last 5 years ( for all household’s members aged 5 years and ab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6"/>
          <p:cNvGraphicFramePr/>
          <p:nvPr/>
        </p:nvGraphicFramePr>
        <p:xfrm>
          <a:off x="142920" y="6095880"/>
          <a:ext cx="9302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095880"/>
                    <a:ext cx="93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1F0D-D3DC-4117-B997-1C270F1A59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BF40-6FEA-42A0-925A-248CE51AEC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3" descr=""/>
          <p:cNvPicPr/>
          <p:nvPr/>
        </p:nvPicPr>
        <p:blipFill>
          <a:blip r:embed="rId4"/>
          <a:stretch/>
        </p:blipFill>
        <p:spPr>
          <a:xfrm>
            <a:off x="228600" y="133200"/>
            <a:ext cx="853452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8BB6-05FC-449F-AD5C-01E6F1EE68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57200" y="30492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urveys- Migration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EE62-075D-42B2-BAA8-6D921D52F7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>
            <a:off x="609480" y="1219320"/>
            <a:ext cx="80773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xpected Outputs and 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should provide data 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haracteristics of emigration for the past 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e and characteristics of emigration such as age, sex, occupation, level of education, cause of migration, hosting countr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mig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ly a partial information on the characteristics of immigration for the past 5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country of residence, reason for changing addre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6A08-398F-4AA0-8110-2D1FE825F3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457200" y="30492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ecent Developments on Migration statistics in Leban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8E2B-B452-4371-B6F9-707F80E046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0"/>
          <p:cNvSpPr/>
          <p:nvPr/>
        </p:nvSpPr>
        <p:spPr>
          <a:xfrm>
            <a:off x="228600" y="1600200"/>
            <a:ext cx="739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ources and current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- Administrativ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migration flows using individual border crossing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- Surve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module within the MICS3 SURV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migration-research-group_01.jpg"/>
          <p:cNvPicPr/>
          <p:nvPr/>
        </p:nvPicPr>
        <p:blipFill>
          <a:blip r:embed="rId4"/>
          <a:stretch/>
        </p:blipFill>
        <p:spPr>
          <a:xfrm>
            <a:off x="6851520" y="2511360"/>
            <a:ext cx="19209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9"/>
          <p:cNvSpPr/>
          <p:nvPr/>
        </p:nvSpPr>
        <p:spPr>
          <a:xfrm>
            <a:off x="571680" y="200016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ci de votre attention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457200" y="1752480"/>
            <a:ext cx="5410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 contact 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Administration f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tary, Army street, Finance &amp; Trade buil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rut, Leba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and Fax: + 961- 1- 373 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lara_badre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1405440" y="838080"/>
            <a:ext cx="55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942920" cy="4953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6"/>
          <p:cNvSpPr/>
          <p:nvPr/>
        </p:nvSpPr>
        <p:spPr>
          <a:xfrm>
            <a:off x="6400800" y="3809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e are on the web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99C3-4922-4AC2-9605-FB09466F26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B681-4809-4352-95BE-3C2CD83E48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4"/>
          <a:stretch/>
        </p:blipFill>
        <p:spPr>
          <a:xfrm>
            <a:off x="4067280" y="1143000"/>
            <a:ext cx="4848120" cy="4257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2"/>
          <p:cNvSpPr/>
          <p:nvPr/>
        </p:nvSpPr>
        <p:spPr>
          <a:xfrm>
            <a:off x="304920" y="9144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 –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migration flows  using individual border crossing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B937-D991-425C-B096-A2B467BDD4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57200" y="304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ministrative data - using individual border cro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A844-7A7A-4F1A-8C62-B229865F76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609480" y="1066680"/>
            <a:ext cx="807732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between the Central Administration for Statistics (CAS) &amp; the General Direction of the General Security (GDGS), the proposals in two different meetings held under MEDSTAT II and technical assistance provided by the Programme led to establish 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t project for measuring migration flows using the individual border crossing da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at the GD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ilot project objectives and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 a new methodology provided by the MEDSTAT II expert M.Pou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in 2007 using selected number of movements &amp; applying the calculation for testing the feasibility of the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lain approving the work of the Lebanes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10A8-89F2-45EF-8300-526152D113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57200" y="304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ministrative data - using individual border cro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9909-D6D5-4376-BB0E-8D7AF3440F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609480" y="1066680"/>
            <a:ext cx="80773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cept and method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new methodology for measuring international migration flows is based on the international recommendations of the UN and Eurosta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is measurement is based 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 of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y or residence in a country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the last 12 month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untry were the person has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d continuously for most of the last 6 months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cluding temporary absence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migration means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borders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usual country of resid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1B36-D38B-49D1-A1A4-3702464622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57200" y="304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ministrative data - using individual border cro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129B-067B-4DD0-B41E-9FF3A7A7CF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609480" y="1066680"/>
            <a:ext cx="807732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cept and method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of usual residence/ stay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ountry should  b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months per year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3 days/year)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ing the duration of residenc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umulative period of 12 months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date of movement (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previous movements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 (M-183 days) to identify his usual residence or stay in the coun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atic identification of international migration movements over th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aths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border crossings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quence in /ou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 of migration defined as the type of movement: the entry into the country is immigration and the exit is emig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9343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09A-3B3D-4FB5-9630-2EB081274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049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762120" y="1066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cept and method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457200" y="304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ministrative data - using individual border cro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4"/>
          <a:stretch/>
        </p:blipFill>
        <p:spPr>
          <a:xfrm>
            <a:off x="457200" y="1828800"/>
            <a:ext cx="84391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C483-4220-4323-A3DB-4A7D867210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891F-C0EC-4F7F-BB42-82D19179B3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57200" y="304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ministrative data - using individual border cro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cept and method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4"/>
          <a:stretch/>
        </p:blipFill>
        <p:spPr>
          <a:xfrm>
            <a:off x="228600" y="1676520"/>
            <a:ext cx="8534520" cy="2333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" descr=""/>
          <p:cNvPicPr/>
          <p:nvPr/>
        </p:nvPicPr>
        <p:blipFill>
          <a:blip r:embed="rId5"/>
          <a:stretch/>
        </p:blipFill>
        <p:spPr>
          <a:xfrm>
            <a:off x="228600" y="1752480"/>
            <a:ext cx="6781680" cy="505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228600" y="2057400"/>
            <a:ext cx="853452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rved Down Arrow 18"/>
          <p:cNvSpPr/>
          <p:nvPr/>
        </p:nvSpPr>
        <p:spPr>
          <a:xfrm>
            <a:off x="2895480" y="4114800"/>
            <a:ext cx="4724640" cy="838080"/>
          </a:xfrm>
          <a:custGeom>
            <a:avLst/>
            <a:gdLst>
              <a:gd name="textAreaLeft" fmla="*/ 1102320 w 4724640"/>
              <a:gd name="textAreaRight" fmla="*/ 3517200 w 472464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82" hR="21600" stAng="10800000" swAng="5400000"/>
                <a:lnTo>
                  <a:pt x="11040" y="0"/>
                </a:lnTo>
                <a:arcTo wR="10082" hR="21600" stAng="-5400000" swAng="3662915"/>
                <a:lnTo>
                  <a:pt x="21280" y="16200"/>
                </a:lnTo>
                <a:lnTo>
                  <a:pt x="20642" y="21600"/>
                </a:lnTo>
                <a:lnTo>
                  <a:pt x="19364" y="16200"/>
                </a:lnTo>
                <a:lnTo>
                  <a:pt x="19843" y="16200"/>
                </a:lnTo>
                <a:arcTo wR="10082" hR="21600" stAng="-1737085" swAng="-3586606"/>
                <a:lnTo>
                  <a:pt x="10561" y="24"/>
                </a:lnTo>
                <a:arcTo wR="10082" hR="21600" stAng="-5476309" swAng="-5323691"/>
                <a:close/>
              </a:path>
              <a:path fill="darkenLess" w="21600" h="21600">
                <a:moveTo>
                  <a:pt x="0" y="21600"/>
                </a:moveTo>
                <a:arcTo wR="10082" hR="21600" stAng="10800000" swAng="5400000"/>
                <a:lnTo>
                  <a:pt x="10082" y="0"/>
                </a:lnTo>
                <a:arcTo wR="10082" hR="21600" stAng="-5400000" swAng="76309"/>
                <a:lnTo>
                  <a:pt x="10561" y="24"/>
                </a:lnTo>
                <a:arcTo wR="10082" hR="21600" stAng="-5476309" swAng="-532369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-0.00347 L 0.0125 0.41875 E">
                                      <p:cBhvr>
                                        <p:cTn id="1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6A0A-CB0B-42D9-ADC7-23BBBA49A2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CE4E-B0C6-4A05-B6FC-CC447DAFD1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4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FB07-3D34-486A-9515-92E06B182B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04F6-1A79-4288-A5B4-FE6B14E058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7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142920" y="5643720"/>
          <a:ext cx="1076400" cy="704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2920" y="5643720"/>
                    <a:ext cx="107640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Box 4"/>
          <p:cNvSpPr/>
          <p:nvPr/>
        </p:nvSpPr>
        <p:spPr>
          <a:xfrm>
            <a:off x="5500800" y="64292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ww.cas.gov.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11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E9F4-91BD-4957-8039-CF2A6CFB5E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620C-51E9-4BCB-B4D1-C8C3202136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457200" y="304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ministrative data - using individual border cro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1295280" y="53341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dentifying that this person was IN for more than 6 months/ per year, we need to look at his situation for the 6 month previou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5" descr=""/>
          <p:cNvPicPr/>
          <p:nvPr/>
        </p:nvPicPr>
        <p:blipFill>
          <a:blip r:embed="rId10"/>
          <a:stretch/>
        </p:blipFill>
        <p:spPr>
          <a:xfrm>
            <a:off x="709560" y="990720"/>
            <a:ext cx="7724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7:00:51Z</dcterms:created>
  <dc:creator/>
  <dc:description/>
  <dc:language>en-US</dc:language>
  <cp:lastModifiedBy/>
  <dcterms:modified xsi:type="dcterms:W3CDTF">2009-07-01T06:25:07Z</dcterms:modified>
  <cp:revision>54</cp:revision>
  <dc:subject/>
  <dc:title>Statistiques de migration au Liban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