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1916280"/>
            <a:ext cx="72392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294920" y="4139640"/>
            <a:ext cx="72392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91628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91628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413964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04720" y="413964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1916280"/>
            <a:ext cx="23306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42560" y="1916280"/>
            <a:ext cx="23306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90200" y="1916280"/>
            <a:ext cx="23306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294920" y="4139640"/>
            <a:ext cx="23306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42560" y="4139640"/>
            <a:ext cx="23306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90200" y="4139640"/>
            <a:ext cx="23306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16280"/>
            <a:ext cx="723924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16280"/>
            <a:ext cx="723924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16280"/>
            <a:ext cx="353268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04720" y="1916280"/>
            <a:ext cx="353268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37720" y="83664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1628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04720" y="1916280"/>
            <a:ext cx="353268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3964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294920" y="1916280"/>
            <a:ext cx="723924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16280"/>
            <a:ext cx="353268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04720" y="191628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04720" y="413964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1628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04720" y="191628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39640"/>
            <a:ext cx="72392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16280"/>
            <a:ext cx="72392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39640"/>
            <a:ext cx="72392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1628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04720" y="191628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3964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04720" y="413964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16280"/>
            <a:ext cx="23306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42560" y="1916280"/>
            <a:ext cx="23306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90200" y="1916280"/>
            <a:ext cx="23306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39640"/>
            <a:ext cx="23306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42560" y="4139640"/>
            <a:ext cx="23306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90200" y="4139640"/>
            <a:ext cx="23306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1916280"/>
            <a:ext cx="723924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16280"/>
            <a:ext cx="353268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4720" y="1916280"/>
            <a:ext cx="353268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37720" y="83664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191628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4720" y="1916280"/>
            <a:ext cx="353268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4920" y="413964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1916280"/>
            <a:ext cx="353268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04720" y="191628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04720" y="413964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91628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4720" y="1916280"/>
            <a:ext cx="353268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4920" y="4139640"/>
            <a:ext cx="72392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11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1916280"/>
            <a:ext cx="723924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25"/>
              </a:spcBef>
              <a:buClr>
                <a:srgbClr val="ffffff"/>
              </a:buClr>
              <a:buSzPct val="14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5716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685800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lvl="4" marL="800280">
              <a:spcBef>
                <a:spcPts val="4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lvl="5" marL="8002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lvl="6" marL="8002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7791480" y="189000"/>
            <a:ext cx="1173240" cy="511200"/>
            <a:chOff x="7791480" y="189000"/>
            <a:chExt cx="1173240" cy="511200"/>
          </a:xfrm>
        </p:grpSpPr>
        <p:sp>
          <p:nvSpPr>
            <p:cNvPr id="4" name=""/>
            <p:cNvSpPr/>
            <p:nvPr/>
          </p:nvSpPr>
          <p:spPr>
            <a:xfrm>
              <a:off x="7791480" y="189000"/>
              <a:ext cx="1173240" cy="51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804800" y="189000"/>
              <a:ext cx="1153080" cy="51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3280" cy="3315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rcRect l="0" t="0" r="0" b="8129"/>
          <a:stretch/>
        </p:blipFill>
        <p:spPr>
          <a:xfrm>
            <a:off x="779400" y="217440"/>
            <a:ext cx="335160" cy="2872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060560" y="289080"/>
            <a:ext cx="257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This project is funded by the European Un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8000" y="652464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Lucida Sans Unicode"/>
              </a:rPr>
              <a:t>M</a:t>
            </a:r>
            <a:r>
              <a:rPr b="1" i="1" lang="en-GB" sz="1000" spc="-1" strike="noStrike">
                <a:solidFill>
                  <a:srgbClr val="ffffff"/>
                </a:solidFill>
                <a:latin typeface="Lucida Sans Unicode"/>
              </a:rPr>
              <a:t>EDSTAT </a:t>
            </a:r>
            <a:r>
              <a:rPr b="1" i="1" lang="en-GB" sz="1200" spc="-1" strike="noStrike">
                <a:solidFill>
                  <a:srgbClr val="ffffff"/>
                </a:solidFill>
                <a:latin typeface="Lucida Sans Unicode"/>
              </a:rPr>
              <a:t>II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GB" sz="1000" spc="-1" strike="noStrike">
                <a:solidFill>
                  <a:srgbClr val="ffffff"/>
                </a:solidFill>
                <a:latin typeface="Arial"/>
              </a:rPr>
              <a:t>Lot 2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 Euro-Mediterranean Statistical Co-operation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381880" y="6400800"/>
            <a:ext cx="762120" cy="457200"/>
          </a:xfrm>
          <a:prstGeom prst="rect">
            <a:avLst/>
          </a:prstGeom>
          <a:solidFill>
            <a:srgbClr val="111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110D-3969-4677-AB96-7CD5CFA96A37}" type="slidenum">
              <a:rPr b="1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40320"/>
            <a:ext cx="9144000" cy="236520"/>
          </a:xfrm>
          <a:prstGeom prst="rect">
            <a:avLst/>
          </a:prstGeom>
          <a:solidFill>
            <a:srgbClr val="111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0" y="5614920"/>
            <a:ext cx="9144000" cy="0"/>
          </a:xfrm>
          <a:prstGeom prst="line">
            <a:avLst/>
          </a:prstGeom>
          <a:ln w="50760">
            <a:solidFill>
              <a:srgbClr val="111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0" y="6453360"/>
            <a:ext cx="9144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111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2c26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762120"/>
            <a:ext cx="79250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2438280"/>
            <a:ext cx="7925040" cy="2286000"/>
          </a:xfrm>
          <a:prstGeom prst="rect">
            <a:avLst/>
          </a:prstGeom>
          <a:solidFill>
            <a:srgbClr val="111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0" y="1828800"/>
            <a:ext cx="9144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862760" y="6230880"/>
            <a:ext cx="1173240" cy="511200"/>
            <a:chOff x="7862760" y="6230880"/>
            <a:chExt cx="1173240" cy="511200"/>
          </a:xfrm>
        </p:grpSpPr>
        <p:sp>
          <p:nvSpPr>
            <p:cNvPr id="56" name=""/>
            <p:cNvSpPr/>
            <p:nvPr/>
          </p:nvSpPr>
          <p:spPr>
            <a:xfrm>
              <a:off x="7862760" y="6230880"/>
              <a:ext cx="1173240" cy="51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7876080" y="6230880"/>
              <a:ext cx="1153080" cy="51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2360" y="6410160"/>
            <a:ext cx="503280" cy="331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rcRect l="0" t="0" r="0" b="8129"/>
          <a:stretch/>
        </p:blipFill>
        <p:spPr>
          <a:xfrm>
            <a:off x="852480" y="6438960"/>
            <a:ext cx="334800" cy="287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33640" y="6510240"/>
            <a:ext cx="257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This project is funded by the European Un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11592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Lucida Sans Unicode"/>
              </a:rPr>
              <a:t>M</a:t>
            </a:r>
            <a:r>
              <a:rPr b="1" i="1" lang="en-GB" sz="1000" spc="-1" strike="noStrike">
                <a:solidFill>
                  <a:srgbClr val="ffffff"/>
                </a:solidFill>
                <a:latin typeface="Lucida Sans Unicode"/>
              </a:rPr>
              <a:t>EDSTAT </a:t>
            </a:r>
            <a:r>
              <a:rPr b="1" i="1" lang="en-GB" sz="1200" spc="-1" strike="noStrike">
                <a:solidFill>
                  <a:srgbClr val="ffffff"/>
                </a:solidFill>
                <a:latin typeface="Lucida Sans Unicode"/>
              </a:rPr>
              <a:t>II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 Euro-Mediterranean Statistical Co-operation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905120"/>
            <a:ext cx="9144000" cy="25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cap="rnd" w="3240">
                  <a:solidFill>
                    <a:srgbClr val="2c265b"/>
                  </a:solidFill>
                  <a:custDash>
                    <a:ds d="100000" sp="1000"/>
                  </a:custDash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EDSTAT II</a:t>
            </a:r>
            <a:endParaRPr b="0" i="1" lang="en-US" sz="5400" spc="1" strike="noStrike">
              <a:ln cap="rnd" w="3240">
                <a:solidFill>
                  <a:srgbClr val="2c265b"/>
                </a:solidFill>
                <a:custDash>
                  <a:ds d="100000" sp="1000"/>
                </a:custDash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3510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465120" algn="ctr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579600" algn="ctr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4" marL="693720" algn="ctr">
              <a:spcBef>
                <a:spcPts val="42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5" marL="69372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6" marL="69372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1904760"/>
            <a:ext cx="792504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spcAft>
                <a:spcPts val="2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entury Gothic"/>
              </a:rPr>
              <a:t>Towards the implementation of the international recommendations on migration statistics at regional level: 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Century Gothic"/>
              </a:rPr>
              <a:t>The MEDSTAT experience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83808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2c265b"/>
                </a:solidFill>
                <a:latin typeface="Arial"/>
              </a:rPr>
              <a:t>ESCWA Workshop on Migration Statistic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c265b"/>
                </a:solidFill>
                <a:latin typeface="Arial"/>
              </a:rPr>
              <a:t>Cairo, 30 June – 3 July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77040" y="5022720"/>
            <a:ext cx="35550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9"/>
              </a:spcBef>
              <a:spcAft>
                <a:spcPts val="1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Century Gothic"/>
              </a:rPr>
              <a:t>G. Cantisani</a:t>
            </a:r>
            <a:br>
              <a:rPr sz="2800"/>
            </a:b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 MEDSTAT II Key Exper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1716120"/>
            <a:ext cx="8569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"/>
              </a:rPr>
              <a:t>Administr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51"/>
              </a:spcBef>
              <a:buClr>
                <a:srgbClr val="ffffff"/>
              </a:buClr>
              <a:buSzPct val="140000"/>
              <a:buFont typeface="Arial Rounded M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Border cards (or border registration) widely used for statistics but with no relevance for migr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51"/>
              </a:spcBef>
              <a:buClr>
                <a:srgbClr val="ffffff"/>
              </a:buClr>
              <a:buSzPct val="140000"/>
              <a:buFont typeface="Arial Rounded M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Registers of residence permits as strongest systems on the whole, although some limitations and significant differences, anyway very limitedly used for statistic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51"/>
              </a:spcBef>
              <a:buClr>
                <a:srgbClr val="ffffff"/>
              </a:buClr>
              <a:buSzPct val="140000"/>
              <a:buFont typeface="Arial Rounded M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Other administrative sources differently developed and limitedly / not regularly used for (unofficial) statistic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51"/>
              </a:spcBef>
              <a:buClr>
                <a:srgbClr val="ffffff"/>
              </a:buClr>
              <a:buSzPct val="140000"/>
              <a:buFont typeface="Arial Rounded M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National partner agencies in overall ready for requests, sometimes needing resources upgrad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in findings of Orientation Phase (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174636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"/>
              </a:rPr>
              <a:t>Demand from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40000"/>
              <a:buFont typeface="Arial Rounded M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"/>
              </a:rPr>
              <a:t>Increasing interest in migration, research undertaken to varying ex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40000"/>
              <a:buFont typeface="Arial Rounded M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"/>
              </a:rPr>
              <a:t>Main interest on emigration / nationals residing abroad, returning migration, foreign im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40000"/>
              <a:buFont typeface="Arial Rounded M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"/>
              </a:rPr>
              <a:t>Requests for statistics not enough satisfied; some criticism on lack of funding, fragmentation of activities, limitations in statistics and in the access to data of destination countries due to its high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40000"/>
              <a:buFont typeface="Arial Rounded M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"/>
              </a:rPr>
              <a:t>Strong demand of international collaboration and co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in findings of Orientation Phase (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752480"/>
            <a:ext cx="86058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"/>
              </a:rPr>
              <a:t>Other main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862"/>
              </a:spcBef>
              <a:buClr>
                <a:srgbClr val="ffffff"/>
              </a:buClr>
              <a:buSzPct val="140000"/>
              <a:buFont typeface="Arial Rounded M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NSSs for migration not sufficiently coordinated, with </a:t>
            </a:r>
            <a:r>
              <a:rPr b="1" lang="en-GB" sz="2300" spc="-1" strike="noStrike">
                <a:solidFill>
                  <a:srgbClr val="ffffff"/>
                </a:solidFill>
                <a:latin typeface="Arial Rounded MT"/>
              </a:rPr>
              <a:t>national committees not existing / poorly</a:t>
            </a: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 </a:t>
            </a:r>
            <a:r>
              <a:rPr b="1" lang="en-GB" sz="2300" spc="-1" strike="noStrike">
                <a:solidFill>
                  <a:srgbClr val="ffffff"/>
                </a:solidFill>
                <a:latin typeface="Arial Rounded MT"/>
              </a:rPr>
              <a:t>operat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862"/>
              </a:spcBef>
              <a:buClr>
                <a:srgbClr val="ffffff"/>
              </a:buClr>
              <a:buSzPct val="140000"/>
              <a:buFont typeface="Arial Rounded M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Arial Rounded MT"/>
              </a:rPr>
              <a:t>S</a:t>
            </a: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ome lack of understanding about the usefulness and the practical implications for statistic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862"/>
              </a:spcBef>
              <a:buClr>
                <a:srgbClr val="ffffff"/>
              </a:buClr>
              <a:buSzPct val="140000"/>
              <a:buFont typeface="Arial Rounded M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NSIs strongly aiming to development, </a:t>
            </a:r>
            <a:r>
              <a:rPr b="1" lang="en-GB" sz="2300" spc="-1" strike="noStrike">
                <a:solidFill>
                  <a:srgbClr val="ffffff"/>
                </a:solidFill>
                <a:latin typeface="Arial Rounded MT"/>
              </a:rPr>
              <a:t>good level of potential cooperation in overal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862"/>
              </a:spcBef>
              <a:buClr>
                <a:srgbClr val="ffffff"/>
              </a:buClr>
              <a:buSzPct val="140000"/>
              <a:buFont typeface="Arial Rounded M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Some limited knowledge available from the pa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862"/>
              </a:spcBef>
              <a:buClr>
                <a:srgbClr val="ffffff"/>
              </a:buClr>
              <a:buSzPct val="140000"/>
              <a:buFont typeface="Arial Rounded M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Arial Rounded MT"/>
              </a:rPr>
              <a:t>Recruitment / reallocation of NSIs staff often planned, with needs of training, information, technical advice, </a:t>
            </a: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better equipment and communication mea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140000"/>
              <a:buFont typeface="Arial Rounded M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in findings of Orientation Phase (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790560"/>
            <a:ext cx="86644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jectives and activities resulting from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Orientation Phase (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981080"/>
            <a:ext cx="8569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37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Implementation of capacity building measures, normally based on </a:t>
            </a:r>
            <a:r>
              <a:rPr b="1" lang="en-US" sz="2600" spc="-1" strike="noStrike">
                <a:solidFill>
                  <a:srgbClr val="d6590c"/>
                </a:solidFill>
                <a:latin typeface="Arial Rounded MT"/>
              </a:rPr>
              <a:t>varying sources and approaches</a:t>
            </a: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, and therefore </a:t>
            </a:r>
            <a:r>
              <a:rPr b="1" lang="en-US" sz="2600" spc="-1" strike="noStrike">
                <a:solidFill>
                  <a:srgbClr val="d2d206"/>
                </a:solidFill>
                <a:latin typeface="Arial Rounded MT"/>
              </a:rPr>
              <a:t>with varying activities, actions and achievements</a:t>
            </a: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, depending on coun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950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Someway beyond the ToRs, trial statistical compilations based on new / improved administrative data, evaluation / access to data produced by other countries and joint wor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395280" y="1981080"/>
            <a:ext cx="8569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115000"/>
              <a:buFont typeface="Arial Rounded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Strengthening the capacity to produce  migration statistics using administrative sour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115000"/>
              <a:buFont typeface="Arial Rounded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Strengthening the capacity to implement migration modules in household surveys and censu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115000"/>
              <a:buFont typeface="Arial Rounded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Improving national collaboration and aware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115000"/>
              <a:buFont typeface="Arial Rounded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 Rounded MT"/>
              </a:rPr>
              <a:t>Improving data production, exchange of international data and joint wor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115000"/>
              <a:buFont typeface="Arial Rounded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Other training and assist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83664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jectives and activities resulting from  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Orientation Phase (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95280" y="1981080"/>
            <a:ext cx="8596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Rounded MT"/>
              </a:rPr>
              <a:t>Preparation of a synthetised </a:t>
            </a:r>
            <a:r>
              <a:rPr b="1" i="1" lang="en-US" sz="2500" spc="-1" strike="noStrike">
                <a:solidFill>
                  <a:srgbClr val="c32a1f"/>
                </a:solidFill>
                <a:latin typeface="Arial Rounded MT"/>
              </a:rPr>
              <a:t>Guide on the Compilation of Migration Statistics in the Euro-MED Region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 Rounded MT"/>
              </a:rPr>
              <a:t>(proposed from EUROSTAT as output of a regional train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12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Rounded MT"/>
              </a:rPr>
              <a:t>Development of </a:t>
            </a:r>
            <a:r>
              <a:rPr b="1" i="1" lang="en-US" sz="2500" spc="-1" strike="noStrike">
                <a:solidFill>
                  <a:srgbClr val="c32a1f"/>
                </a:solidFill>
                <a:latin typeface="Arial Rounded MT"/>
              </a:rPr>
              <a:t>Model Questionnaires for </a:t>
            </a:r>
            <a:r>
              <a:rPr b="1" i="1" lang="en-US" sz="2500" spc="-1" strike="noStrike" u="sng">
                <a:solidFill>
                  <a:srgbClr val="c32a1f"/>
                </a:solidFill>
                <a:uFillTx/>
                <a:latin typeface="Arial Rounded MT"/>
              </a:rPr>
              <a:t>H</a:t>
            </a:r>
            <a:r>
              <a:rPr b="1" i="1" lang="en-US" sz="2500" spc="-1" strike="noStrike">
                <a:solidFill>
                  <a:srgbClr val="c32a1f"/>
                </a:solidFill>
                <a:latin typeface="Arial Rounded MT"/>
              </a:rPr>
              <a:t>ousehold </a:t>
            </a:r>
            <a:r>
              <a:rPr b="1" i="1" lang="en-US" sz="2500" spc="-1" strike="noStrike" u="sng">
                <a:solidFill>
                  <a:srgbClr val="c32a1f"/>
                </a:solidFill>
                <a:uFillTx/>
                <a:latin typeface="Arial Rounded MT"/>
              </a:rPr>
              <a:t>I</a:t>
            </a:r>
            <a:r>
              <a:rPr b="1" i="1" lang="en-US" sz="2500" spc="-1" strike="noStrike">
                <a:solidFill>
                  <a:srgbClr val="c32a1f"/>
                </a:solidFill>
                <a:latin typeface="Arial Rounded MT"/>
              </a:rPr>
              <a:t>nternational </a:t>
            </a:r>
            <a:r>
              <a:rPr b="1" i="1" lang="en-US" sz="2500" spc="-1" strike="noStrike" u="sng">
                <a:solidFill>
                  <a:srgbClr val="c32a1f"/>
                </a:solidFill>
                <a:uFillTx/>
                <a:latin typeface="Arial Rounded MT"/>
              </a:rPr>
              <a:t>M</a:t>
            </a:r>
            <a:r>
              <a:rPr b="1" i="1" lang="en-US" sz="2500" spc="-1" strike="noStrike">
                <a:solidFill>
                  <a:srgbClr val="c32a1f"/>
                </a:solidFill>
                <a:latin typeface="Arial Rounded MT"/>
              </a:rPr>
              <a:t>igration </a:t>
            </a:r>
            <a:r>
              <a:rPr b="1" i="1" lang="en-US" sz="2500" spc="-1" strike="noStrike" u="sng">
                <a:solidFill>
                  <a:srgbClr val="c32a1f"/>
                </a:solidFill>
                <a:uFillTx/>
                <a:latin typeface="Arial Rounded MT"/>
              </a:rPr>
              <a:t>S</a:t>
            </a:r>
            <a:r>
              <a:rPr b="1" i="1" lang="en-US" sz="2500" spc="-1" strike="noStrike">
                <a:solidFill>
                  <a:srgbClr val="c32a1f"/>
                </a:solidFill>
                <a:latin typeface="Arial Rounded MT"/>
              </a:rPr>
              <a:t>urveys (MED-HIMS) </a:t>
            </a:r>
            <a:r>
              <a:rPr b="1" lang="en-US" sz="2500" spc="-1" strike="noStrike">
                <a:solidFill>
                  <a:srgbClr val="ffffff"/>
                </a:solidFill>
                <a:latin typeface="Arial Rounded MT"/>
              </a:rPr>
              <a:t>to be undertaken in a number of MED countries outside MEDSTAT funding, possibly in a coordinated way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 Rounded MT"/>
              </a:rPr>
              <a:t>(proposed from a regional workshop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836640"/>
            <a:ext cx="9068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urther main activities defined during the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Implementation Ph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19280"/>
            <a:ext cx="8435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BS" sz="2800" spc="-1" strike="noStrike">
                <a:solidFill>
                  <a:srgbClr val="ffffff"/>
                </a:solidFill>
                <a:latin typeface="Arial"/>
              </a:rPr>
              <a:t>Work Program and implemented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95280" y="1728720"/>
            <a:ext cx="8569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719280"/>
            <a:ext cx="8435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BS" sz="2800" spc="-1" strike="noStrike">
                <a:solidFill>
                  <a:srgbClr val="ffffff"/>
                </a:solidFill>
                <a:latin typeface="Arial"/>
              </a:rPr>
              <a:t>Work Program and implemented activities (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95280" y="1728720"/>
            <a:ext cx="8569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53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72200" y="5105520"/>
            <a:ext cx="2971800" cy="687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WKS/WS = Workshop / Work Session</a:t>
            </a:r>
            <a:br>
              <a:rPr sz="1300"/>
            </a:b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TRC = Training Course</a:t>
            </a:r>
            <a:br>
              <a:rPr sz="1300"/>
            </a:b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MQ = Model Questionnai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719280"/>
            <a:ext cx="8435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BS" sz="2800" spc="-1" strike="noStrike">
                <a:solidFill>
                  <a:srgbClr val="ffffff"/>
                </a:solidFill>
                <a:latin typeface="Arial"/>
              </a:rPr>
              <a:t>Work Program and implemented activities (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95280" y="1728720"/>
            <a:ext cx="8569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91360" cy="6172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143000" y="5791320"/>
            <a:ext cx="2971800" cy="687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WKS/WS = Workshop / Work Session</a:t>
            </a:r>
            <a:br>
              <a:rPr sz="1300"/>
            </a:b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TRC = Training Course</a:t>
            </a:r>
            <a:br>
              <a:rPr sz="1300"/>
            </a:b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MQ = Model Questionnai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0" y="103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71928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NATIONAL  COORDIN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728720"/>
            <a:ext cx="876312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Good responsiveness and cooperation in many countries but still remains the main challe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Several new national committee and meeti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New successful relationships among national agencies in Lebanon and Morocco resulting in the </a:t>
            </a:r>
            <a:r>
              <a:rPr b="1" lang="en-US" sz="2600" spc="-1" strike="noStrike">
                <a:solidFill>
                  <a:srgbClr val="ffff00"/>
                </a:solidFill>
                <a:latin typeface="Arial Rounded MT"/>
              </a:rPr>
              <a:t>first time elaboration of</a:t>
            </a: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 Rounded MT"/>
              </a:rPr>
              <a:t>individual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Similar process openly tried in Egyp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High expectation of developments in Jordan and Syria, with no follow-up at end due to different reas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1854000"/>
            <a:ext cx="86104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spcBef>
                <a:spcPts val="751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EDSTAT I main activities and 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ontext and objectives of MEDSTAT I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in findings of Orientation Ph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bjectives and activities resulting from Orientation Ph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Further main activities defined during the Implementation Ph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Work program and implemented activ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General conclu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240" y="7621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00"/>
              </a:buClr>
              <a:buSzPct val="1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BS" sz="28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1928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STUDY  VISITS  (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728720"/>
            <a:ext cx="876312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7 Study Visits in 7 EU Member States on different topics but always including national systems and use of administrative data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 Rounded MT"/>
              </a:rPr>
              <a:t>Egypt to Ital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 Rounded MT"/>
              </a:rPr>
              <a:t>Jordan to Ita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 Rounded MT"/>
              </a:rPr>
              <a:t>Lebanon to Italy / Belgium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 Rounded MT"/>
              </a:rPr>
              <a:t>Palestinian Authority to Hung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 Rounded MT"/>
              </a:rPr>
              <a:t>Maghreb countries jointly to Fr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 Rounded MT"/>
              </a:rPr>
              <a:t>Israel to Netherlands / Finl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 Rounded MT"/>
              </a:rPr>
              <a:t>Morocco and Syria to Sp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71928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STUDY  VISITS  (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1728720"/>
            <a:ext cx="891540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Sometimes time-consuming organisation but generally well apprecia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In some cases ending with the definition of pilot / new work, improvement of previous plans or suggestions for bilateral coope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Useful for inter-institutional collab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Sometimes also useful for strengthening the relationships of national agencies in the host count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719280"/>
            <a:ext cx="8893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BZ" sz="2800" spc="-1" strike="noStrike">
                <a:solidFill>
                  <a:srgbClr val="ffffff"/>
                </a:solidFill>
                <a:latin typeface="Arial"/>
              </a:rPr>
              <a:t>TECHNICAL  ASSIST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1828800"/>
            <a:ext cx="87631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14 missions in 6 countries </a:t>
            </a:r>
            <a:r>
              <a:rPr b="1" lang="en-US" sz="2600" spc="-1" strike="noStrike">
                <a:solidFill>
                  <a:srgbClr val="d2d206"/>
                </a:solidFill>
                <a:latin typeface="Arial Rounded MT"/>
              </a:rPr>
              <a:t>(Syria, Lebanon (2), Jordan (4), Egypt (4) , Palestine (2) and  Morocco)</a:t>
            </a: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 for supporting the national awareness and coordination, programming of activities, use of administrative data, migration modules and proposals of migration surve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Assistance from home, including the proposal of a set of priority tables based on administrative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Wide implication of Short-Term Experts (11+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719280"/>
            <a:ext cx="8893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BZ" sz="2800" spc="-1" strike="noStrike">
                <a:solidFill>
                  <a:srgbClr val="ffffff"/>
                </a:solidFill>
                <a:latin typeface="Arial"/>
              </a:rPr>
              <a:t>MAIN ACTIVITIES IN COUNTRIES (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1676520"/>
            <a:ext cx="87631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Egypt: extension of electronic registration of data + new tables based on administrative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Jordan: inventory of sources + discussion towards a survey on immigration +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Israel: moves towards the conception of a “</a:t>
            </a:r>
            <a:r>
              <a:rPr b="1" i="1" lang="en-US" sz="2600" spc="-1" strike="noStrike">
                <a:solidFill>
                  <a:srgbClr val="ffffff"/>
                </a:solidFill>
                <a:latin typeface="Arial Rounded MT"/>
              </a:rPr>
              <a:t>Dual Record System</a:t>
            </a: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” for both national and intern. nee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Lebanon: migration module for MICS 3 + pilot work on the use of individual data from border cross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Morocco: exploitation of individual data from residence perm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71928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IN ACTIVITIES IN THE COUNTRIES (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1752480"/>
            <a:ext cx="86108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Egypt, Jordan, Lebanon, Morocco and Syria: new national committees and working grou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Egypt, Jordan, Palestine and Syria: proposals of similar migration surve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Somewhere less activities than expected, mostly due to the conduction of censuses, limited absorption capacity, staff turnover and reorganisation, lack of effective cooperation among partner agencies, depending on coun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71928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ATIONAL  MEETINGS (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805040"/>
            <a:ext cx="891540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"/>
              </a:rPr>
              <a:t>2 task force 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"/>
              </a:rPr>
              <a:t>2 regional training courses on concepts, definitions and methods for migration statistics and measurement of remit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"/>
              </a:rPr>
              <a:t>3 regional workshops, 2 of which on Model Questionn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d206"/>
                </a:solidFill>
                <a:latin typeface="Arial Rounded MT"/>
              </a:rPr>
              <a:t>2 Joint UNECE / EUROSTAT Work Sessions, Suitland Working Group, other 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71928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ATIONAL  MEETINGS (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1676520"/>
            <a:ext cx="8915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Rounded MT"/>
              </a:rPr>
              <a:t>Useful to improve the awareness on migration statistics, the knowledge of methods, exchange of practices and recent initiatives at international/global  level (Suitland WG, GFMD, CDG Commission on Int. Migration Data, EC Migration Profiles, …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Rounded MT"/>
              </a:rPr>
              <a:t>Direct contribution to international frameworks (e.g. paper on methodologies for the estimation of stocks of irregular migrants for the UNECE / EUROSTAT W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Rounded MT"/>
              </a:rPr>
              <a:t>MEDSTAT II events useful for discussing activities and future plans of the MPCs and establishing synergies, with very informative final report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719280"/>
            <a:ext cx="8512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S AND RECOMMENDATION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FROM THE REGIONAL WORKSHOP 2008 (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828800"/>
            <a:ext cx="838224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2d20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828800"/>
            <a:ext cx="83678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140000"/>
              <a:buFont typeface="Arial Rounded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"/>
              </a:rPr>
              <a:t>Directly cover illegal migration and circular migration through future workshops and gu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140000"/>
              <a:buFont typeface="Arial Rounded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"/>
              </a:rPr>
              <a:t>Draft guidelines / technical manual on transfers taking into account all available exper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140000"/>
              <a:buFont typeface="Arial Rounded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"/>
              </a:rPr>
              <a:t>Countries to check consistency and up-date data on research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140000"/>
              <a:buFont typeface="Arial Rounded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"/>
              </a:rPr>
              <a:t>Consider up-dating the Statistics in Focus produced by Eurostat in 1998 (based on the EU MS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140000"/>
              <a:buFont typeface="Arial Rounded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"/>
              </a:rPr>
              <a:t>Keep informed through the website, workshops, etc., of relevant international activities, projects and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140000"/>
              <a:buFont typeface="Arial Rounded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719280"/>
            <a:ext cx="8512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S AND RECOMMENDATION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FROM THE REGIONAL WORKSHOP 2008 (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828800"/>
            <a:ext cx="838224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2d20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828800"/>
            <a:ext cx="8569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140000"/>
              <a:buFont typeface="Arial Rounded MT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971d"/>
                </a:solidFill>
                <a:latin typeface="Arial Rounded MT"/>
              </a:rPr>
              <a:t>Countries consider any proposal for technical assistance and look for synergy and reference to good practices</a:t>
            </a:r>
            <a:r>
              <a:rPr b="1" lang="en-US" sz="2400" spc="-1" strike="noStrike">
                <a:solidFill>
                  <a:srgbClr val="ffffff"/>
                </a:solidFill>
                <a:latin typeface="Arial Rounded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140000"/>
              <a:buFont typeface="Arial Rounded MT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590c"/>
                </a:solidFill>
                <a:latin typeface="Arial Rounded MT"/>
              </a:rPr>
              <a:t>Keep informed of progress on the Lebanon pilot and publish its final (or partial)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140000"/>
              <a:buFont typeface="Arial Rounded MT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971d"/>
                </a:solidFill>
                <a:latin typeface="Arial Rounded MT"/>
              </a:rPr>
              <a:t>Possibly provide technical assistance to other MPCs wishing to test a similar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140000"/>
              <a:buFont typeface="Arial Rounded MT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590c"/>
                </a:solidFill>
                <a:latin typeface="Arial Rounded MT"/>
              </a:rPr>
              <a:t>Keep informed of progress on work on permits in Morocco and publish results / short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140000"/>
              <a:buFont typeface="Arial Rounded MT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"/>
              </a:rPr>
              <a:t>Continue to enhance cooperation among national agencies and inform of the reasons behind proposed changes/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719280"/>
            <a:ext cx="8512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S AND RECOMMENDATION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FROM THE REGIONAL WORKSHOP 2008 (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828800"/>
            <a:ext cx="838224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2d20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752480"/>
            <a:ext cx="8812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40000"/>
              <a:buFont typeface="Arial Rounded MT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 Rounded MT"/>
              </a:rPr>
              <a:t>Document and publish the use of modules and surveys to measure actual / intended emigration and return migration, eventually including the EU, and any validation/quality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40000"/>
              <a:buFont typeface="Arial Rounded MT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 Rounded MT"/>
              </a:rPr>
              <a:t>Depending on resources, provide assistance to MPCs on surveys beyond the preparation of project documents for migration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40000"/>
              <a:buFont typeface="Arial Rounded MT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 Rounded MT"/>
              </a:rPr>
              <a:t>Develop a core model questionnaire for a specialized migration survey for the Region, to be tested in one or two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40000"/>
              <a:buFont typeface="Arial Rounded MT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 Rounded MT"/>
              </a:rPr>
              <a:t>Publish results of any pilot work on a specialized migration survey or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31920" y="1728720"/>
            <a:ext cx="881208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(MED-Migr I, 1996 – 2003, in two phas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"/>
              </a:rPr>
              <a:t>Assessment and documentation of the legal framework and available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"/>
              </a:rPr>
              <a:t>Strengthening inter-institutional collabo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"/>
              </a:rPr>
              <a:t>Enhancement of systems of border cards and residence permits, including pilo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"/>
              </a:rPr>
              <a:t>A proposal for emigration modules in census /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"/>
              </a:rPr>
              <a:t>Three data collection exercises but no publication of data due to the limited availability and compa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"/>
              </a:rPr>
              <a:t>Intensive dissemination of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STAT I main activities and results (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71928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THER ACTIVITIES AT REGIONAL OR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 CENTRAL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957320"/>
            <a:ext cx="906768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75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32a1f"/>
                </a:solidFill>
                <a:latin typeface="Arial Rounded MT"/>
              </a:rPr>
              <a:t>Sector Re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975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32a1f"/>
                </a:solidFill>
                <a:latin typeface="Arial Rounded MT"/>
              </a:rPr>
              <a:t>Guide on the compilation of migration statis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975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32a1f"/>
                </a:solidFill>
                <a:latin typeface="Arial Rounded MT"/>
              </a:rPr>
              <a:t>Model Questionnai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975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32a1f"/>
                </a:solidFill>
                <a:latin typeface="Arial Rounded MT"/>
              </a:rPr>
              <a:t>Final Publ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975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Translation of docu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975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Diffusion of documents on CIR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975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Facilitation of data reques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975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"/>
              </a:rPr>
              <a:t>Synergies with ESCWA, World Bank, EUI/CARIM and  other institutions and initia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71928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s (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6760" y="1728720"/>
            <a:ext cx="861048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Some too heavy and time consuming administrative procedures with the EC and consultation processes with MED-countries and different institutions and initiative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Good context of dialogue and exchange of information among MED-countries and with other countries / frameworks, stressing on the opportunity to apply common criteria in the statistical produc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Continuous and useful support from the EC / EUROSTAT, ESCWA, other international institutions and initiatives and the NSIs of selected EU Member State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A favorable timetable of international framework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71928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s (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828800"/>
            <a:ext cx="861048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Few but significant and varied activities at country level,  also beyond the initial mandate, with good hopes for consolidation of work and for reproduction in other countr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The challenging but unique joint exercise of Model Questionnaires for migration survey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SzPct val="14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The push to invent, to play on the available data sources (“</a:t>
            </a:r>
            <a:r>
              <a:rPr b="1" i="1" lang="en-US" sz="2300" spc="-1" strike="noStrike">
                <a:solidFill>
                  <a:srgbClr val="ffffff"/>
                </a:solidFill>
                <a:latin typeface="Arial Rounded MT"/>
              </a:rPr>
              <a:t>Do it yourself!</a:t>
            </a: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”) as well as and to satisfy the different recommendations (e.g. CGD Commission on International Migration Data for Development Research), all asking relatively few co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66880" y="274320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STAT I main activities and results (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880" y="1828800"/>
          <a:ext cx="8382240" cy="4403880"/>
        </p:xfrm>
        <a:graphic>
          <a:graphicData uri="http://schemas.openxmlformats.org/drawingml/2006/table">
            <a:tbl>
              <a:tblPr/>
              <a:tblGrid>
                <a:gridCol w="1447920"/>
                <a:gridCol w="69343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7c1e6b"/>
                          </a:solidFill>
                          <a:latin typeface="Arial"/>
                          <a:ea typeface="Times New Roman"/>
                        </a:rPr>
                        <a:t>Action 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7c1e6b"/>
                          </a:solidFill>
                          <a:latin typeface="Arial"/>
                          <a:ea typeface="Times New Roman"/>
                        </a:rPr>
                        <a:t>Evaluation of various existing sources to explore possibility of building a regional statistical sy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7c1e6b"/>
                          </a:solidFill>
                          <a:latin typeface="Arial"/>
                          <a:ea typeface="Times New Roman"/>
                        </a:rPr>
                        <a:t>Action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7c1e6b"/>
                          </a:solidFill>
                          <a:latin typeface="Arial"/>
                          <a:ea typeface="Times New Roman"/>
                        </a:rPr>
                        <a:t>Evaluation and enhancement of border card system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7c1e6b"/>
                          </a:solidFill>
                          <a:latin typeface="Arial"/>
                          <a:ea typeface="Times New Roman"/>
                        </a:rPr>
                        <a:t>Action 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7c1e6b"/>
                          </a:solidFill>
                          <a:latin typeface="Arial"/>
                          <a:ea typeface="Times New Roman"/>
                        </a:rPr>
                        <a:t>Evaluation and enhancement of work and residence permit system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7c1e6b"/>
                          </a:solidFill>
                          <a:latin typeface="Arial"/>
                          <a:ea typeface="Times New Roman"/>
                        </a:rPr>
                        <a:t>Action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7c1e6b"/>
                          </a:solidFill>
                          <a:latin typeface="Arial"/>
                          <a:ea typeface="Times New Roman"/>
                        </a:rPr>
                        <a:t>Management, Co-ordination, Meetings and Ev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7c1e6b"/>
                          </a:solidFill>
                          <a:latin typeface="Arial"/>
                          <a:ea typeface="Times New Roman"/>
                        </a:rPr>
                        <a:t>Action 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7c1e6b"/>
                          </a:solidFill>
                          <a:latin typeface="Arial"/>
                          <a:ea typeface="Times New Roman"/>
                        </a:rPr>
                        <a:t>MED-Migr Data Col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7c1e6b"/>
                          </a:solidFill>
                          <a:latin typeface="Arial"/>
                          <a:ea typeface="Times New Roman"/>
                        </a:rPr>
                        <a:t>Action 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7c1e6b"/>
                          </a:solidFill>
                          <a:latin typeface="Arial"/>
                          <a:ea typeface="Times New Roman"/>
                        </a:rPr>
                        <a:t>Study visits to Ministries of Interi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1728720"/>
            <a:ext cx="89917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Main output: 3 Eurostat Working Papers also widely referring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ther national experiences and international recommendatio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1100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Rounded MT"/>
              </a:rPr>
              <a:t>MEDSTAT Programme. Estimating emigration through an emigration module in the census. A proposal for the next censuses</a:t>
            </a:r>
            <a:r>
              <a:rPr b="0" lang="en-GB" sz="2200" spc="-1" strike="noStrike">
                <a:solidFill>
                  <a:srgbClr val="ffffff"/>
                </a:solidFill>
                <a:latin typeface="Arial Rounded MT"/>
              </a:rPr>
              <a:t>, by Reno Camille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1100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Rounded MT"/>
              </a:rPr>
              <a:t>MEDSTAT I Programme. Adapting border card systems in the Mediterranean region to measure international migration and international tourism: new initiatives and technical guidelines</a:t>
            </a:r>
            <a:r>
              <a:rPr b="0" lang="en-GB" sz="2200" spc="-1" strike="noStrike">
                <a:solidFill>
                  <a:srgbClr val="ffffff"/>
                </a:solidFill>
                <a:latin typeface="Arial Rounded MT"/>
              </a:rPr>
              <a:t>, by Jeannette Schoorl, in collaboration with Ibrahim Alì and Samir Far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1100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Rounded MT"/>
              </a:rPr>
              <a:t>MEDSTAT Programme. Adapting residence and work permits registers in the Mediterranean region to measure international migration flows and stocks. Technical manual and guidelines</a:t>
            </a:r>
            <a:r>
              <a:rPr b="0" lang="en-GB" sz="2200" spc="-1" strike="noStrike">
                <a:solidFill>
                  <a:srgbClr val="ffffff"/>
                </a:solidFill>
                <a:latin typeface="Arial Rounded MT"/>
              </a:rPr>
              <a:t>, prepared by Jamal Bourchac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8366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STAT I main activities and results (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719280"/>
            <a:ext cx="828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Context and objectives of MEDSTAT II (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676520"/>
            <a:ext cx="8991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Rounded MT"/>
              </a:rPr>
              <a:t>Main differences between MEDSTAT I and I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64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Rounded MT"/>
              </a:rPr>
              <a:t>12 vs 10 countries, 6 vs 11 se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64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Rounded MT"/>
              </a:rPr>
              <a:t>Completely different setting (separate projects for each sector  vs thematic approach under a common umbrella, asking conciliation of programs and resources among statistical sectors and high coordination among involved actor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64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Rounded MT"/>
              </a:rPr>
              <a:t>More attention to results in the long term and a demand-driven approach, with deep involvement of NSIs in the strategic orientation and country tailored implementation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64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Rounded MT"/>
              </a:rPr>
              <a:t>Focus on production, exchange, dissemination and final use of statistics, with attention to ownership and durability of activities, although no data collection through a common questionnaire either publications of results were planned for the Migration Sector on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719280"/>
            <a:ext cx="828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text and objectives of MEDSTAT II (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957320"/>
            <a:ext cx="8812440" cy="36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 Rounded MT"/>
              </a:rPr>
              <a:t>For the Migration Sector,</a:t>
            </a:r>
            <a:br>
              <a:rPr sz="2700"/>
            </a:br>
            <a:r>
              <a:rPr b="1" lang="en-GB" sz="2700" spc="-1" strike="noStrike">
                <a:solidFill>
                  <a:srgbClr val="ffffff"/>
                </a:solidFill>
                <a:latin typeface="Arial Rounded MT"/>
              </a:rPr>
              <a:t>w</a:t>
            </a:r>
            <a:r>
              <a:rPr b="1" lang="en-US" sz="2700" spc="-1" strike="noStrike">
                <a:solidFill>
                  <a:srgbClr val="ffffff"/>
                </a:solidFill>
                <a:latin typeface="Arial Rounded MT"/>
              </a:rPr>
              <a:t>hat can be realistically reached during a three year period, i.e. </a:t>
            </a:r>
            <a:br>
              <a:rPr sz="2700"/>
            </a:br>
            <a:r>
              <a:rPr b="1" lang="en-US" sz="2700" spc="-1" strike="noStrike">
                <a:solidFill>
                  <a:srgbClr val="ffff00"/>
                </a:solidFill>
                <a:latin typeface="Arial Rounded MT"/>
              </a:rPr>
              <a:t>“</a:t>
            </a:r>
            <a:r>
              <a:rPr b="1" i="1" lang="en-US" sz="2700" spc="-1" strike="noStrike">
                <a:solidFill>
                  <a:srgbClr val="ffff00"/>
                </a:solidFill>
                <a:latin typeface="Arial Rounded MT"/>
              </a:rPr>
              <a:t>contributing to the improvement of the sustainable capacity of the MED NSSs to upgrade the production of statistics on migration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719280"/>
            <a:ext cx="83595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text and objectives of MEDSTAT II (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1576440"/>
            <a:ext cx="8569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SzPct val="140000"/>
              <a:buFont typeface="Arial Rounded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Rounded MT"/>
              </a:rPr>
              <a:t>Strengthening the capacities to measure migration through the exploitation of residence / work permits  syste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11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2d206"/>
                </a:solidFill>
                <a:latin typeface="Arial Rounded MT"/>
                <a:ea typeface="Times New Roman"/>
              </a:rPr>
              <a:t>Improvement of residence / work permits systems allowing a better use for statistical purp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11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2d206"/>
                </a:solidFill>
                <a:latin typeface="Arial Rounded MT"/>
                <a:ea typeface="Times New Roman"/>
              </a:rPr>
              <a:t>Raising awareness within national actors and national co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11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2d206"/>
                </a:solidFill>
                <a:latin typeface="Arial Rounded MT"/>
                <a:ea typeface="Times New Roman"/>
              </a:rPr>
              <a:t>Transfer of competences and good practices within the Euro-MED statistical syste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SzPct val="140000"/>
              <a:buFont typeface="Arial Rounded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Rounded MT"/>
              </a:rPr>
              <a:t>Satisfying users’ needs by conducting survey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SzPct val="140000"/>
              <a:buFont typeface="Arial Rounded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Arial Rounded MT"/>
              </a:rPr>
              <a:t>Ad hoc </a:t>
            </a:r>
            <a:r>
              <a:rPr b="1" lang="en-US" sz="2500" spc="-1" strike="noStrike">
                <a:solidFill>
                  <a:srgbClr val="ffffff"/>
                </a:solidFill>
                <a:latin typeface="Arial Rounded MT"/>
              </a:rPr>
              <a:t>technical assista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40000"/>
              <a:buFont typeface="Arial Rounded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"/>
              </a:rPr>
              <a:t>Horizontal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11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206"/>
                </a:solidFill>
                <a:latin typeface="Arial Rounded MT"/>
                <a:ea typeface="Times New Roman"/>
              </a:rPr>
              <a:t>Development of synergies with the Social Statistics Sector or other initiati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11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206"/>
                </a:solidFill>
                <a:latin typeface="Arial Rounded MT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d2d206"/>
                </a:solidFill>
                <a:latin typeface="Arial Rounded MT"/>
                <a:ea typeface="Times New Roman"/>
              </a:rPr>
              <a:t>Monitoring, programming and re-orientation of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11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110000"/>
              <a:buFont typeface="Arial Rounded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1816200"/>
            <a:ext cx="842472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280" y="1728720"/>
            <a:ext cx="8569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 Rounded MT"/>
              </a:rPr>
              <a:t>Statistical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SzPct val="140000"/>
              <a:buFont typeface="Arial Rounded M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Arial Rounded MT"/>
              </a:rPr>
              <a:t>Overall few annual statistics and low compliance with international recommenda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SzPct val="140000"/>
              <a:buFont typeface="Arial Rounded M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Arial Rounded MT"/>
              </a:rPr>
              <a:t>Varying level of migration measurement in censuses and surveys, but some more exploitation in recent and forthcoming operation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SzPct val="140000"/>
              <a:buFont typeface="Arial Rounded M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Migration surveys often depending from the availability of  resources, prevalence of modules in general survey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SzPct val="140000"/>
              <a:buFont typeface="Arial Rounded M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Rounded MT"/>
              </a:rPr>
              <a:t>Anyway infrequent operations, limitedly answering to all the requests and need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83664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82760" indent="-482760">
              <a:buClr>
                <a:srgbClr val="ffffff"/>
              </a:buClr>
              <a:buSzPct val="1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in findings of Orientation Phase (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2:20:40Z</dcterms:created>
  <dc:creator> </dc:creator>
  <dc:description/>
  <dc:language>en-US</dc:language>
  <cp:lastModifiedBy>nbk</cp:lastModifiedBy>
  <dcterms:modified xsi:type="dcterms:W3CDTF">2009-06-30T05:56:10Z</dcterms:modified>
  <cp:revision>211</cp:revision>
  <dc:subject/>
  <dc:title>ADETEF</dc:title>
</cp:coreProperties>
</file>