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72B-798C-4AFA-83D5-908E79F3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B83-69EB-4368-9C22-AA9D609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602-9217-44CA-8D88-365493FB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42F-89DE-424E-B7D9-84E7681E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9FC-2438-48BE-AF44-2FA963C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881-8A92-4F79-A6F6-691DDF0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37F-EAFD-4ADB-B140-C279235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E2C-F985-43EA-AB9F-BD4C951C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FE5-C7C4-4AF4-9F50-360CBC28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268-85EF-4934-AD3D-FBA121C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D6D-6BC5-4F84-ADF0-830CEE0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BBB-4CDD-4B92-A39A-2991A9A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6136-D248-4840-A6FE-1E7FCAB4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3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STAT Questionnair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Household Survey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International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ir Fa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Workshop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Migration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iro, 30/6/2009 - 3/7/20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 Input to policy measures on mitigating the adverse effect of brain drai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 contribution to national and donor driven projects on local develop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the sending countrie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02E-F2F8-4F85-A445-FE3F5299C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271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tter understanding of how remittances can be used to foster local developmen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put to fostering institutional partnership in the field of migration between the receiving and the sending countr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581-2429-4A1E-BBED-11B84760F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6516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questionnaires will be designed as a series of self contained modules, each dealing with a particular migration-related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BAB-59B4-4798-A630-2E60F2896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1001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Household Ques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1.1: Household Ros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mograph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itizenship and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ducation and Economic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1.2: Return Migration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1.3: Out Migration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272880"/>
                <a:tab algn="l" pos="72396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6F2-8A0E-41DA-8A75-E27568DAE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5075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 Questionnaire for Out 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1: Demograph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2: Migratio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3: Household Composition Befo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4: Economic Conditions 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5: Motives for First 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2.6: Information About First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1E0-B3EC-43D2-8AD3-BFC72688B2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2.7:   Migration Networks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2.8:   Work Hi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2.9:   Perceptions Abou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igratio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2.10: Intention of Settling/Leaving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Cur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2.11: Remit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085-7DA6-40E3-875F-D659F0B1C6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920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vidual Questionnair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urn 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1: Demograph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2: Migratio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3: Economic Conditions 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4: Information About First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5: Migration Network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B7-E318-4E91-9FB2-F62666BDD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7770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6:   Work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7:   Motives for Retur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8:   Perceptions About Mig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9:   Intention to Migrat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3.10: Remit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0CE-EA4F-47C7-8ACC-4D002D6C59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ndividual Questionnair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on 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4.1: Socio-Demographic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4.2: Work Status and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4.3: Household Composition at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ginning of Referen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4.4: Economic Status at Beginning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en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ule 4.5: Intention to Mig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0606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ule 4.6: Remittances (Received &amp; 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1A7-1940-431F-9A7A-7A5C85233C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ousehold Socio-economic and Environmental Characteristics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5.1:   Housing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5.2:   Househol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5.3:   Fa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e 5.4:   Business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54B-4774-43FC-949A-27A63F70C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440" y="836640"/>
            <a:ext cx="8062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5400" indent="0"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br>
              <a:rPr sz="4400"/>
            </a:br>
            <a:br>
              <a:rPr sz="14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usehold questionnai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Individual questionnaire for out migrant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Individual questionnaire for return migrant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Individual questionnaire for non migrant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Household socio-economic and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vironmental characteristic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nai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Community characteristics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280" y="1052280"/>
            <a:ext cx="7715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 Characteristics Questionnaire (rural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6.1:   Last Cens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6.2:   Community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6.3:   Economy an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E0E-503C-4086-AEE8-DB23F58EB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666-26AD-47B0-B7B0-8B65EF818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15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household surveys of international migration constitute the most appropriate data collection system to gather the information needed to study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terminan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international migration that cannot sufficiently or efficiently be collected by other metho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0D0-B892-4507-9AFE-5D3DA08FC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STAT is currently developing model questionnaires for a proposed ‘Mediterranean Household International Migration Survey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MED-HIMS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C6B-7EDE-400D-9C6B-39A757445D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urvey instruments being developed include the following six questionna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hold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questionnaire for out mi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questionnaire for return mi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questionnaire for non mi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hold socio-economic and environmental characteristics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characteristics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F18-87F9-43EC-863D-B35426593C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se questionnaires are being designed to gather multi-topic, multi-level, retrospective and comparative data that could be used 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855-0AB4-4C95-AFF3-272696A95C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put to the establishment of Migration Profiles for each country participating in the survey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put to the knowledge building and information for the development of migration policie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770-4721-4F9D-8893-7441C6E97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put to future migration programming in both sending and destination countrie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Input to the development of scenarios to support circular and managed migratio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855-6A95-4AC9-B39A-3EF6A88C32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put for future legislative measures, planned by receiving countries on labour immigration, in line with the demographic trends in these countri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ication of priority areas in the field of education and vocational training in the sending countrie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CB5-C094-4D74-B5EF-641C024B5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4:25:14Z</dcterms:created>
  <dc:creator>Samir Farid</dc:creator>
  <dc:description/>
  <dc:language>en-US</dc:language>
  <cp:lastModifiedBy> </cp:lastModifiedBy>
  <dcterms:modified xsi:type="dcterms:W3CDTF">2009-06-26T06:45:34Z</dcterms:modified>
  <cp:revision>30</cp:revision>
  <dc:subject/>
  <dc:title>MEDSTAT Questionnaires for HIMS</dc:title>
</cp:coreProperties>
</file>