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975C-43C5-46F9-9938-4BF29534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11F7-C85E-41C1-B7C7-12F2102E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EBDC3-4339-4ECF-A06B-EE062E70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A986-CAB4-4695-B3A9-E8EC8B71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F5B85-7778-4242-A43C-A263009B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CC396-494B-447D-B3FC-932A02D8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AB591-9D32-42B6-A5DB-3A583EF5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7E60-D09D-443D-9440-DFDAE676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0C5B7-3EB7-4498-B9E3-7E3CBD8B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12D0-0B0D-4D2C-A272-74621418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36AF-80F9-49D8-8CE8-E239E463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CBE8-3BC9-4CAA-9E9A-F2EB4DCF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CF8D-7B72-4749-8531-2F00B41061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228600" y="16765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Workshop on International Migration Stat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iro, Egypt, 30 June - 3July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57200" y="281952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ternational migration challe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 the ESCWA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676520" y="403848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erico Ne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, Social Development Division (S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-ESC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228600" y="893160"/>
            <a:ext cx="8686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 and socia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04920" y="1600200"/>
            <a:ext cx="853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2860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mployment rates, particularly among youth, are increasing in some GCC countries (e.g. 21% in Bahrain and 26% in Saudi Arabia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cedented expansion of the public sector has inflated their wage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ly because of the sponsored migrat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af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ystem, along with the unprotected status of migrants in many countries, the social protection is a key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380880" y="1905120"/>
            <a:ext cx="822960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Lack of data and knowled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d to the distribution of migrants by gender, educational level, occupation, rural/urban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Lack of standardized defini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international migration, making it difficult to compare data of different countries, including discrepancies between sending and receiv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Unavailability of regional research cent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in international migrati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Lack of specialized survey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ing the issue of international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Unavailability of regional migration databases/information sy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bining 2 components: data and poli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5800" y="1144080"/>
            <a:ext cx="8229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and institutiona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380880" y="1905120"/>
            <a:ext cx="8229600" cy="38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99ff"/>
                </a:solidFill>
                <a:uFillTx/>
                <a:latin typeface="Arial"/>
              </a:rPr>
              <a:t>There is an urgent need to establish a Reg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99ff"/>
                </a:solidFill>
                <a:uFillTx/>
                <a:latin typeface="Arial"/>
              </a:rPr>
              <a:t>Consultative Process (RCP) for the managemen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99ff"/>
                </a:solidFill>
                <a:uFillTx/>
                <a:latin typeface="Arial"/>
              </a:rPr>
              <a:t>international mig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mong ESCWA or Arab countries (sending and receivin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receiving Arab countries and sending As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3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sending Arab countries and receiving Europe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5800" y="1144080"/>
            <a:ext cx="8229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y forward: The need for reg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6"/>
          <p:cNvSpPr/>
          <p:nvPr/>
        </p:nvSpPr>
        <p:spPr>
          <a:xfrm>
            <a:off x="380880" y="1752480"/>
            <a:ext cx="8458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99ff"/>
                </a:solidFill>
                <a:uFillTx/>
                <a:latin typeface="Arial"/>
              </a:rPr>
              <a:t>RCP common areas of inter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changing data on migration from surveys, censuses, and  administrative reco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changing information and data in relation to undocumented migration and the trafficking of individuals across bord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3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loring means of maximizing the benefits of migration, whether for sending or receiving count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4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operating to channel the benefits of emigration to national development in the sending count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5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ckling any emerging migration-related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685800" y="1144080"/>
            <a:ext cx="8229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y forward: The need for reg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99ff"/>
                </a:solidFill>
                <a:uFillTx/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011240"/>
            <a:ext cx="8382240" cy="51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d number of migrants in the region (in mill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14320" y="1828800"/>
          <a:ext cx="7602480" cy="3886200"/>
        </p:xfrm>
        <a:graphic>
          <a:graphicData uri="http://schemas.openxmlformats.org/drawingml/2006/table">
            <a:tbl>
              <a:tblPr/>
              <a:tblGrid>
                <a:gridCol w="1957320"/>
                <a:gridCol w="1525680"/>
                <a:gridCol w="1943280"/>
                <a:gridCol w="2176200"/>
              </a:tblGrid>
              <a:tr h="1320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creas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90-20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ESCW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Mashreq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GC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Box 5"/>
          <p:cNvSpPr/>
          <p:nvPr/>
        </p:nvSpPr>
        <p:spPr>
          <a:xfrm>
            <a:off x="762120" y="571500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UN Population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304920" y="1144080"/>
            <a:ext cx="8534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xistence of several types of international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304920" y="16002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, transit and permanent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ur and family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skill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04920" y="3734280"/>
            <a:ext cx="8610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proportion of immigrants in Gulf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04920" y="426708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igrants form one-third (36%) of the total population in the Gulf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igrants form about 90% of the labour force in Qatar, UAE and Ku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two-thirds of the immigrants to the Gulf originate from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are of those originating from other Arab countries was ar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%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304920" y="991800"/>
            <a:ext cx="8458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reased youth propensity to mig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04920" y="1447920"/>
            <a:ext cx="86104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624"/>
              </a:spcBef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youth unemployment rate in the region fuels rise in youth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th form a large share of the total unemployed popul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to 60% of the unemployed population in Jordan, Palestine, Lebanon and Y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% in Kuwait and Qatar, 75% in Bahrain and 65% in 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mployment rates are higher among young women as compared with young men.  The female youth unemployment rate  in the region is 2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04920" y="976680"/>
            <a:ext cx="8381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female labour immigration in selected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57200" y="19810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number of female immigrants in domestic work, provision of health or personal assistance, childrear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henomenon is widespread in Gulf countries and is also emerging in Lebanon and Jor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timated number of female labour immigrants in the ESCWA region is 1.5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89080" y="1354680"/>
            <a:ext cx="8245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level of remittances flowing from an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CW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52280" y="2362320"/>
            <a:ext cx="8686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4, Gulf countries were the source of US$ 26 billion in remit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udi Arabia is the 2nd most important source of remittance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3, the ESCWA region received US$ 21.6 billions in the form of formal/registered remit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lf countries are the source of almost half the remittances flowing to Lebanon, one third to Sudan and Yemen, and a quarter to Jor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onsider informal remittances in migration statis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2590920" y="685800"/>
            <a:ext cx="419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hart 3" descr=""/>
          <p:cNvPicPr/>
          <p:nvPr/>
        </p:nvPicPr>
        <p:blipFill>
          <a:blip r:embed="rId2"/>
          <a:stretch/>
        </p:blipFill>
        <p:spPr>
          <a:xfrm>
            <a:off x="-6480" y="987480"/>
            <a:ext cx="9223560" cy="56260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1219320" y="1066680"/>
            <a:ext cx="9903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-41400" y="1074600"/>
            <a:ext cx="922824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304920" y="2590920"/>
            <a:ext cx="236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orted sex ratios in working age groups because of the sizeable foreign labour force (mostly m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2743200" y="1828800"/>
            <a:ext cx="6323040" cy="4952880"/>
          </a:xfrm>
          <a:prstGeom prst="rect">
            <a:avLst/>
          </a:prstGeom>
          <a:ln w="0">
            <a:noFill/>
          </a:ln>
        </p:spPr>
      </p:pic>
      <p:sp>
        <p:nvSpPr>
          <p:cNvPr id="171" name="Oval 9"/>
          <p:cNvSpPr/>
          <p:nvPr/>
        </p:nvSpPr>
        <p:spPr>
          <a:xfrm>
            <a:off x="4038480" y="3886200"/>
            <a:ext cx="3429000" cy="1143000"/>
          </a:xfrm>
          <a:prstGeom prst="ellipse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816120"/>
            <a:ext cx="8458200" cy="83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graphic challeng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ortion of the age-sex structure in the ESCW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8:27:11Z</dcterms:created>
  <dc:creator>User</dc:creator>
  <dc:description/>
  <dc:language>en-US</dc:language>
  <cp:lastModifiedBy>N</cp:lastModifiedBy>
  <dcterms:modified xsi:type="dcterms:W3CDTF">2008-08-30T08:53:16Z</dcterms:modified>
  <cp:revision>155</cp:revision>
  <dc:subject/>
  <dc:title>Main Title</dc:title>
</cp:coreProperties>
</file>