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301-D70F-4133-908C-42F7F33D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6C6-5111-4B96-BD43-0A832C2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D4-0076-48DC-9F73-0852634C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15F-6028-4888-834E-5501E49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A00-AD4C-4ABC-B041-32F21241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E70-B21F-443D-862F-6F745176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D8F-398D-4E95-96E4-B4E5D83C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9F8-E1D6-4A02-B617-EED300F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89C-C6FB-4561-8732-29193B9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A4B-7CD0-46FE-85E9-856B441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77E-81D3-48DB-ABB7-962D7AB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F16-1F1E-451C-9ADD-B91AA99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3CD2-7ED5-426A-842E-4B2DE8FB9B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ffffff"/>
                </a:solidFill>
                <a:latin typeface="Arial"/>
              </a:rPr>
              <a:t>عرض الورشة التدريبيه حول إحصاءات الهجرة الدولية </a:t>
            </a:r>
            <a:br>
              <a:rPr sz="4000"/>
            </a:br>
            <a:r>
              <a:rPr b="1" lang="ar-OM" sz="4000" spc="-1" strike="noStrike">
                <a:solidFill>
                  <a:srgbClr val="ffffff"/>
                </a:solidFill>
                <a:latin typeface="Arial"/>
              </a:rPr>
              <a:t>سلطنة عما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القاه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جمهورية مصر العر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30 </a:t>
            </a: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يونيو – </a:t>
            </a: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 يوليو </a:t>
            </a:r>
            <a:r>
              <a:rPr b="1" lang="ar-OM" sz="3200" spc="-1" strike="noStrike">
                <a:solidFill>
                  <a:srgbClr val="ffcc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cc00"/>
                </a:solidFill>
                <a:latin typeface="Arial"/>
              </a:rPr>
              <a:t>معلومات ع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ffffff"/>
                </a:solidFill>
                <a:latin typeface="Arial"/>
              </a:rPr>
              <a:t>لا وجود لفئة المهاجرين وإنما إمكانية دخول الأجانب لغرض العمل أو الزي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ffffff"/>
                </a:solidFill>
                <a:latin typeface="Arial"/>
              </a:rPr>
              <a:t>تخضع إقامة العمالة الوافدة لقانون الاجانب وقانون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ffffff"/>
                </a:solidFill>
                <a:latin typeface="Arial"/>
              </a:rPr>
              <a:t>لم تقف السلطنة على أية حالات واقعية للمهاجر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cc00"/>
                </a:solidFill>
                <a:latin typeface="Arial"/>
              </a:rPr>
              <a:t>مصادر بيانات الواف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 الإدارة العامة للجوازات والإق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وزارة القوى العام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وزارة الإقتصاد الوط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cc00"/>
                </a:solidFill>
                <a:latin typeface="Arial"/>
              </a:rPr>
              <a:t>طرق وأساليب جمع البيا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عن طريق الإدارة العامة للجوازات والإقامة- الإحصائية السن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إعداد المؤشرات بسجلات الحاسب الآل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cc00"/>
                </a:solidFill>
                <a:latin typeface="Arial"/>
              </a:rPr>
              <a:t>المعوقات والمقترحات والترتيبات المؤس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 المعوقات - لا توجد ثمة أية إشكالية في جمع ال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المقترحات - مقارنة البيانات عن طريق وثائق السفر وربطها بنظام البص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Arial"/>
              </a:rPr>
              <a:t>الترتيبات المؤسسية - التنسيق بين الجهات ذات الصلة بمواضيع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800" spc="-1" strike="noStrike">
                <a:solidFill>
                  <a:srgbClr val="ffffff"/>
                </a:solidFill>
                <a:latin typeface="Arial"/>
              </a:rPr>
              <a:t>شكرا لحسن استماعك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ض.م 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/ ميمونة بنت زاهر الإسماعي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الإدارة العامة للأحوال المد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شرطة عمان السلط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سلطنة ع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 يونيو- 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 يوليو </a:t>
            </a:r>
            <a:r>
              <a:rPr b="1" lang="ar-OM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757840"/>
            <a:ext cx="15238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9:29:25Z</dcterms:created>
  <dc:creator>p313965</dc:creator>
  <dc:description/>
  <dc:language>en-US</dc:language>
  <cp:lastModifiedBy>p313965</cp:lastModifiedBy>
  <dcterms:modified xsi:type="dcterms:W3CDTF">2009-06-28T09:53:54Z</dcterms:modified>
  <cp:revision>12</cp:revision>
  <dc:subject/>
  <dc:title>عرض الورشة التدريبيه حول إحصاءات الهجرة الدولية  سلطنة عمان </dc:title>
</cp:coreProperties>
</file>