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D8C-ED65-43EF-A417-A117BDFE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2CE-1B3E-4526-81A1-B925DC4F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DEA-365A-48B6-8B32-F50BE9B7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912-1D92-418F-B60A-708BCE6F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4A43-CA03-427F-B1D6-842A46B4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263A-F721-4FCD-BEA4-0698A405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52F9-3ABA-4288-BEFC-1263580C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B564-1A0E-423A-B328-DC9D6E13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412E-87F8-4C22-B89F-CD04418A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239D-738B-4649-981E-29F1977B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68B1-DFA1-480C-907D-89C02908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EED-1CA0-4663-8A3A-3759A9E0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F4D8-6DE5-4664-9155-0F4EC440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0259-928A-4DB7-92C6-4744B328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B304-DA3C-495B-B969-F6319B0E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934F-D0E1-4A11-AADF-74A649E0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3077-A983-4E25-855B-C1E311B4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BA8-58D8-4D60-88A5-03AF5694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4A4-D07B-41ED-8F5B-AA250A9F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5A9-FC7D-44DF-B5DB-0E797B60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A2C-C6E0-4745-BC16-68DCE87B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F24-2D93-4AD3-BDEE-66D8D8C8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D56-DD95-4FC1-9499-F6E0D3C8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F0F-CCD9-4FA8-82B0-56FEE0BC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EBFD-54F2-4F10-98E7-CF3DC0F1C0C8}" type="slidenum">
              <a:rPr b="0" lang="fr-B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D5E6-F7AC-443D-B46E-815B957D374D}" type="slidenum">
              <a:rPr b="0" lang="fr-B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678168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opulation Censuses 2010 round recommendations and beyond…  </a:t>
            </a:r>
            <a:br>
              <a:rPr sz="4400"/>
            </a:b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Key suggestions for the Arab World</a:t>
            </a:r>
            <a:r>
              <a:rPr b="1" lang="fr-FR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chel POU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EDSTAT II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GéDAP – U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tock of international migra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logical definition of the stock of international migrants would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the set of persons who have ever changed their country of usual residence; that is to say, persons who have spent at least one year of their lives in a country other than the one in which they live at the time the data are gathered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Recommendations on International Migration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7848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520e0"/>
                </a:solidFill>
                <a:latin typeface="Arial"/>
              </a:rPr>
              <a:t>Key suggestions for Arab countries where the main characteristics in terms of migration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- Significant out-migration flows for Natio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- Return migration flows of Natio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- Temporary or seasonal immigration flows of Foreign work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915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Various sub-populations with international migration backgroun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80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eigners born abroad having immigrated in the country and being usual resident of the country (</a:t>
            </a:r>
            <a:r>
              <a:rPr b="0" lang="en-GB" sz="2600" spc="-1" strike="noStrike">
                <a:solidFill>
                  <a:srgbClr val="3217a5"/>
                </a:solidFill>
                <a:latin typeface="Arial"/>
              </a:rPr>
              <a:t>Immigrant stoc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7e9ce8"/>
                </a:solidFill>
                <a:latin typeface="Arial"/>
              </a:rPr>
              <a:t>Foreigners born in the country and being usual resident of the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tionals born in the country, having emigrated and living usually abroad (</a:t>
            </a:r>
            <a:r>
              <a:rPr b="0" lang="en-GB" sz="2600" spc="-1" strike="noStrike">
                <a:solidFill>
                  <a:srgbClr val="3217a5"/>
                </a:solidFill>
                <a:latin typeface="Arial"/>
              </a:rPr>
              <a:t>Emigrant stoc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tionals having emigrated who have immigrated thereafter and are usual resident of the country (</a:t>
            </a:r>
            <a:r>
              <a:rPr b="0" lang="en-GB" sz="2600" spc="-1" strike="noStrike">
                <a:solidFill>
                  <a:srgbClr val="3217a5"/>
                </a:solidFill>
                <a:latin typeface="Arial"/>
              </a:rPr>
              <a:t>Returning National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tionals born abroad who have immigrated and are usual resident of the countr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0066"/>
                </a:solidFill>
                <a:latin typeface="Arial"/>
              </a:rPr>
              <a:t>A pragmatic criterion for identifying the usual place of residenc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1280" y="3328920"/>
            <a:ext cx="7921440" cy="1190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9640" y="1989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enumerated person, present or absent at census time,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ill 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idered as an usual resident of the country if he or she spent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last 12 months in the count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486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person who spent most of the last 12 months outside the country,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ill not 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nsidered as usual resident of the country that would being temporarily ab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Identifying emigrated Nationals and returning National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ree concrete suggestions for identifying and characterising Nationals living abro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sking the place of residence of children aged 15+ to all moth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ncluding a special module on emigr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lying on data produced by receiving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concrete suggestion for identifying and characterising returning Nation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sking from native born Nationals who spent more than six months abroad th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year of last retur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the country of previous residence (in parallels to the year of first arrival for foreign-born and their country of previous residen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9640" y="404640"/>
            <a:ext cx="2592360" cy="1297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 round cen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24360" y="5229360"/>
            <a:ext cx="3024360" cy="1368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cy development rel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ternational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86064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ly dissemination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29400" y="4724280"/>
            <a:ext cx="48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ecutive comprehensive summary of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51280" y="4653000"/>
            <a:ext cx="504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40360" y="3716280"/>
            <a:ext cx="3240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19640" y="404640"/>
            <a:ext cx="3889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25400" y="404640"/>
            <a:ext cx="39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ing three basic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ed to international migration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s or special module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igrated and returning Nation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205000"/>
            <a:ext cx="338436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8000" y="220500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collection, cross -tabulation and assessment of the level of coverage and the reliability of the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4360" y="16286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314172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12000" y="407664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19640" y="587700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508720" y="3141720"/>
            <a:ext cx="358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451280" y="4076640"/>
            <a:ext cx="358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218200" y="5157720"/>
            <a:ext cx="144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6680" y="3984480"/>
            <a:ext cx="367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4520e0"/>
                </a:solidFill>
                <a:latin typeface="Arial"/>
              </a:rPr>
              <a:t>Internal co-operation and linkage of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4520e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4520e0"/>
                </a:solidFill>
                <a:latin typeface="Arial"/>
              </a:rPr>
              <a:t>sources for improving internal compa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5800" y="5351400"/>
            <a:ext cx="397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4520e0"/>
                </a:solidFill>
                <a:latin typeface="Arial"/>
              </a:rPr>
              <a:t>International co-operation and exchange of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4520e0"/>
                </a:solidFill>
                <a:latin typeface="Arial"/>
              </a:rPr>
              <a:t>for improving international compa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5898960" cy="4359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5280" y="4653000"/>
            <a:ext cx="84121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48000" y="476280"/>
            <a:ext cx="4392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0066"/>
                </a:solidFill>
                <a:latin typeface="Arial"/>
              </a:rPr>
              <a:t>Commission on International Migration Data for Development Research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3068640"/>
            <a:ext cx="822960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Commission believes that countries, international organizations and the research community can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significantly improv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ternational migration data in the short ru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th existing institutions and at low cost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y implementing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five recommendation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2808360" cy="207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48000" y="476280"/>
            <a:ext cx="4392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0066"/>
                </a:solidFill>
                <a:latin typeface="Arial"/>
              </a:rPr>
              <a:t>Commission on International Migration Data for Development Research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3212640"/>
            <a:ext cx="8229600" cy="31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Ask three basic migration-related questions on every population census </a:t>
            </a: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in every country, and publicly tabulate the ans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2808360" cy="207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330066"/>
                </a:solidFill>
                <a:latin typeface="Arial"/>
              </a:rPr>
              <a:t>The CGD Commission agr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every population censu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, in every country, should ask questions 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lace of bi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untry of citizenship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lace of residence either one or five years prior to the cens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 each person enumerated—and that four essential tabulations of these results should be openly dissemin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5438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330066"/>
                </a:solidFill>
                <a:latin typeface="Arial"/>
              </a:rPr>
              <a:t>UN </a:t>
            </a:r>
            <a:r>
              <a:rPr b="1" i="1" lang="fr-BE" sz="3200" spc="-1" strike="noStrike">
                <a:solidFill>
                  <a:srgbClr val="330066"/>
                </a:solidFill>
                <a:latin typeface="Arial"/>
              </a:rPr>
              <a:t>Recommendations on Statistics</a:t>
            </a:r>
            <a:br>
              <a:rPr sz="3200"/>
            </a:br>
            <a:r>
              <a:rPr b="1" i="1" lang="fr-BE" sz="3200" spc="-1" strike="noStrike">
                <a:solidFill>
                  <a:srgbClr val="330066"/>
                </a:solidFill>
                <a:latin typeface="Arial"/>
              </a:rPr>
              <a:t> of International Migration. Revision 1 (1998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30088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census as the best source for collecting data on the population sub-groups related to international migrations and their characteristics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4103640" cy="3016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643280" y="3716280"/>
            <a:ext cx="43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31072"/>
                </a:solidFill>
                <a:latin typeface="Arial"/>
              </a:rPr>
              <a:t>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UN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ose all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e asked in censuses with definitions and implementatio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330066"/>
                </a:solidFill>
                <a:latin typeface="Arial"/>
              </a:rPr>
              <a:t>Place of « usual » resid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53440" cy="941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8353440" cy="596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48640" y="3573360"/>
            <a:ext cx="78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verybody should have one and only one place (country) of usual res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" y="5516640"/>
            <a:ext cx="86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rules for including a given person present or absent should be strictly the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s those for excluding a person present or ab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330066"/>
                </a:solidFill>
                <a:latin typeface="Arial"/>
              </a:rPr>
              <a:t>Place of « usual » resid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353440" cy="596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8209080" cy="1233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39640" y="4327560"/>
            <a:ext cx="8209080" cy="985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132000" y="3213000"/>
            <a:ext cx="3456000" cy="287280"/>
          </a:xfrm>
          <a:prstGeom prst="rect">
            <a:avLst/>
          </a:prstGeom>
          <a:noFill/>
          <a:ln w="28440">
            <a:solidFill>
              <a:srgbClr val="452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4653000"/>
            <a:ext cx="1081080" cy="288720"/>
          </a:xfrm>
          <a:prstGeom prst="rect">
            <a:avLst/>
          </a:prstGeom>
          <a:noFill/>
          <a:ln w="28440">
            <a:solidFill>
              <a:srgbClr val="452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0066"/>
                </a:solidFill>
                <a:latin typeface="Arial"/>
              </a:rPr>
              <a:t>Sub-groups of the enumerated population representing the primary of interest as far as international migration is concerned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first group consists of the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foreign-bor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nd the second comprises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foreign citizen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living in the country. In order to identify members of those groups, two items must be recorded in the census: (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country of birth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, and (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country of citizenship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 addition, it is also important to be able to identify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recent immigrant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for policy purpose and therefore the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year of arrival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country should be record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15:09:59Z</dcterms:created>
  <dc:creator>POULAIN </dc:creator>
  <dc:description/>
  <dc:language>en-US</dc:language>
  <cp:lastModifiedBy>POULAIN </cp:lastModifiedBy>
  <dcterms:modified xsi:type="dcterms:W3CDTF">2009-07-01T08:16:40Z</dcterms:modified>
  <cp:revision>42</cp:revision>
  <dc:subject/>
  <dc:title>Population Census, 2010 round  as source for migration data </dc:title>
</cp:coreProperties>
</file>