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4014-4ED5-4A91-A005-C65BE9F4C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88BD-6FF7-4191-81FB-6C98C567C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8D7E-F71B-4BD7-9450-29DBD2540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DC81-B7B5-4478-BC3E-616658580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D00-26DB-497A-9C5D-B673C4EF0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A3AE-1673-4E89-8DBB-8E2227E8C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6830-B6B5-4064-821B-DF25EA15E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1EE9-667C-4E75-8F3B-5D2B98C7E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0837-A885-4C62-B317-FB94A02A5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3728-1612-4965-8E54-801B842C9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DEB9-3971-4BB2-A99B-4F39721FD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59B4-E55B-4667-ADB3-217ED999D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979C-E996-45A4-A25F-C0CDB2C9A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F3DF-BA60-43EC-B47F-CCB0C643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375C-DBE8-49F8-81EC-67889FDC5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585E-9D61-4E5F-AF5F-031213AEB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AE76-13FC-4A68-AF0F-210C6DED3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A69F-6D89-4665-AE99-90C3DC56D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1769-80B3-4B46-BF1F-68EEB347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A2B7-18FF-413A-AB3D-BF844F9F4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49D9-3B97-4068-9A63-EFDE885D2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F8D9-A844-45A6-8CE0-606ED58D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4F8D-447B-465F-AE86-94036CEED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F28C-1C2D-4617-A409-A40A8FD87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149A-E741-4E60-8E84-E11B67F2B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59EF-8551-43B7-9CE1-913BB6D9C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0383-A408-4E06-9B77-0E5846B69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FBA2-69A3-4837-B5A1-4A7C4995D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B477-B4D3-430B-8702-0A4DC8435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F0FB-83AA-4744-B772-4ABE82005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AFF5-C8C9-4B1D-9BBF-29FB1ECD2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4BA-C8BD-4989-9227-0E352C2F4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8103-B485-4661-A997-BFCD16EBB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1BC-3B73-4029-98A0-31CD5CD2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D635-094A-4DE0-B586-0C6F37EE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3127-5BA2-457A-B665-23B77A27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08A7-AE5A-4FCF-B675-C87DAE405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DC7C-97A2-4FB5-8BC4-9EC0E985A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E413-BD06-4D99-BE67-F8634A4A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4EB3-8DD4-4CC4-99B6-8FE94AF72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BCF4-4295-4750-8977-17AAB1D39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B80E-C34F-4281-BADB-134D3ECA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E2CC-61CD-4FD4-8C5D-24E3F7BD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D023-C4D6-4C6F-AAE5-24E4B90D6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B0B8-8B94-4BB8-B316-9272A4D43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5188-7496-4B6E-BF9B-AA1BC82E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BB73-0F43-4FFF-9C67-DE42D2EA4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AAA5-92ED-4375-92C3-669B4EA90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59A4-56C0-46F7-9DCB-B5934585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8C8F-27C0-4CA9-BC24-1B45AB49D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8BB6-E036-47FD-9A23-855C384AB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7881-A71C-4629-B006-E3D10206B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59ED-0EBA-4787-868C-F5F1251BC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EB90-E2BE-4FDC-8451-5D3A95FA5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A742-F6E8-4A48-B3D6-05871FE0C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CB7B-B30C-4126-81C4-C16FF8AC7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299A-8C25-4A62-898D-40EABDCC1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BD10-CAC3-4BED-AAEC-15AEDFE1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11A-CAAB-46AB-9BF1-ACF14D0F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2A8-262B-48C0-A210-4CC07960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E1B-025E-4D23-9386-B7FBCDDB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5FD-49ED-46F0-8161-1FE3C5CF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76A7-01CA-4036-A504-9B0FF18B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2708-EF92-483D-A3EC-89851330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5D9E-A663-40F3-8307-10096FE1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FD14-4868-4440-97FF-C4B9FE1D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5D03-30D6-4663-A326-724D2252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8D4A-62CA-46EB-B410-F5EBDBEA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A8B7-1654-481E-9EA3-0E6F7006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C2B-4D0E-4712-9617-2ED1FA6A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C9F4-F6E3-453F-9F15-ACD4342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D3A1-4349-436D-A416-E1DC8C07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8F64-8070-4C4F-A52F-7F917A4A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4EF5-2452-431C-B5E4-1465AE50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545C-7866-4BB0-81CC-0860DDD9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38C5-B435-4754-ADE7-994BB3E7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9ABD-60C5-4B82-B03C-403D4A50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11EB-15D2-4E75-90AE-7ED89DAE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F298-10E3-44E7-BBC0-6B0D2109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509E-F728-4981-B855-18A46E77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0A0-C9E0-43C4-9160-1D063356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3067-515A-4916-9FAA-2A0097F8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AF06-D1FD-4706-9B31-BB356CB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CF19-9F16-4714-88CE-1C1BB246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DE9C-0B97-48BF-93AA-364F1D91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8DBD-68B5-46ED-B500-B7547C40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5CDA-E66A-4ED1-AC89-6924A7FE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05E5-823F-4CB1-9C45-B809ED6B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4D3-9211-4494-869B-490102AD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60D-819E-4432-866D-19BE9C59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C30-0386-4553-BDEC-6B62D4C4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A36-569A-4845-B615-6CDC13F6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DA0-C3DE-43D8-844F-5C739FAB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90C-F56F-497E-AD7D-BB988380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1C64-31C4-44AD-A5CC-1181361D38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Cover Page Corporate English August 2008"/>
          <p:cNvPicPr/>
          <p:nvPr/>
        </p:nvPicPr>
        <p:blipFill>
          <a:blip r:embed="rId2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1C26-3EC7-4007-AA72-27296399D2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Header English Power Point August 2008"/>
          <p:cNvPicPr/>
          <p:nvPr/>
        </p:nvPicPr>
        <p:blipFill>
          <a:blip r:embed="rId2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022E-53CC-4AD5-9B29-077AA221D6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Header 2 English Power Poi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1337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gional Workshop on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national Migration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040" y="449532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, 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/6/2009-3/7/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5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the data include the following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9680" y="1752480"/>
          <a:ext cx="5486400" cy="3184560"/>
        </p:xfrm>
        <a:graphic>
          <a:graphicData uri="http://schemas.openxmlformats.org/drawingml/2006/table">
            <a:tbl>
              <a:tblPr/>
              <a:tblGrid>
                <a:gridCol w="2133720"/>
                <a:gridCol w="1676520"/>
                <a:gridCol w="1676160"/>
              </a:tblGrid>
              <a:tr h="60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cup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of educ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 for mig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 Population Cens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6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you include the following questions in your population censuses questionnai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95280" y="1676520"/>
          <a:ext cx="6400800" cy="2346120"/>
        </p:xfrm>
        <a:graphic>
          <a:graphicData uri="http://schemas.openxmlformats.org/drawingml/2006/table">
            <a:tbl>
              <a:tblPr/>
              <a:tblGrid>
                <a:gridCol w="2379960"/>
                <a:gridCol w="1312560"/>
                <a:gridCol w="1395360"/>
                <a:gridCol w="1312920"/>
              </a:tblGrid>
              <a:tr h="53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f resid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f bir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f citizenshi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7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your country hasn’t yet conducted population census for the 2010 round, are you planning to use in the coming</a:t>
            </a:r>
            <a:r>
              <a:rPr b="1" lang="ar-L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census for your count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371600" y="1905120"/>
          <a:ext cx="6858000" cy="2865240"/>
        </p:xfrm>
        <a:graphic>
          <a:graphicData uri="http://schemas.openxmlformats.org/drawingml/2006/table">
            <a:tbl>
              <a:tblPr/>
              <a:tblGrid>
                <a:gridCol w="2666880"/>
                <a:gridCol w="1447920"/>
                <a:gridCol w="1447920"/>
                <a:gridCol w="129528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questionnai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detailed questionnai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ready census 2010 round conduct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8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publish and disseminate data compiled on issues related to international migration from census 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09680" y="1981080"/>
          <a:ext cx="4038840" cy="2057400"/>
        </p:xfrm>
        <a:graphic>
          <a:graphicData uri="http://schemas.openxmlformats.org/drawingml/2006/table">
            <a:tbl>
              <a:tblPr/>
              <a:tblGrid>
                <a:gridCol w="1981440"/>
                <a:gridCol w="2057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8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answer was yes, do you publish these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2133720"/>
          <a:ext cx="6095880" cy="2449440"/>
        </p:xfrm>
        <a:graphic>
          <a:graphicData uri="http://schemas.openxmlformats.org/drawingml/2006/table">
            <a:tbl>
              <a:tblPr/>
              <a:tblGrid>
                <a:gridCol w="1765080"/>
                <a:gridCol w="1524240"/>
                <a:gridCol w="1282680"/>
                <a:gridCol w="15238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cup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9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the international migration data from census to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95280" y="1676520"/>
          <a:ext cx="6782040" cy="3305160"/>
        </p:xfrm>
        <a:graphic>
          <a:graphicData uri="http://schemas.openxmlformats.org/drawingml/2006/table">
            <a:tbl>
              <a:tblPr/>
              <a:tblGrid>
                <a:gridCol w="2590920"/>
                <a:gridCol w="1447920"/>
                <a:gridCol w="1371600"/>
                <a:gridCol w="137160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 out international migration over the inter-censual peri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a complimentary source wit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sour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: Household Surveys (HHS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the questionnaire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tional Migration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hia AbdelFad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Leader, ESCWA Statistic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10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the HHS as one of sources to estimate immigration and emi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133720" y="2057400"/>
          <a:ext cx="3962160" cy="1828800"/>
        </p:xfrm>
        <a:graphic>
          <a:graphicData uri="http://schemas.openxmlformats.org/drawingml/2006/table">
            <a:tbl>
              <a:tblPr/>
              <a:tblGrid>
                <a:gridCol w="1904760"/>
                <a:gridCol w="2057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17"/>
          <p:cNvSpPr/>
          <p:nvPr/>
        </p:nvSpPr>
        <p:spPr>
          <a:xfrm>
            <a:off x="609480" y="4267080"/>
            <a:ext cx="8153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answer is yes, please specify the frequency of carrying out the HH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2 census, but depending on the need to provide dat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no regular round to make special surveys related to migr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3 – 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11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compile data in International Migration from the following  survey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752480"/>
          <a:ext cx="7086600" cy="2347920"/>
        </p:xfrm>
        <a:graphic>
          <a:graphicData uri="http://schemas.openxmlformats.org/drawingml/2006/table">
            <a:tbl>
              <a:tblPr/>
              <a:tblGrid>
                <a:gridCol w="2465280"/>
                <a:gridCol w="1693800"/>
                <a:gridCol w="1614600"/>
                <a:gridCol w="131292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r force survey (LF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MS – living standard measurement surv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2514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. Cross Border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1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ask all travelers to complete border card on arrival and depar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00200" y="1676520"/>
          <a:ext cx="6858000" cy="2911320"/>
        </p:xfrm>
        <a:graphic>
          <a:graphicData uri="http://schemas.openxmlformats.org/drawingml/2006/table">
            <a:tbl>
              <a:tblPr/>
              <a:tblGrid>
                <a:gridCol w="2494080"/>
                <a:gridCol w="1468440"/>
                <a:gridCol w="1447560"/>
                <a:gridCol w="1447920"/>
              </a:tblGrid>
              <a:tr h="53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 arrival and departur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 arrival on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 departure on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13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have fully computerized data entry at the bor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09680" y="1905120"/>
          <a:ext cx="4038840" cy="2133360"/>
        </p:xfrm>
        <a:graphic>
          <a:graphicData uri="http://schemas.openxmlformats.org/drawingml/2006/table">
            <a:tbl>
              <a:tblPr/>
              <a:tblGrid>
                <a:gridCol w="2438640"/>
                <a:gridCol w="1600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14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border cards on arrival and departure or do you use electronic registered appro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1828800"/>
          <a:ext cx="6324480" cy="2324160"/>
        </p:xfrm>
        <a:graphic>
          <a:graphicData uri="http://schemas.openxmlformats.org/drawingml/2006/table">
            <a:tbl>
              <a:tblPr/>
              <a:tblGrid>
                <a:gridCol w="2340000"/>
                <a:gridCol w="1298520"/>
                <a:gridCol w="1299960"/>
                <a:gridCol w="1386000"/>
              </a:tblGrid>
              <a:tr h="533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ival and departure car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nic registered approa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15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optical reading of passports and recognition of biometric characte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33720" y="1752480"/>
          <a:ext cx="4038480" cy="2133720"/>
        </p:xfrm>
        <a:graphic>
          <a:graphicData uri="http://schemas.openxmlformats.org/drawingml/2006/table">
            <a:tbl>
              <a:tblPr/>
              <a:tblGrid>
                <a:gridCol w="2438280"/>
                <a:gridCol w="1600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16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any of the following 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1676520"/>
          <a:ext cx="8001000" cy="3946320"/>
        </p:xfrm>
        <a:graphic>
          <a:graphicData uri="http://schemas.openxmlformats.org/drawingml/2006/table">
            <a:tbl>
              <a:tblPr/>
              <a:tblGrid>
                <a:gridCol w="3810240"/>
                <a:gridCol w="1446120"/>
                <a:gridCol w="1427040"/>
                <a:gridCol w="131760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s for the foreigners on arriv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s for the foreigners at depart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s for other Arab countries on arriv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s for other Arab countries at departure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s for nationals on arrival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s for nationals at departure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ards are being us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17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2 cards to be filled at the arrival, one is left with the border authorities and the other kept by passengers  to be submitted to the border authorities at depar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71800" y="2133720"/>
          <a:ext cx="3733920" cy="1828800"/>
        </p:xfrm>
        <a:graphic>
          <a:graphicData uri="http://schemas.openxmlformats.org/drawingml/2006/table">
            <a:tbl>
              <a:tblPr/>
              <a:tblGrid>
                <a:gridCol w="2413080"/>
                <a:gridCol w="1320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18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the arrival cards include the follow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43000" y="1676520"/>
          <a:ext cx="7162920" cy="2651040"/>
        </p:xfrm>
        <a:graphic>
          <a:graphicData uri="http://schemas.openxmlformats.org/drawingml/2006/table">
            <a:tbl>
              <a:tblPr/>
              <a:tblGrid>
                <a:gridCol w="2514600"/>
                <a:gridCol w="1523880"/>
                <a:gridCol w="1524240"/>
                <a:gridCol w="1600200"/>
              </a:tblGrid>
              <a:tr h="53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ed duration of st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pose of vis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f usual resid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 citizenshi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naire was sent to all ESCWA member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countries sent back thei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19: Do the departure cards of the nationals include the follow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47920" y="1676520"/>
          <a:ext cx="6781680" cy="2195280"/>
        </p:xfrm>
        <a:graphic>
          <a:graphicData uri="http://schemas.openxmlformats.org/drawingml/2006/table">
            <a:tbl>
              <a:tblPr/>
              <a:tblGrid>
                <a:gridCol w="2590560"/>
                <a:gridCol w="1371600"/>
                <a:gridCol w="1390680"/>
                <a:gridCol w="1428840"/>
              </a:tblGrid>
              <a:tr h="53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ed duration of stay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pose of visit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f usual residence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. Registration of the national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0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have a population register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362320" y="1752480"/>
          <a:ext cx="4495680" cy="1828800"/>
        </p:xfrm>
        <a:graphic>
          <a:graphicData uri="http://schemas.openxmlformats.org/drawingml/2006/table">
            <a:tbl>
              <a:tblPr/>
              <a:tblGrid>
                <a:gridCol w="1981080"/>
                <a:gridCol w="25146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1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es central population register system exist in you coun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90920" y="2438280"/>
          <a:ext cx="3733560" cy="1295640"/>
        </p:xfrm>
        <a:graphic>
          <a:graphicData uri="http://schemas.openxmlformats.org/drawingml/2006/table">
            <a:tbl>
              <a:tblPr/>
              <a:tblGrid>
                <a:gridCol w="1981080"/>
                <a:gridCol w="17524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standardized identification numb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438280" y="1981080"/>
          <a:ext cx="3657600" cy="17528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3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other methods to register national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666880" y="2514600"/>
          <a:ext cx="3733920" cy="2057400"/>
        </p:xfrm>
        <a:graphic>
          <a:graphicData uri="http://schemas.openxmlformats.org/drawingml/2006/table">
            <a:tbl>
              <a:tblPr/>
              <a:tblGrid>
                <a:gridCol w="2198880"/>
                <a:gridCol w="1535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4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the municipalities have any role in population regist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895480" y="2438280"/>
          <a:ext cx="3505320" cy="1600200"/>
        </p:xfrm>
        <a:graphic>
          <a:graphicData uri="http://schemas.openxmlformats.org/drawingml/2006/table">
            <a:tbl>
              <a:tblPr/>
              <a:tblGrid>
                <a:gridCol w="1828800"/>
                <a:gridCol w="1676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5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es your population system cover registration of emi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14600" y="2286000"/>
          <a:ext cx="3352680" cy="1523880"/>
        </p:xfrm>
        <a:graphic>
          <a:graphicData uri="http://schemas.openxmlformats.org/drawingml/2006/table">
            <a:tbl>
              <a:tblPr/>
              <a:tblGrid>
                <a:gridCol w="2019240"/>
                <a:gridCol w="1333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6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es your population registry system cover only foreign popul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362320" y="1752480"/>
          <a:ext cx="3733560" cy="1828800"/>
        </p:xfrm>
        <a:graphic>
          <a:graphicData uri="http://schemas.openxmlformats.org/drawingml/2006/table">
            <a:tbl>
              <a:tblPr/>
              <a:tblGrid>
                <a:gridCol w="2354040"/>
                <a:gridCol w="1379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7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alien registers allow your country to produce migration statistics for this category of popul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90920" y="1828800"/>
          <a:ext cx="3733560" cy="1828800"/>
        </p:xfrm>
        <a:graphic>
          <a:graphicData uri="http://schemas.openxmlformats.org/drawingml/2006/table">
            <a:tbl>
              <a:tblPr/>
              <a:tblGrid>
                <a:gridCol w="2355840"/>
                <a:gridCol w="13777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24379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 General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8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have population registers for your nationals residing abr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743200" y="1828800"/>
          <a:ext cx="4038480" cy="1371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9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this registers to counting stocks of nationals abr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124080" y="1600200"/>
          <a:ext cx="3581640" cy="2057400"/>
        </p:xfrm>
        <a:graphic>
          <a:graphicData uri="http://schemas.openxmlformats.org/drawingml/2006/table">
            <a:tbl>
              <a:tblPr/>
              <a:tblGrid>
                <a:gridCol w="2314800"/>
                <a:gridCol w="1266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ii. Residence perm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30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residence permits as one source of international mi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8120" y="1600200"/>
          <a:ext cx="3276360" cy="1523880"/>
        </p:xfrm>
        <a:graphic>
          <a:graphicData uri="http://schemas.openxmlformats.org/drawingml/2006/table">
            <a:tbl>
              <a:tblPr/>
              <a:tblGrid>
                <a:gridCol w="2019240"/>
                <a:gridCol w="1257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31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coordinate with Ministers of Interior Affairs/ national statistics off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90920" y="2057400"/>
          <a:ext cx="3657600" cy="1371600"/>
        </p:xfrm>
        <a:graphic>
          <a:graphicData uri="http://schemas.openxmlformats.org/drawingml/2006/table">
            <a:tbl>
              <a:tblPr/>
              <a:tblGrid>
                <a:gridCol w="2422440"/>
                <a:gridCol w="1235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3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follow a certain criteria in defining who need a resident permits to be issu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14600" y="1600200"/>
          <a:ext cx="3657600" cy="1371600"/>
        </p:xfrm>
        <a:graphic>
          <a:graphicData uri="http://schemas.openxmlformats.org/drawingml/2006/table">
            <a:tbl>
              <a:tblPr/>
              <a:tblGrid>
                <a:gridCol w="2308320"/>
                <a:gridCol w="13492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Rectangle 14"/>
          <p:cNvSpPr/>
          <p:nvPr/>
        </p:nvSpPr>
        <p:spPr>
          <a:xfrm>
            <a:off x="533520" y="3288600"/>
            <a:ext cx="800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f answer is yes, please specify the criteri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and work permit and other criteria are specified by the department of residence/ ministry of in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the duration of stay, reason and objectives and the individual by him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of ministry of interi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 of residency and issuance of all types of vi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33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differentiate between short-term migration and long-term migr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8120" y="1752480"/>
          <a:ext cx="3352680" cy="1447920"/>
        </p:xfrm>
        <a:graphic>
          <a:graphicData uri="http://schemas.openxmlformats.org/drawingml/2006/table">
            <a:tbl>
              <a:tblPr/>
              <a:tblGrid>
                <a:gridCol w="2019240"/>
                <a:gridCol w="13334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4"/>
          <p:cNvSpPr/>
          <p:nvPr/>
        </p:nvSpPr>
        <p:spPr>
          <a:xfrm>
            <a:off x="862920" y="3479760"/>
            <a:ext cx="663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f answer is yes, please specify period of short term and long-ter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hort term = 1 to 5; and long term = 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term of migration &lt;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stay, one year stay, permanent st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term of migration &lt; 6 months; long term =1 yea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34: do you use the resident permit information to produce/ create statistics database related to foreigners and international migr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362320" y="1752480"/>
          <a:ext cx="4038480" cy="1828800"/>
        </p:xfrm>
        <a:graphic>
          <a:graphicData uri="http://schemas.openxmlformats.org/drawingml/2006/table">
            <a:tbl>
              <a:tblPr/>
              <a:tblGrid>
                <a:gridCol w="2361960"/>
                <a:gridCol w="1676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35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resident permit to measure in long term migrants’ flows and stoc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362320" y="1676520"/>
          <a:ext cx="4038480" cy="2057400"/>
        </p:xfrm>
        <a:graphic>
          <a:graphicData uri="http://schemas.openxmlformats.org/drawingml/2006/table">
            <a:tbl>
              <a:tblPr/>
              <a:tblGrid>
                <a:gridCol w="2361960"/>
                <a:gridCol w="1676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36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es your country produce statistical tables form resident permits inform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590920" y="2133720"/>
          <a:ext cx="4038480" cy="18288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Question 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Do you compile international migration data from the follow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2209680"/>
          <a:ext cx="6477120" cy="3187800"/>
        </p:xfrm>
        <a:graphic>
          <a:graphicData uri="http://schemas.openxmlformats.org/drawingml/2006/table">
            <a:tbl>
              <a:tblPr/>
              <a:tblGrid>
                <a:gridCol w="2211480"/>
                <a:gridCol w="1420560"/>
                <a:gridCol w="1473480"/>
                <a:gridCol w="1371600"/>
              </a:tblGrid>
              <a:tr h="533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 census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ministrative recor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s surveys (HH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specialized surve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37: If answer is yes, please specify if data available is breakdown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219320" y="1828800"/>
          <a:ext cx="6781680" cy="3184560"/>
        </p:xfrm>
        <a:graphic>
          <a:graphicData uri="http://schemas.openxmlformats.org/drawingml/2006/table">
            <a:tbl>
              <a:tblPr/>
              <a:tblGrid>
                <a:gridCol w="2590560"/>
                <a:gridCol w="1371600"/>
                <a:gridCol w="1371600"/>
                <a:gridCol w="144792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f resid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st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of ent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s are not breakdow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38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es the information from resident permits allow you to specify short term movement from long term f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666880" y="2057400"/>
          <a:ext cx="3657600" cy="170640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39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include seasonal workers and international students in resident perm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295280" y="2057400"/>
          <a:ext cx="6553440" cy="2041560"/>
        </p:xfrm>
        <a:graphic>
          <a:graphicData uri="http://schemas.openxmlformats.org/drawingml/2006/table">
            <a:tbl>
              <a:tblPr/>
              <a:tblGrid>
                <a:gridCol w="2362320"/>
                <a:gridCol w="1371600"/>
                <a:gridCol w="1371600"/>
                <a:gridCol w="1447920"/>
              </a:tblGrid>
              <a:tr h="533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sonal work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tional stud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v. Vis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40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information on visa to estimate migration flows and stoc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33720" y="1676520"/>
          <a:ext cx="4038480" cy="1371600"/>
        </p:xfrm>
        <a:graphic>
          <a:graphicData uri="http://schemas.openxmlformats.org/drawingml/2006/table">
            <a:tbl>
              <a:tblPr/>
              <a:tblGrid>
                <a:gridCol w="2361960"/>
                <a:gridCol w="1676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41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the following registry/ database available in your coun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143000" y="1828800"/>
          <a:ext cx="6858000" cy="3139920"/>
        </p:xfrm>
        <a:graphic>
          <a:graphicData uri="http://schemas.openxmlformats.org/drawingml/2006/table">
            <a:tbl>
              <a:tblPr/>
              <a:tblGrid>
                <a:gridCol w="2362320"/>
                <a:gridCol w="1523880"/>
                <a:gridCol w="1447920"/>
                <a:gridCol w="15238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lar Regist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permit regis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security databas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ylum sector databa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4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the above registers/ database as a complementary source for international migration stat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14600" y="1905120"/>
          <a:ext cx="3886200" cy="2286000"/>
        </p:xfrm>
        <a:graphic>
          <a:graphicData uri="http://schemas.openxmlformats.org/drawingml/2006/table">
            <a:tbl>
              <a:tblPr/>
              <a:tblGrid>
                <a:gridCol w="2395440"/>
                <a:gridCol w="149076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verall comments</a:t>
            </a: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future project in collaboration with the International Organization of Migration to improve the administration/ management of migration data in Iraq. It is also implemented in collaboration with different ministries especially those related to migration, can have then data on migration and on international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 have an old, organized and punctual system for migration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se of technical information in migration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se of residence permit and registration of foreigners is being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 started dealing with data from civil status and which contains data on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swer to question1 was other specialized surveys; please spec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al survey for workers migrants as an annex to the labor force surv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health survey, demographic health survey, migration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2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you use estimates of migration/ e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00400" y="1523880"/>
          <a:ext cx="3124080" cy="17877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17"/>
          <p:cNvSpPr/>
          <p:nvPr/>
        </p:nvSpPr>
        <p:spPr>
          <a:xfrm>
            <a:off x="304920" y="36576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answer is yes, please specify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from vital statistic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questions on current residence and past residenc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 use occasional surveys or any other survey (i.e. Labour Force Survey) which include migra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819520" y="2133720"/>
          <a:ext cx="3124080" cy="1828800"/>
        </p:xfrm>
        <a:graphic>
          <a:graphicData uri="http://schemas.openxmlformats.org/drawingml/2006/table">
            <a:tbl>
              <a:tblPr/>
              <a:tblGrid>
                <a:gridCol w="1785960"/>
                <a:gridCol w="1338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ns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4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o your sources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905120" y="1447920"/>
          <a:ext cx="5562360" cy="3260520"/>
        </p:xfrm>
        <a:graphic>
          <a:graphicData uri="http://schemas.openxmlformats.org/drawingml/2006/table">
            <a:tbl>
              <a:tblPr/>
              <a:tblGrid>
                <a:gridCol w="2678040"/>
                <a:gridCol w="1401840"/>
                <a:gridCol w="148248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f  bir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f  citizenshi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f  last resid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8:27:11Z</dcterms:created>
  <dc:creator>User</dc:creator>
  <dc:description/>
  <dc:language>en-US</dc:language>
  <cp:lastModifiedBy>mr.mostafa</cp:lastModifiedBy>
  <dcterms:modified xsi:type="dcterms:W3CDTF">2009-07-01T06:26:13Z</dcterms:modified>
  <cp:revision>32</cp:revision>
  <dc:subject/>
  <dc:title>Main Title</dc:title>
</cp:coreProperties>
</file>