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AFF-07A4-49B7-A871-949D31E4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ABE-69CA-433B-8041-36952653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309-2B98-4A85-B325-02938E8F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C6F-DAB5-44B1-B562-4054ADC6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A080-7957-4B6B-9B9C-7B4AED57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A843-C52F-48AA-93D0-9FC463DE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7CFF-2083-4ED6-9710-83091D6A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1B8B-F0CF-469D-A206-35A8A92C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0836-BD76-4C7C-A631-DCB8BAF1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F216-130E-4E75-8A26-DA202FE5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6EE7-9668-435B-8BC9-630D1807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500-B21B-493A-A401-5B899B0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740D-5F7F-42E3-858C-94FE0544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9212-6535-47C7-9E29-D5F64936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8B07-7AF0-4A44-905F-70208B27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B5F0-AF53-4993-980F-8570D758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C96E-806A-4270-A544-323C6DA9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AFD-1A9A-4C3B-97D6-7E963457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CE1-417E-46E4-9BD1-5EBDBB7F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7A3-5459-4348-8E59-63989767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BB7-3887-45EA-8F65-97180858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FAD-762F-4303-96FD-8631335D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200-92B0-4ECA-AB6D-83BBEEB7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C10-0290-4AF4-BA29-234C2AC4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D233-9639-4980-9034-CCB305C995F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054C-9A58-4B96-91BD-87F70BBDF9A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815328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THE DEMOGRAPHY OF FORCED DISPLAC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 Black"/>
              </a:rPr>
              <a:t>WITH A FOCUS ON MIGRATION MEASUREMENT ISSU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 Black"/>
              </a:rPr>
              <a:t>Khassoum DIALLO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 Black"/>
              </a:rPr>
              <a:t>Snr Statistician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 Black"/>
              </a:rPr>
              <a:t>UNHCR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cc00"/>
                </a:solidFill>
                <a:latin typeface="Arial Black"/>
              </a:rPr>
              <a:t>ESCWA/DESA Training workshop on international migration statistics</a:t>
            </a: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cc00"/>
                </a:solidFill>
                <a:latin typeface="Arial Black"/>
              </a:rPr>
              <a:t>CAIRO, 30/06 – 03/07 2009</a:t>
            </a: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colvsbox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KEY INDICATORS: REFUGEE STATISTIC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GENERAL POPULATION GROWTH EQU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 Black"/>
              </a:rPr>
              <a:t>P(t+1) = P(t) + (B-D) + (I-E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 Black"/>
              </a:rPr>
              <a:t>In refugee context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 Black"/>
              </a:rPr>
              <a:t>P(t+1) = P(t) + (B-D) + (I-E) + (LI-L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 Black"/>
              </a:rPr>
              <a:t>With LI/LD = Legal increases/Decreas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Other indicators: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 Black"/>
              </a:rPr>
              <a:t>Stock (at a given point of time, e.g. end-year)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Source: Census, registers, admin record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 Black"/>
              </a:rPr>
              <a:t>Flows (dynamic during a perio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Source: permits, other registe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sylum statistics: Estimation of  recognition rat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2520" y="129492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ased on decision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RRR: Refugee recognition rate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TRR Total recognition rate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R: Number of refugees recognized under the 1951 convention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HR: Number of asylum seekers grated refugee status on temporary/humanitarian basi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J Number of rejected cases during the year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: Countries of origin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y: Year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Other indicators/concepts: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Pending cas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Percentage of otherwise closed cas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Cases/persons; Type; Level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11280" y="1916280"/>
                <a:ext cx="392724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RR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c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684360" y="3933720"/>
                <a:ext cx="388764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R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METHODS &amp; DATA SOUR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04920" y="1752480"/>
          <a:ext cx="541008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54100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4572000" y="2971800"/>
          <a:ext cx="4572000" cy="388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971800"/>
                    <a:ext cx="4572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od Practice: Census questionnaire Zambi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urpose of immigration in 2000 population and housing census (UNHCR fund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If foreigner, why come to this countr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Wor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syl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amily reunific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504080" indent="-2145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Wor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504080" indent="-2145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504080" indent="-2145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syl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colvsbox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Good practice: Country and regional network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European / Asian programme on forced displacement and migr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Country level network of data producers and us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Regional networ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Data exchange platform (core indicators, website, focal point system etc.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UNHCR AS A PARTN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COMPILATION/COLLECTION OF DATA ON PERSONS OF CONCERN (Over 130 countrie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SUPPORT IN DATA COLLE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REPORTING/DATA DISSEMINATION (Online database, Statistical Yearbook etc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CONTEXT: MIGRATION ASYLUM NEXU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REFUGEES: A COMPONENT OF INTERNATIONAL MIGRA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UNHCR MANDATE ON REPORTING REFUGEES, ASYLUM-SEEKERS AND STATELESS PERSO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SCOPE OF FORCED DISPLACEMEN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MEASURING FORCED DISPLACEMENT:DATA SOURCES, INDICATORS,PATTERNS AND KEY CHALLENG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GOOD PRACTICES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UNHCR:A KEY PARTN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colvsbox" descr=""/>
          <p:cNvPicPr/>
          <p:nvPr/>
        </p:nvPicPr>
        <p:blipFill>
          <a:blip r:embed="rId1"/>
          <a:stretch/>
        </p:blipFill>
        <p:spPr>
          <a:xfrm>
            <a:off x="0" y="5867280"/>
            <a:ext cx="77616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94232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E REFUGEES INTERNATIONAL MIGRANTS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They crossed international bord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Citizen from another country / change of usual place of residenc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Duration of stay can be decades in protracted situatio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Population accounting perspectiv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UN Recommendatio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What is specific to refugees vs other migrant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egal perspective (1951 convention, </a:t>
            </a: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non-refoulement, rights of refugees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) international human rights etc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ifferent treatment by asylum stat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ata protection and confidential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colvsbox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98480" y="376200"/>
            <a:ext cx="70041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NTEX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0872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gration-asylum nexus: UNHCR 10-point pla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uster approach: Need for better data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sults-Based Manage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rformance monitoring and accountability: UNHCR, Governments and Dono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dvocacy for evidence based decision mak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1600" y="306360"/>
            <a:ext cx="785484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HCR protection mandate: Basis for statistical report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0920" y="1218960"/>
            <a:ext cx="830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Refuge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1950 Statute of the Office of the UNHCR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1951 UN Convention relating to the Status of Refuge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1967 Protocol relating to the Status of Refugees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States parties shall provide UNHCR with statistical information on the number and conditions of refugees in their countries …. The UNHCR shall collect data on refugees and report.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Stateless persons (refugees &amp; non-refugees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1954 Convention relating to the Status of Stateless person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1961 Convention on the Reduction of Statelessnes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ExCom conclusion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Collection and reporting of information on Statelessness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Internally displaced (IDPs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Request from Security Council/Secretary-General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UN reform on IDP issues: Interagency Cluster approach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Primary responsibility of collecting information on IDPs lies with Cluster leads. UNHCR is cluster lead for Protection, Camp Coordination and Management and Emergency Shelter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colvsbox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Black"/>
              </a:rPr>
              <a:t>CONCEPTS AND DEFINITIO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MIGR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REFUGEE AND ASYLUM SEEK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INTERNALLY DISPLACED PERS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STATELESS PERS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MIXED MIGRATION FLOW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colvsbox" descr=""/>
          <p:cNvPicPr/>
          <p:nvPr/>
        </p:nvPicPr>
        <p:blipFill>
          <a:blip r:embed="rId1"/>
          <a:stretch/>
        </p:blipFill>
        <p:spPr>
          <a:xfrm>
            <a:off x="0" y="6095880"/>
            <a:ext cx="838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83059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Black"/>
              </a:rPr>
              <a:t>SCOPE OF FORCED DISPLACEMEN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886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GENERAL MIGRATION ~ 200 million in 2008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REFUGEE AND ASYLUM SEEKERS ~ 16 million end-2008 (8%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IDPs (26 million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038480" y="1219320"/>
          <a:ext cx="5105520" cy="32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219320"/>
                    <a:ext cx="51055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838080" y="4827600"/>
            <a:ext cx="7848720" cy="1496880"/>
          </a:xfrm>
          <a:prstGeom prst="rect">
            <a:avLst/>
          </a:prstGeom>
          <a:ln w="0">
            <a:noFill/>
          </a:ln>
        </p:spPr>
      </p:pic>
      <p:pic>
        <p:nvPicPr>
          <p:cNvPr id="372" name="colvsbox" descr=""/>
          <p:cNvPicPr/>
          <p:nvPr/>
        </p:nvPicPr>
        <p:blipFill>
          <a:blip r:embed="rId4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Scope and Defini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sylum migration nexus, national vs internation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erminology: Who is a refugee, an IDP?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Time, location, distance, caus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Data sources and triangul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Coverage:  Key information are miss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egister updat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ources for triangulation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ata collection methodologies and tool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Data qual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imeliness in rapidly changing situatio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Comparability, scop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Compliance with recommendations (UN, UNECE, UNHCR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Human resour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kills and train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Uses of data for informed decision mak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Key challeng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Demographic patter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577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Increasing share of urban refuge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Between 70-90% of refugees remain in their region of origi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Age sex distribu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85800" y="5029200"/>
            <a:ext cx="7848720" cy="12952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4114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8:57:41Z</dcterms:created>
  <dc:creator>UNHCR</dc:creator>
  <dc:description/>
  <dc:language>en-US</dc:language>
  <cp:lastModifiedBy>UNHCR</cp:lastModifiedBy>
  <dcterms:modified xsi:type="dcterms:W3CDTF">2009-07-01T09:50:48Z</dcterms:modified>
  <cp:revision>17</cp:revision>
  <dc:subject/>
  <dc:title>IDP PROFILING IN SOMALIA</dc:title>
</cp:coreProperties>
</file>