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20A4-AD8F-411E-AA4D-9A76F059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E2E-EB52-44C8-AD1C-FA4FE6673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99A1-8101-45B5-A6DB-D3180E02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AC7-1FED-4E93-B470-7F9137DD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B3C-955B-40EB-81B3-E30B76F5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5E2-C19A-4C1C-91CE-E0DF9A49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8DE-6C95-4438-96A3-C4F33FEF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514-2E70-4C14-96DD-7FF169B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084-E413-4A4D-B239-9B7B07E3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CB76-BA1A-47F4-A425-3A5377A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D9D2-7B77-4E76-83B4-E19C5664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FC78-173E-4338-930B-974F3593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B8CA-1590-4B68-A42F-61ADAC0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C71A-AAAD-4771-BB0D-AA3A0C3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874-548B-497B-AE15-FAF4696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776-B4F4-4D86-BC45-E7A65AC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3D2C-B239-4248-814D-FAE8FE02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9B90-3B03-424E-BFDB-B755385E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C19-A72F-4C2D-98C4-45EFD208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9940-5E0C-484B-B92F-1F094A44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2B6-054D-4074-ADD6-A30636A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191-C588-4731-A200-01B6AC1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3FF-E04D-4A52-A76A-593B37F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9B7-7D05-452C-A3FC-24DBB07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D6F-2CDD-4455-B585-4D67F96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D01-2082-44E1-8A90-FF40D00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C15-A618-412D-B4D4-1939950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nited Na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opulation Division/DE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FA4C-26CD-4C45-8112-BBE36076FB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D33-FB03-477A-85F3-DA1054F675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nmigration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International migration and development: Global policies and implications for data colle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a Hovy, Chie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gration S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 Division/DE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ited Nations, New Yor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55627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Training workshop on international migration statistics</a:t>
            </a:r>
            <a:br>
              <a:rPr sz="1600"/>
            </a:b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(ESCWA, DESA, ALO, MEDSTAT)</a:t>
            </a:r>
            <a:br>
              <a:rPr sz="1600"/>
            </a:b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Cairo, Egypt, 30 June – 3 Jul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600" y="380880"/>
          <a:ext cx="8686800" cy="5486040"/>
        </p:xfrm>
        <a:graphic>
          <a:graphicData uri="http://schemas.openxmlformats.org/drawingml/2006/table">
            <a:tbl>
              <a:tblPr/>
              <a:tblGrid>
                <a:gridCol w="7442280"/>
                <a:gridCol w="1244520"/>
              </a:tblGrid>
              <a:tr h="530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 international instrumen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b76"/>
                    </a:solidFill>
                  </a:tcPr>
                </a:tc>
              </a:tr>
              <a:tr h="77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1990 International Convention on the Protection of the Rights of All Migrant Workers and Members of Their Famil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1951 Convention relating to the Status of Refug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1967 Protocol relating to the Status of Refug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2000 Protocol to Prevent, Suppress and Punish Trafficking in Persons, Especially Women and Child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2000 Protocol against the Smuggling of Migrants by Land, Air and S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1954 Convention relating to the Status of Stateless Pers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1961 Convention on the Reduction of Stateless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nternational migration and development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United Nations General Assembl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 Conference on Population and Development, 1994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ICPD, Cair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gh-level Dialogue, 200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al Forum on Migration and Development (‘07-’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cial Representative of the Secretary-Gener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al Migration Group (13 UN agencies and IO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e-day informal thematic debate, 201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gh-Level Dialogue, 201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lobal Forum on Migration and Development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thens, 2 – 5 November, 2009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me: Integrating migration policies into development strategies for the benefit of 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ivil Society Day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2-3 No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undtable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4-5 No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Migration, development and achieving MDG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evelopment planning; diaspora; financial crisi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Integration, return and circulation for develop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Policy, institutional coherence, partnershi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685800" y="380880"/>
          <a:ext cx="8001000" cy="5864400"/>
        </p:xfrm>
        <a:graphic>
          <a:graphicData uri="http://schemas.openxmlformats.org/drawingml/2006/table">
            <a:tbl>
              <a:tblPr/>
              <a:tblGrid>
                <a:gridCol w="4056120"/>
                <a:gridCol w="3944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national commu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nsus / pop. register (ori./dest.), consul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itta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A, central bank, surve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rcular and return mi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bour export (incl. highly-skilled migration [brain drain]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ployment abroad agency, consulates, census (dest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rregular mi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ining census and adm. 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fficking and smugg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. of labour, immi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fugees and asy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RSD procedures, UNH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igration / labour im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k permits, residence permits, visa, regis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es and impact of international mi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rveys comparing migrants and non-migr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ommendations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CGD Commission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lude basic questions in census and disseminate results quickly and in det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ile and publish relevant administrative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lude migration modules in existing household surveys (LFS, MICS, LSMS, …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access to micro-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 institutional capa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nternational migrant stock from India </a:t>
            </a:r>
            <a:br>
              <a:rPr sz="32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y country of birth or citizenship, latest available dat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01480" y="5105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1480" y="54100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01480" y="5715000"/>
            <a:ext cx="22860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501480" y="60199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01480" y="6324480"/>
            <a:ext cx="228600" cy="228600"/>
          </a:xfrm>
          <a:prstGeom prst="rect">
            <a:avLst/>
          </a:prstGeom>
          <a:solidFill>
            <a:srgbClr val="66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8272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35200" y="507060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8827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897480" y="537840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0 - 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975240" y="56833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000 – 9,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027800" y="59878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,000 – 99,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998280" y="629280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0,000 and o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5" descr="india"/>
          <p:cNvPicPr/>
          <p:nvPr/>
        </p:nvPicPr>
        <p:blipFill>
          <a:blip r:embed="rId1"/>
          <a:stretch/>
        </p:blipFill>
        <p:spPr>
          <a:xfrm>
            <a:off x="0" y="1230480"/>
            <a:ext cx="8991720" cy="37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he bottom 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national migration no longer “business as usual”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lic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in driv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to ac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2010 census roun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es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“low hanging frui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f we fail NOW, it will take another 10 years before similar opport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 Comment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unmigratio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tionp@u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sentation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ing international migration (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bal migration trends (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bal migration policies (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national migration and development at the United Nations (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ications for data collection (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ions (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fining international mig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cks and flo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cks: population at a certain d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ows: movement during a certain peri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ng-term (&gt;1 yr) and short-term (&lt;1 y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untary and for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ng-term settlement, work, study, family,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lict, persecution, natural disasters,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al and illegal (irregul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ntaneous or organiz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No. of international migrants rises, but stable as % of total popula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1447920"/>
          <a:ext cx="769608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6960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nternational migrants concentrated in limited number of countr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1828800"/>
            <a:ext cx="7805520" cy="466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5337000"/>
            <a:ext cx="2157480" cy="8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ost migrants are </a:t>
            </a:r>
            <a:r>
              <a:rPr b="1" lang="es-ES" sz="3600" spc="-1" strike="noStrike" u="sng">
                <a:solidFill>
                  <a:srgbClr val="ccecff"/>
                </a:solidFill>
                <a:uFillTx/>
                <a:latin typeface="Arial"/>
              </a:rPr>
              <a:t>in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the North (61%), but </a:t>
            </a:r>
            <a:r>
              <a:rPr b="1" lang="es-ES" sz="3600" spc="-1" strike="noStrike" u="sng">
                <a:solidFill>
                  <a:srgbClr val="ccecff"/>
                </a:solidFill>
                <a:uFillTx/>
                <a:latin typeface="Arial"/>
              </a:rPr>
              <a:t>from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the South (65%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124080"/>
            <a:ext cx="2743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05120"/>
            <a:ext cx="7467480" cy="2209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1905120"/>
            <a:ext cx="2971800" cy="1676160"/>
          </a:xfrm>
          <a:prstGeom prst="rightArrow">
            <a:avLst>
              <a:gd name="adj1" fmla="val 50000"/>
              <a:gd name="adj2" fmla="val 44325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3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057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114800"/>
            <a:ext cx="7467480" cy="2133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50292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3047760" y="4114440"/>
            <a:ext cx="2895480" cy="2057400"/>
          </a:xfrm>
          <a:prstGeom prst="rightArrow">
            <a:avLst>
              <a:gd name="adj1" fmla="val 50000"/>
              <a:gd name="adj2" fmla="val 3518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1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647280" y="3085560"/>
            <a:ext cx="2667240" cy="2286000"/>
          </a:xfrm>
          <a:prstGeom prst="rightArrow">
            <a:avLst>
              <a:gd name="adj1" fmla="val 50000"/>
              <a:gd name="adj2" fmla="val 2916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2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5905080" y="3543480"/>
            <a:ext cx="2133720" cy="990360"/>
          </a:xfrm>
          <a:prstGeom prst="rightArrow">
            <a:avLst>
              <a:gd name="adj1" fmla="val 50000"/>
              <a:gd name="adj2" fmla="val 53862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057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486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mittances received by the South show a sharp rise </a:t>
            </a:r>
            <a:br>
              <a:rPr sz="36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(Source: World Bank, in billions of US dollars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" y="2119320"/>
          <a:ext cx="90946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2119320"/>
                    <a:ext cx="90946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ewer Governments want to reduce their immigration level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2004840"/>
          <a:ext cx="880920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4840"/>
                    <a:ext cx="88092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33520" y="16765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% count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ational immigration polic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licies becom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s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stric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policies allow f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lec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igration of skilled mig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policies to develop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orar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circular) migration sche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vers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policy posi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5:58:31Z</dcterms:created>
  <dc:creator>United Nations</dc:creator>
  <dc:description/>
  <dc:language>en-US</dc:language>
  <cp:lastModifiedBy>Bela Hovy</cp:lastModifiedBy>
  <dcterms:modified xsi:type="dcterms:W3CDTF">2009-06-29T07:58:55Z</dcterms:modified>
  <cp:revision>572</cp:revision>
  <dc:subject/>
  <dc:title>Emerging Issues in Migration Policies: Implications for data Requirements</dc:title>
</cp:coreProperties>
</file>