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3E8-D7CC-4434-B717-2A813A2D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2F1-2EAF-4D0F-912C-F976724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FBB-F89E-43F4-B783-4A3B0628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654-59E9-4B33-B50D-E9CFF690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5737-D05E-4A9E-A1E0-EB2879A6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B6AA-7E58-46EB-BAF5-2FB5DF8F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E113-BA91-4C63-85B6-9043258C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D31-6FF0-434D-9214-1CDDD93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4A04-2D81-44C3-B17D-068A392E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82B7-1E2C-4192-B8E9-5B151D7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C342-8122-405F-AAA1-E8E8AA2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F41-DF5D-48DF-9679-9E4781C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1C2-17BB-403B-A87E-EA0C462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F147-720B-4371-AAB9-70719ED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F425-EC07-4EC0-809A-B4D6227B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1592-EB15-4405-8D6E-8FF2F67E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60CD-D8AE-44E2-A108-7E7DC2DC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64D-1374-40AB-B708-AF46DBC3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078-8E87-483C-8BAB-69963D7E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778-F66F-4FF1-A948-E78CFB22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2B2-181A-4260-A315-F874E5F3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AE6-E63E-4C2B-A9F0-EA4E7A5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A1E-247E-41BF-9217-167107B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19E-DA07-43C7-A245-3C1378F3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United Na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opulation Division/DE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2FD-FB3F-4A2C-93C8-E0772A906D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9021-6D71-42A3-8B44-FB277D57FF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nmigration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United Nations recommendations in the field of international migration statistic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a Hovy, Chie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gration S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tion Division/DE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ited Nations, New Yor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920" y="55627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Training workshop on international migration statistics</a:t>
            </a:r>
            <a:br>
              <a:rPr sz="1600"/>
            </a:b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(ESCWA, DESA, ALO, MEDSTAT)</a:t>
            </a:r>
            <a:br>
              <a:rPr sz="1600"/>
            </a:b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Cairo, Egypt, 30 June – 3 Jul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kills (rev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1219320"/>
          <a:ext cx="8610480" cy="4952880"/>
        </p:xfrm>
        <a:graphic>
          <a:graphicData uri="http://schemas.openxmlformats.org/drawingml/2006/table">
            <a:tbl>
              <a:tblPr/>
              <a:tblGrid>
                <a:gridCol w="1297080"/>
                <a:gridCol w="2268360"/>
                <a:gridCol w="863640"/>
                <a:gridCol w="863640"/>
                <a:gridCol w="1189080"/>
                <a:gridCol w="855720"/>
                <a:gridCol w="1272960"/>
              </a:tblGrid>
              <a:tr h="63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birth (citizenship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ski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mi ski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ly ski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55400">
                <a:tc rowSpan="5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 rowSpan="5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ducation (rev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219320"/>
          <a:ext cx="8381880" cy="4876560"/>
        </p:xfrm>
        <a:graphic>
          <a:graphicData uri="http://schemas.openxmlformats.org/drawingml/2006/table">
            <a:tbl>
              <a:tblPr/>
              <a:tblGrid>
                <a:gridCol w="557280"/>
                <a:gridCol w="1393920"/>
                <a:gridCol w="1004760"/>
                <a:gridCol w="1190520"/>
                <a:gridCol w="1263600"/>
                <a:gridCol w="1067040"/>
                <a:gridCol w="685800"/>
                <a:gridCol w="1218960"/>
              </a:tblGrid>
              <a:tr h="961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birth (citizenship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ma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a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</a:t>
                      </a:r>
                      <a:r>
                        <a:rPr b="0" lang="en-US" sz="15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yc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a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2</a:t>
                      </a:r>
                      <a:r>
                        <a:rPr b="0" lang="en-US" sz="15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yc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rtiar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392040">
                <a:tc rowSpan="5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.s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 rowSpan="5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ma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.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 II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commendations on statistics of international migration rev. 1 (United Nations, 1998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hort and long-term migra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ng-term migrant. A person who changes his or her country of usual residence for a period of at least a year (12 months). From the perspective of the country of departure the person will be a long-term emigrant and from that of the country of arrival the person will be a long-term immigra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ort-term migrant. A person who moves to a country other than that of his or her usual residence for a period of at least 3 months but less than a year (except holiday, visits to friends, business trip, etc.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mmigration (total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905120"/>
          <a:ext cx="4038480" cy="4128840"/>
        </p:xfrm>
        <a:graphic>
          <a:graphicData uri="http://schemas.openxmlformats.org/drawingml/2006/table">
            <a:tbl>
              <a:tblPr/>
              <a:tblGrid>
                <a:gridCol w="1565280"/>
                <a:gridCol w="825480"/>
                <a:gridCol w="822240"/>
                <a:gridCol w="825480"/>
              </a:tblGrid>
              <a:tr h="817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iz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previous residen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d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724280" y="1905120"/>
          <a:ext cx="4038840" cy="4190400"/>
        </p:xfrm>
        <a:graphic>
          <a:graphicData uri="http://schemas.openxmlformats.org/drawingml/2006/table">
            <a:tbl>
              <a:tblPr/>
              <a:tblGrid>
                <a:gridCol w="1565280"/>
                <a:gridCol w="825480"/>
                <a:gridCol w="824040"/>
                <a:gridCol w="824040"/>
              </a:tblGrid>
              <a:tr h="857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eign citiz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previous residen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d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migration (total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905120"/>
          <a:ext cx="4038480" cy="4128840"/>
        </p:xfrm>
        <a:graphic>
          <a:graphicData uri="http://schemas.openxmlformats.org/drawingml/2006/table">
            <a:tbl>
              <a:tblPr/>
              <a:tblGrid>
                <a:gridCol w="1565280"/>
                <a:gridCol w="825480"/>
                <a:gridCol w="822240"/>
                <a:gridCol w="825480"/>
              </a:tblGrid>
              <a:tr h="817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iz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next residen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d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724280" y="1905120"/>
          <a:ext cx="4038480" cy="4190400"/>
        </p:xfrm>
        <a:graphic>
          <a:graphicData uri="http://schemas.openxmlformats.org/drawingml/2006/table">
            <a:tbl>
              <a:tblPr/>
              <a:tblGrid>
                <a:gridCol w="1565280"/>
                <a:gridCol w="825480"/>
                <a:gridCol w="823680"/>
                <a:gridCol w="824040"/>
              </a:tblGrid>
              <a:tr h="857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eign citiz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next residen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d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mmigration long-term (by type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66680" y="1447920"/>
          <a:ext cx="7391520" cy="4670280"/>
        </p:xfrm>
        <a:graphic>
          <a:graphicData uri="http://schemas.openxmlformats.org/drawingml/2006/table">
            <a:tbl>
              <a:tblPr/>
              <a:tblGrid>
                <a:gridCol w="2438640"/>
                <a:gridCol w="838080"/>
                <a:gridCol w="762120"/>
                <a:gridCol w="761760"/>
                <a:gridCol w="838440"/>
                <a:gridCol w="838080"/>
                <a:gridCol w="914400"/>
              </a:tblGrid>
              <a:tr h="97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(visa)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ploymen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Education and train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Family reunification and form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Settlement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manitaria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ulariz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mmigration short-term (by type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447920"/>
          <a:ext cx="7391520" cy="4670280"/>
        </p:xfrm>
        <a:graphic>
          <a:graphicData uri="http://schemas.openxmlformats.org/drawingml/2006/table">
            <a:tbl>
              <a:tblPr/>
              <a:tblGrid>
                <a:gridCol w="2438640"/>
                <a:gridCol w="838080"/>
                <a:gridCol w="762120"/>
                <a:gridCol w="761760"/>
                <a:gridCol w="762120"/>
                <a:gridCol w="914400"/>
                <a:gridCol w="914400"/>
              </a:tblGrid>
              <a:tr h="97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(visa)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ploymen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Education and train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- Family reunification and form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- Settlement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manitaria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Regulariz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ottlenecks and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ow to address th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st data are already availabl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rocess essential cross-tabulations with requested deta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melines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ake date available rapi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semina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dministrative data are not a matter of national secur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uestions? Comments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unmigration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grationp@un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sentation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rinciples and recommendations for population and housing Censuses rev. 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United Nations, 200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commendations on statistics of international migration rev. 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United Nations, 199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 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inciples and recommendations for population and housing Censuses rev. 2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United Nations, 2008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lace of usual residence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ach person has only one place of reside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ce of usual residence: the place at which the person lives at the time of the census, and has been there for some time or intends to stay there for some time.” (some time =12 month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ons who move frequently and do not have a place of usual residence should be enumerated at the place where they are found at the time of the census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not recommended that censuses of population and housing enumerate only those people with a legal right to be in a place but rather should include either all those present at the place on census night or all those whose usual residence on census night was at the place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International migration characteristics - 1</a:t>
            </a:r>
            <a:br>
              <a:rPr sz="28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ountry of birth (core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-3049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…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formation on country of birth be recorded according t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national boundaries existing at time of censu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-3049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…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ding of information on the country of birth should be done in sufficient detail to allow for th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ndividual identification of all countries of birt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…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-3049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ntries with a significant number of immigrants or return migrants may want to collect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nformation on the country of birth of paren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International migration characteristics - 2</a:t>
            </a:r>
            <a:br>
              <a:rPr sz="28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itizenship (core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-3049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 …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ountry of citizenship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such and not adjective to indicate citizenship as some of those adjectives are used to designate ethnic groups”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-3049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 …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ding of information on country of citizenship should be done in sufficient detail to allow for th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ndividual identification of all countries of citizenship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62120" indent="-3049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umeration and processing instructions should indicate the treatment of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tateless perso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persons with dual nationality, persons in the process of naturalization and any other groups with ambiguous citizenship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ountry of birth (P2.1-R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295280"/>
          <a:ext cx="8458200" cy="4484880"/>
        </p:xfrm>
        <a:graphic>
          <a:graphicData uri="http://schemas.openxmlformats.org/drawingml/2006/table">
            <a:tbl>
              <a:tblPr/>
              <a:tblGrid>
                <a:gridCol w="981000"/>
                <a:gridCol w="1533600"/>
                <a:gridCol w="609480"/>
                <a:gridCol w="609840"/>
                <a:gridCol w="838080"/>
                <a:gridCol w="838080"/>
                <a:gridCol w="730440"/>
                <a:gridCol w="815760"/>
                <a:gridCol w="603360"/>
                <a:gridCol w="898560"/>
              </a:tblGrid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bir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-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10400">
                <a:tc rowSpan="5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400">
                <a:tc rowSpan="5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itizenship (rev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1219320"/>
          <a:ext cx="8458200" cy="5410080"/>
        </p:xfrm>
        <a:graphic>
          <a:graphicData uri="http://schemas.openxmlformats.org/drawingml/2006/table">
            <a:tbl>
              <a:tblPr/>
              <a:tblGrid>
                <a:gridCol w="914400"/>
                <a:gridCol w="1600200"/>
                <a:gridCol w="609480"/>
                <a:gridCol w="609840"/>
                <a:gridCol w="838080"/>
                <a:gridCol w="838080"/>
                <a:gridCol w="730440"/>
                <a:gridCol w="815760"/>
                <a:gridCol w="603360"/>
                <a:gridCol w="898560"/>
              </a:tblGrid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citizensh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-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20840"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Statel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Statel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Year of arrival (rev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219320"/>
          <a:ext cx="8458200" cy="5410080"/>
        </p:xfrm>
        <a:graphic>
          <a:graphicData uri="http://schemas.openxmlformats.org/drawingml/2006/table">
            <a:tbl>
              <a:tblPr/>
              <a:tblGrid>
                <a:gridCol w="1085760"/>
                <a:gridCol w="1697040"/>
                <a:gridCol w="674640"/>
                <a:gridCol w="675000"/>
                <a:gridCol w="928440"/>
                <a:gridCol w="843120"/>
                <a:gridCol w="892080"/>
                <a:gridCol w="668520"/>
                <a:gridCol w="993600"/>
              </a:tblGrid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 of bir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-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420840"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Statel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Country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Statel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Not st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5:58:31Z</dcterms:created>
  <dc:creator>United Nations</dc:creator>
  <dc:description/>
  <dc:language>en-US</dc:language>
  <cp:lastModifiedBy>Bela Hovy</cp:lastModifiedBy>
  <dcterms:modified xsi:type="dcterms:W3CDTF">2009-06-29T13:12:44Z</dcterms:modified>
  <cp:revision>607</cp:revision>
  <dc:subject/>
  <dc:title>Emerging Issues in Migration Policies: Implications for data Requirements</dc:title>
</cp:coreProperties>
</file>