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851B4-B1C9-4302-AE22-FB2F08AF5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C43AC-875F-4F9B-9267-A83FCC476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B4F83-4A00-4166-A22D-E19DF31EF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F637B-B778-49CE-BC98-A244A0288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1AE2-B493-48A2-AE31-4B0CFA338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0259C-054B-4336-B73D-BCFACAF59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49EBD-0CD3-46B4-8D42-C51B9FBC3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508D5-4A9D-42D6-9338-11157BA7B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A55E0-B35C-42B0-94D5-508B232AD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31263-EB2A-44DB-A76E-634311474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6EA4E-670F-40FC-9BC8-0CDBCEA58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06BFF-817C-4056-9CC2-D203CFB6A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E5E7-B5E7-4CCC-A83F-629824C1087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920"/>
            <a:ext cx="7773840" cy="23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Use of Household Surveys </a:t>
            </a:r>
            <a:br>
              <a:rPr sz="3600"/>
            </a:br>
            <a:r>
              <a:rPr b="1" lang="en-US" sz="3600" spc="-1" strike="noStrike">
                <a:solidFill>
                  <a:srgbClr val="000000"/>
                </a:solidFill>
                <a:latin typeface="Arial"/>
              </a:rPr>
              <a:t>to Study the Dynamics of International Migration </a:t>
            </a:r>
            <a:br>
              <a:rPr sz="3600"/>
            </a:br>
            <a:r>
              <a:rPr b="1" lang="en-US" sz="3600" spc="-1" strike="noStrike">
                <a:solidFill>
                  <a:srgbClr val="000000"/>
                </a:solidFill>
                <a:latin typeface="Arial"/>
              </a:rPr>
              <a:t>in the Arab Reg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2206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mir Farid</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gional Workshop on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national Migration Statistics </a:t>
            </a:r>
            <a:endParaRPr b="0" lang="en-US" sz="24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iro, 30/6/2009 - 3/7/2009</a:t>
            </a:r>
            <a:r>
              <a:rPr b="1" lang="ar-SA" sz="2800" spc="-1" strike="noStrike">
                <a:solidFill>
                  <a:srgbClr val="000000"/>
                </a:solidFill>
                <a:latin typeface="Arial"/>
              </a:rPr>
              <a:t>‏</a:t>
            </a:r>
            <a:r>
              <a:rPr b="0" lang="en-GB"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2. Changing Arab Demographics</a:t>
            </a:r>
            <a:endParaRPr b="0" lang="en-US" sz="4000" spc="-1" strike="noStrike">
              <a:solidFill>
                <a:srgbClr val="000000"/>
              </a:solidFill>
              <a:latin typeface="Arial"/>
            </a:endParaRPr>
          </a:p>
        </p:txBody>
      </p:sp>
      <p:sp>
        <p:nvSpPr>
          <p:cNvPr id="54" name="PlaceHolder 2"/>
          <p:cNvSpPr>
            <a:spLocks noGrp="1"/>
          </p:cNvSpPr>
          <p:nvPr>
            <p:ph/>
          </p:nvPr>
        </p:nvSpPr>
        <p:spPr>
          <a:xfrm>
            <a:off x="457200" y="1341000"/>
            <a:ext cx="8362800" cy="478476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 the past half-century, the population of the Arab region has grown on a scale and at a tempo without historical precedent.</a:t>
            </a:r>
            <a:endParaRPr b="0" lang="en-US" sz="4800" spc="-1" strike="noStrike">
              <a:solidFill>
                <a:srgbClr val="000000"/>
              </a:solidFill>
              <a:latin typeface="Arial"/>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65E4FC85-5B90-487C-B87E-0D1C13A852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ble 1. Total population at mid-year, Arab Countries, 1950-2050</a:t>
            </a:r>
            <a:endParaRPr b="0" lang="en-US" sz="2400" spc="-1" strike="noStrike">
              <a:solidFill>
                <a:srgbClr val="000000"/>
              </a:solidFill>
              <a:latin typeface="Arial"/>
            </a:endParaRPr>
          </a:p>
        </p:txBody>
      </p:sp>
      <p:graphicFrame>
        <p:nvGraphicFramePr>
          <p:cNvPr id="56" name=""/>
          <p:cNvGraphicFramePr/>
          <p:nvPr/>
        </p:nvGraphicFramePr>
        <p:xfrm>
          <a:off x="71280" y="1341360"/>
          <a:ext cx="8964720" cy="4824360"/>
        </p:xfrm>
        <a:graphic>
          <a:graphicData uri="http://schemas.openxmlformats.org/drawingml/2006/table">
            <a:tbl>
              <a:tblPr/>
              <a:tblGrid>
                <a:gridCol w="543240"/>
                <a:gridCol w="1052280"/>
                <a:gridCol w="1052640"/>
                <a:gridCol w="1054080"/>
                <a:gridCol w="1052640"/>
                <a:gridCol w="1052280"/>
                <a:gridCol w="1052640"/>
                <a:gridCol w="1052280"/>
                <a:gridCol w="1052640"/>
              </a:tblGrid>
              <a:tr h="425520">
                <a:tc rowSpan="2">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an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9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unt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pul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unt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pul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unt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pul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unt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pul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gy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gy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6.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gy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gy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2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d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d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d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8.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d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rocc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ger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raq</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raq</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ger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8.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rocc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ger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4.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Yem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raq</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raq</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Yem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ger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9.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Yem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audi 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5.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rocc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9.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audi 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r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Yem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audi 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7.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rocc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2.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unis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r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r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9.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r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4.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audi 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unis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mal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mal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mal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mal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unis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unis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483A954-9AF9-4F99-BA1B-21D4F68D73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206280" y="1308240"/>
          <a:ext cx="8686800" cy="4929120"/>
        </p:xfrm>
        <a:graphic>
          <a:graphicData uri="http://schemas.openxmlformats.org/drawingml/2006/table">
            <a:tbl>
              <a:tblPr/>
              <a:tblGrid>
                <a:gridCol w="525600"/>
                <a:gridCol w="1020600"/>
                <a:gridCol w="1020960"/>
                <a:gridCol w="1019160"/>
                <a:gridCol w="1020600"/>
                <a:gridCol w="1020960"/>
                <a:gridCol w="1019160"/>
                <a:gridCol w="1019160"/>
                <a:gridCol w="1020600"/>
              </a:tblGrid>
              <a:tr h="328320">
                <a:tc rowSpan="2">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an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9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Count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opul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Count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opul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Count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opul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Count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opul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eban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iby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ord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lest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iby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ord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iby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ord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lest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A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lest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iby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urit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lest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A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A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ord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eban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urit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urit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m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urit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eban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Kuwa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Kuwa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Kuwa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Kuwa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eban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or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m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m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m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ahr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or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or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or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A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t;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jibou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jibou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jibou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jibou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t;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at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at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at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at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t;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ahr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ahr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ahr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 Saha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t;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 Saha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 Saha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 Saha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632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3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8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8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ble 1. Total population at mid-year, Arab Countries, 1950-2050</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26DA7AD-8EC8-4E84-804C-D514F63581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6840" y="836640"/>
            <a:ext cx="8147160" cy="5184720"/>
          </a:xfrm>
          <a:prstGeom prst="rect">
            <a:avLst/>
          </a:prstGeom>
          <a:noFill/>
          <a:ln w="0">
            <a:noFill/>
          </a:ln>
        </p:spPr>
        <p:txBody>
          <a:bodyPr lIns="90000" rIns="90000" tIns="46800" bIns="46800" anchor="t">
            <a:normAutofit fontScale="97000"/>
          </a:bodyPr>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population of the Arab </a:t>
            </a:r>
            <a:r>
              <a:rPr b="1" lang="en-US" sz="3600" spc="-1" strike="noStrike">
                <a:solidFill>
                  <a:srgbClr val="000000"/>
                </a:solidFill>
                <a:latin typeface="Arial"/>
              </a:rPr>
              <a:t>	</a:t>
            </a:r>
            <a:r>
              <a:rPr b="1" lang="en-US" sz="3600" spc="-1" strike="noStrike">
                <a:solidFill>
                  <a:srgbClr val="000000"/>
                </a:solidFill>
                <a:latin typeface="Arial"/>
              </a:rPr>
              <a:t>region rose:</a:t>
            </a:r>
            <a:endParaRPr b="0" lang="en-US" sz="3600" spc="-1" strike="noStrike">
              <a:solidFill>
                <a:srgbClr val="000000"/>
              </a:solidFill>
              <a:latin typeface="Arial"/>
            </a:endParaRPr>
          </a:p>
          <a:p>
            <a:pPr lvl="2" marL="1108440" indent="-2214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77 million in 1950, </a:t>
            </a:r>
            <a:endParaRPr b="0" lang="en-US" sz="3200" spc="-1" strike="noStrike">
              <a:solidFill>
                <a:srgbClr val="000000"/>
              </a:solidFill>
              <a:latin typeface="Arial"/>
            </a:endParaRPr>
          </a:p>
          <a:p>
            <a:pPr lvl="2" marL="1108440" indent="-2214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280 million in 2000, </a:t>
            </a:r>
            <a:endParaRPr b="0" lang="en-US" sz="3200" spc="-1" strike="noStrike">
              <a:solidFill>
                <a:srgbClr val="000000"/>
              </a:solidFill>
              <a:latin typeface="Arial"/>
            </a:endParaRPr>
          </a:p>
          <a:p>
            <a:pPr lvl="2" marL="1108440" indent="-2214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338 million in mid-2008. </a:t>
            </a:r>
            <a:endParaRPr b="0" lang="en-US" sz="3200" spc="-1" strike="noStrike">
              <a:solidFill>
                <a:srgbClr val="000000"/>
              </a:solidFill>
              <a:latin typeface="Arial"/>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It is estimated to be around 345 </a:t>
            </a:r>
            <a:r>
              <a:rPr b="1" lang="en-US" sz="3600" spc="-1" strike="noStrike">
                <a:solidFill>
                  <a:srgbClr val="000000"/>
                </a:solidFill>
                <a:latin typeface="Arial"/>
              </a:rPr>
              <a:t>	</a:t>
            </a:r>
            <a:r>
              <a:rPr b="1" lang="en-US" sz="3600" spc="-1" strike="noStrike">
                <a:solidFill>
                  <a:srgbClr val="000000"/>
                </a:solidFill>
                <a:latin typeface="Arial"/>
              </a:rPr>
              <a:t>million in mid-2009; and</a:t>
            </a:r>
            <a:endParaRPr b="0" lang="en-US" sz="3600" spc="-1" strike="noStrike">
              <a:solidFill>
                <a:srgbClr val="000000"/>
              </a:solidFill>
              <a:latin typeface="Arial"/>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It is expected to increase to    </a:t>
            </a:r>
            <a:r>
              <a:rPr b="1" lang="en-US" sz="3600" spc="-1" strike="noStrike">
                <a:solidFill>
                  <a:srgbClr val="000000"/>
                </a:solidFill>
                <a:latin typeface="Arial"/>
              </a:rPr>
              <a:t>	</a:t>
            </a:r>
            <a:r>
              <a:rPr b="1" lang="en-US" sz="3600" spc="-1" strike="noStrike">
                <a:solidFill>
                  <a:srgbClr val="000000"/>
                </a:solidFill>
                <a:latin typeface="Arial"/>
              </a:rPr>
              <a:t>more than 587 million in 2050. </a:t>
            </a:r>
            <a:endParaRPr b="0" lang="en-US" sz="3600" spc="-1" strike="noStrike">
              <a:solidFill>
                <a:srgbClr val="000000"/>
              </a:solidFill>
              <a:latin typeface="Arial"/>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1555FC6-A16E-45ED-BBE9-7F1D839653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Arab region has the world’s second-fastest growing population, after sub- Saharan Africa.</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mographic transition is occurring in all 22 Arab states at varying rates.</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transition in both fertility and mortality is changing the age structure of the populations of the region.</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48B8D197-E475-4115-A7C6-88B0A64A60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s in most developing countries, development efforts have been spread unevenly among the different segments of the population.</a:t>
            </a: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61965D3A-7437-4813-9591-77318D89E7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4640"/>
            <a:ext cx="8291520" cy="5472360"/>
          </a:xfrm>
          <a:prstGeom prst="rect">
            <a:avLst/>
          </a:prstGeom>
          <a:noFill/>
          <a:ln w="0">
            <a:noFill/>
          </a:ln>
        </p:spPr>
        <p:txBody>
          <a:bodyPr lIns="90000" rIns="90000" tIns="46800" bIns="46800"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tatistical indicators in the region still convey a picture of a striking contrast between the rural and the urban demographic and social patterns, and of the families living in these two different contexts.</a:t>
            </a:r>
            <a:endParaRPr b="0" lang="en-US" sz="42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3"/>
          </p:nvPr>
        </p:nvSpPr>
        <p:spPr/>
        <p:txBody>
          <a:bodyPr/>
          <a:p>
            <a:fld id="{E267C5A6-4A32-4BD3-BD54-598F70B652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692280"/>
            <a:ext cx="8362800" cy="543384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re are differences in the spread of education, particularly among females, in the provision of health services, and in the possibilities generated by the development process for upward social and economic mobility.</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98BE91A5-5121-40E3-9A01-607DD51932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e consequence of the region’s recent demographic trends is an increasingly notable youth bulge.</a:t>
            </a:r>
            <a:endParaRPr b="0" lang="en-US" sz="4000" spc="-1" strike="noStrike">
              <a:solidFill>
                <a:srgbClr val="000000"/>
              </a:solidFill>
              <a:latin typeface="Arial"/>
            </a:endParaRPr>
          </a:p>
          <a:p>
            <a:pPr marL="609480" indent="-60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e in every three people living in the region is between ages 10 and 24. </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E756EEB5-EFE3-4AB8-89AB-2E5517BFEF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is young population provides momentum for continued population growth in the region, despite declining fertility.</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1D6EC17A-B3C3-4518-AA35-EF96BD98BB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371600" y="3886200"/>
            <a:ext cx="6400800" cy="2206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title"/>
          </p:nvPr>
        </p:nvSpPr>
        <p:spPr>
          <a:xfrm>
            <a:off x="685440" y="836280"/>
            <a:ext cx="8062920" cy="403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tents</a:t>
            </a:r>
            <a:br>
              <a:rPr sz="4400"/>
            </a:br>
            <a:br>
              <a:rPr sz="4000"/>
            </a:br>
            <a:r>
              <a:rPr b="1" lang="fr-FR" sz="3200" spc="-1" strike="noStrike">
                <a:solidFill>
                  <a:srgbClr val="000000"/>
                </a:solidFill>
                <a:latin typeface="Arial"/>
              </a:rPr>
              <a:t>1. Introduction</a:t>
            </a:r>
            <a:br>
              <a:rPr sz="3200"/>
            </a:br>
            <a:r>
              <a:rPr b="1" lang="fr-FR" sz="3200" spc="-1" strike="noStrike">
                <a:solidFill>
                  <a:srgbClr val="000000"/>
                </a:solidFill>
                <a:latin typeface="Arial"/>
              </a:rPr>
              <a:t>2. </a:t>
            </a:r>
            <a:r>
              <a:rPr b="1" lang="en-GB" sz="3200" spc="-1" strike="noStrike">
                <a:solidFill>
                  <a:srgbClr val="000000"/>
                </a:solidFill>
                <a:latin typeface="Arial"/>
              </a:rPr>
              <a:t>Changing Arab Demographics</a:t>
            </a:r>
            <a:br>
              <a:rPr sz="3200"/>
            </a:br>
            <a:r>
              <a:rPr b="1" lang="en-GB" sz="3200" spc="-1" strike="noStrike">
                <a:solidFill>
                  <a:srgbClr val="000000"/>
                </a:solidFill>
                <a:latin typeface="Arial"/>
              </a:rPr>
              <a:t>3. Changing EU Demographics</a:t>
            </a:r>
            <a:br>
              <a:rPr sz="3200"/>
            </a:br>
            <a:r>
              <a:rPr b="1" lang="en-GB" sz="3200" spc="-1" strike="noStrike">
                <a:solidFill>
                  <a:srgbClr val="000000"/>
                </a:solidFill>
                <a:latin typeface="Arial"/>
              </a:rPr>
              <a:t>4. The MED-HIMS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is large crop of young people also needs jobs and training—in a region currently plagued by high unemployment.</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0AD3A538-3E4E-4664-BD3D-54209BFEA1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rab countries are not creating jobs fast enough to match the increase in the working-age population.</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unemployment rates for youth just entering the work force- especially for young women- are extremely hig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7A6A1F8B-ADCB-4DA5-ADA6-9BC08A90B5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692280"/>
            <a:ext cx="8362800" cy="5433840"/>
          </a:xfrm>
          <a:prstGeom prst="rect">
            <a:avLst/>
          </a:prstGeom>
          <a:noFill/>
          <a:ln w="0">
            <a:noFill/>
          </a:ln>
        </p:spPr>
        <p:txBody>
          <a:bodyPr lIns="90000" rIns="90000" tIns="46800" bIns="46800" anchor="t">
            <a:normAutofit/>
          </a:bodyPr>
          <a:p>
            <a:pPr marL="95400" indent="-954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e ILO estimated that over 20 percent of young men and over 30 percent of young women in the Arab region were unemployed in 2005.</a:t>
            </a:r>
            <a:endParaRPr b="0" lang="en-US" sz="5400" spc="-1" strike="noStrike">
              <a:solidFill>
                <a:srgbClr val="000000"/>
              </a:solidFill>
              <a:latin typeface="Arial"/>
            </a:endParaRPr>
          </a:p>
          <a:p>
            <a:pPr marL="95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5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59EBBB2-E235-44C5-8062-49321A2C87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6840" y="404640"/>
            <a:ext cx="8218440" cy="5400720"/>
          </a:xfrm>
          <a:prstGeom prst="rect">
            <a:avLst/>
          </a:prstGeom>
          <a:noFill/>
          <a:ln w="0">
            <a:noFill/>
          </a:ln>
        </p:spPr>
        <p:txBody>
          <a:bodyPr lIns="90000" rIns="90000" tIns="46800" bIns="46800" anchor="t">
            <a:normAutofit fontScale="98000"/>
          </a:bodyPr>
          <a:p>
            <a:pPr marL="174240" indent="-1742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ituation is particularly dire in several Arab countries, with unemployment ranging between 20 percent and 30 percent of young men, along with between 30 percent and 50 percent of young women.</a:t>
            </a:r>
            <a:endParaRPr b="0" lang="en-US" sz="4400" spc="-1" strike="noStrike">
              <a:solidFill>
                <a:srgbClr val="000000"/>
              </a:solidFill>
              <a:latin typeface="Arial"/>
            </a:endParaRPr>
          </a:p>
          <a:p>
            <a:pPr marL="1742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A537DAB-1CDA-4435-82D7-AB7FC34AF8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609480" indent="-6094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mmigration has also played an important role in population change in some parts of the region over the last half-century.</a:t>
            </a:r>
            <a:endParaRPr b="0" lang="en-US" sz="5400" spc="-1" strike="noStrike">
              <a:solidFill>
                <a:srgbClr val="000000"/>
              </a:solidFill>
              <a:latin typeface="Arial"/>
            </a:endParaRPr>
          </a:p>
          <a:p>
            <a:pPr marL="6094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sldNum" idx="3"/>
          </p:nvPr>
        </p:nvSpPr>
        <p:spPr/>
        <p:txBody>
          <a:bodyPr/>
          <a:p>
            <a:fld id="{A8B271FC-C06B-45C2-AEB7-90FDEE42C8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95280" y="549000"/>
            <a:ext cx="8229600" cy="5616360"/>
          </a:xfrm>
          <a:prstGeom prst="rect">
            <a:avLst/>
          </a:prstGeom>
          <a:noFill/>
          <a:ln w="0">
            <a:noFill/>
          </a:ln>
        </p:spPr>
        <p:txBody>
          <a:bodyPr lIns="90000" rIns="90000" tIns="46800" bIns="46800" anchor="t">
            <a:normAutofit/>
          </a:bodyPr>
          <a:p>
            <a:pPr marL="177840" indent="-177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Economic expansion following the jump in oil revenues in the 1970s attracted millions of workers from ‘labour-rich’ non-oil producing countries to seek jobs in the ‘oil-rich’ countries within the region. </a:t>
            </a:r>
            <a:endParaRPr b="0" lang="en-US" sz="4400" spc="-1" strike="noStrike">
              <a:solidFill>
                <a:srgbClr val="000000"/>
              </a:solidFill>
              <a:latin typeface="Arial"/>
            </a:endParaRPr>
          </a:p>
          <a:p>
            <a:pPr marL="1778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A0880EE5-EA24-4A83-B72A-C4D03AC54F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980640"/>
            <a:ext cx="8362800" cy="496908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ly, Arab sending countries face less migration opportunities to the Gulf states due to:</a:t>
            </a:r>
            <a:endParaRPr b="0" lang="en-US" sz="3600" spc="-1" strike="noStrike">
              <a:solidFill>
                <a:srgbClr val="000000"/>
              </a:solidFill>
              <a:latin typeface="Arial"/>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ompletion of the infrastructure </a:t>
            </a:r>
            <a:r>
              <a:rPr b="1" lang="en-US" sz="3600" spc="-1" strike="noStrike">
                <a:solidFill>
                  <a:srgbClr val="000000"/>
                </a:solidFill>
                <a:latin typeface="Arial"/>
              </a:rPr>
              <a:t>	</a:t>
            </a:r>
            <a:r>
              <a:rPr b="1" lang="en-US" sz="3600" spc="-1" strike="noStrike">
                <a:solidFill>
                  <a:srgbClr val="000000"/>
                </a:solidFill>
                <a:latin typeface="Arial"/>
              </a:rPr>
              <a:t>stage.</a:t>
            </a:r>
            <a:endParaRPr b="0" lang="en-US" sz="3600" spc="-1" strike="noStrike">
              <a:solidFill>
                <a:srgbClr val="000000"/>
              </a:solidFill>
              <a:latin typeface="Arial"/>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Reduced need for unskilled </a:t>
            </a:r>
            <a:r>
              <a:rPr b="1" lang="en-US" sz="3600" spc="-1" strike="noStrike">
                <a:solidFill>
                  <a:srgbClr val="000000"/>
                </a:solidFill>
                <a:latin typeface="Arial"/>
              </a:rPr>
              <a:t>	</a:t>
            </a:r>
            <a:r>
              <a:rPr b="1" lang="en-US" sz="3600" spc="-1" strike="noStrike">
                <a:solidFill>
                  <a:srgbClr val="000000"/>
                </a:solidFill>
                <a:latin typeface="Arial"/>
              </a:rPr>
              <a:t>labour and increased need for </a:t>
            </a:r>
            <a:r>
              <a:rPr b="1" lang="en-US" sz="3600" spc="-1" strike="noStrike">
                <a:solidFill>
                  <a:srgbClr val="000000"/>
                </a:solidFill>
                <a:latin typeface="Arial"/>
              </a:rPr>
              <a:t>	</a:t>
            </a:r>
            <a:r>
              <a:rPr b="1" lang="en-US" sz="3600" spc="-1" strike="noStrike">
                <a:solidFill>
                  <a:srgbClr val="000000"/>
                </a:solidFill>
                <a:latin typeface="Arial"/>
              </a:rPr>
              <a:t>high specific skills not always </a:t>
            </a:r>
            <a:r>
              <a:rPr b="1" lang="en-US" sz="3600" spc="-1" strike="noStrike">
                <a:solidFill>
                  <a:srgbClr val="000000"/>
                </a:solidFill>
                <a:latin typeface="Arial"/>
              </a:rPr>
              <a:t>	</a:t>
            </a:r>
            <a:r>
              <a:rPr b="1" lang="en-US" sz="3600" spc="-1" strike="noStrike">
                <a:solidFill>
                  <a:srgbClr val="000000"/>
                </a:solidFill>
                <a:latin typeface="Arial"/>
              </a:rPr>
              <a:t>available in sending countrie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578442B9-5501-4CDD-A56B-919B8146AF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907560"/>
            <a:ext cx="8291520" cy="518508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stream of migration out of the region— especially from North Africa, to Europe is also creating large Arab communities in several European countries.</a:t>
            </a:r>
            <a:endParaRPr b="0" lang="en-US" sz="4800" spc="-1" strike="noStrike">
              <a:solidFill>
                <a:srgbClr val="000000"/>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7AD1E10C-7634-46BC-BD54-495424EC2D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907920"/>
            <a:ext cx="8362800" cy="5042160"/>
          </a:xfrm>
          <a:prstGeom prst="rect">
            <a:avLst/>
          </a:prstGeom>
          <a:noFill/>
          <a:ln w="0">
            <a:noFill/>
          </a:ln>
        </p:spPr>
        <p:txBody>
          <a:bodyPr lIns="90000" rIns="90000" tIns="46800" bIns="46800" anchor="t">
            <a:normAutofit/>
          </a:bodyPr>
          <a:p>
            <a:pPr marL="272880" indent="-2728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cent studies indicate that Europe is the single largest destination of first-generation emigrants from countries in the Middle East and North Africa, and hosts a little under half of all such emigrants worldwide. </a:t>
            </a:r>
            <a:endParaRPr b="0" lang="en-US" sz="4800" spc="-1" strike="noStrike">
              <a:solidFill>
                <a:srgbClr val="000000"/>
              </a:solidFill>
              <a:latin typeface="Arial"/>
            </a:endParaRPr>
          </a:p>
          <a:p>
            <a:pPr marL="2728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CB0097B1-B863-4563-9758-3C2B73BD67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907560"/>
            <a:ext cx="8291520" cy="5185080"/>
          </a:xfrm>
          <a:prstGeom prst="rect">
            <a:avLst/>
          </a:prstGeom>
          <a:noFill/>
          <a:ln w="0">
            <a:noFill/>
          </a:ln>
        </p:spPr>
        <p:txBody>
          <a:bodyPr lIns="90000" rIns="90000" tIns="46800" bIns="46800"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Arab oil countries, i.e. the Gulf States and Libya, constitute the second largest destination, with the rest of the world, mainly North America, ranking far behind.</a:t>
            </a:r>
            <a:endParaRPr b="0" lang="en-US" sz="4800" spc="-1" strike="noStrike">
              <a:solidFill>
                <a:srgbClr val="000000"/>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8C182FE3-E87E-44F5-B355-C2F0C3C73E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1. Introduction</a:t>
            </a:r>
            <a:endParaRPr b="0" lang="en-US" sz="4400" spc="-1" strike="noStrike">
              <a:solidFill>
                <a:srgbClr val="000000"/>
              </a:solidFill>
              <a:latin typeface="Arial"/>
            </a:endParaRPr>
          </a:p>
        </p:txBody>
      </p:sp>
      <p:sp>
        <p:nvSpPr>
          <p:cNvPr id="46" name="PlaceHolder 2"/>
          <p:cNvSpPr>
            <a:spLocks noGrp="1"/>
          </p:cNvSpPr>
          <p:nvPr>
            <p:ph/>
          </p:nvPr>
        </p:nvSpPr>
        <p:spPr>
          <a:xfrm>
            <a:off x="456840" y="1483920"/>
            <a:ext cx="8218440" cy="4537080"/>
          </a:xfrm>
          <a:prstGeom prst="rect">
            <a:avLst/>
          </a:prstGeom>
          <a:noFill/>
          <a:ln w="0">
            <a:noFill/>
          </a:ln>
        </p:spPr>
        <p:txBody>
          <a:bodyPr lIns="90000" rIns="90000" tIns="46800" bIns="46800" anchor="t">
            <a:normAutofit fontScale="84000"/>
          </a:bodyPr>
          <a:p>
            <a:pPr marL="383760" indent="-3837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damental changes in human affairs come both as:</a:t>
            </a:r>
            <a:endParaRPr b="0" lang="en-US" sz="4000" spc="-1" strike="noStrike">
              <a:solidFill>
                <a:srgbClr val="000000"/>
              </a:solidFill>
              <a:latin typeface="Arial"/>
            </a:endParaRPr>
          </a:p>
          <a:p>
            <a:pPr marL="383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3800" indent="-3196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predictable discontinuities, and as</a:t>
            </a:r>
            <a:endParaRPr b="0" lang="en-US" sz="4000" spc="-1" strike="noStrike">
              <a:solidFill>
                <a:srgbClr val="000000"/>
              </a:solidFill>
              <a:latin typeface="Arial"/>
            </a:endParaRPr>
          </a:p>
          <a:p>
            <a:pPr lvl="1" marL="703800" indent="-3196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lly unfolding trends.</a:t>
            </a:r>
            <a:endParaRPr b="0" lang="en-US" sz="4000" spc="-1" strike="noStrike">
              <a:solidFill>
                <a:srgbClr val="000000"/>
              </a:solidFill>
              <a:latin typeface="Arial"/>
            </a:endParaRPr>
          </a:p>
          <a:p>
            <a:pPr lvl="1" marL="703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83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703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03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03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703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14A153D-647E-4AF9-B3AA-FBD4E37E9F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609480" indent="-60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 recent decades, migrants have sent home billions of dollars in remittances that support their families and add significantly to their country’s national income.</a:t>
            </a:r>
            <a:endParaRPr b="0" lang="en-US" sz="4400" spc="-1" strike="noStrike">
              <a:solidFill>
                <a:srgbClr val="000000"/>
              </a:solidFill>
              <a:latin typeface="Arial"/>
            </a:endParaRPr>
          </a:p>
          <a:p>
            <a:pPr marL="6094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F73CE86-6853-4E3B-B6E9-A488C75243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th more jobs and opportunities in Europe than in the Arab region, the stream of migrants has continued, despite European efforts to slow it down. </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xample, migration from Morocco to southern Europe has been increasing in recent years, especially to Spain and Italy.</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79E7AA03-2167-4B85-AD00-53EC29C62E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609480" indent="-60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 the Arab region’s total population increases, so will its elderly population. </a:t>
            </a:r>
            <a:endParaRPr b="0" lang="en-US" sz="44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is, in turn, will create new demands for health care and financial security.</a:t>
            </a:r>
            <a:r>
              <a:rPr b="1"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FA26744-CC02-4C93-A62B-3968504D25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lderly will remain a smaller share of the total population, compared with Europe, where one-third of the population will be age 60 or older by 2050, according to recent UN projection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DC5E871-13B9-40A2-BE3F-2849E868C6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836640"/>
            <a:ext cx="814716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ut the numbers entering the older ages in the Arab region will continue to expand.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tween 2000 and 2050, for example, Egypt’s population 60 years and older is expected to grow from 4.6 million to 23.7 mill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C8F3B41D-B16C-4232-AE1C-9D6FFD6D2B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692280"/>
            <a:ext cx="8507520" cy="5689440"/>
          </a:xfrm>
          <a:prstGeom prst="rect">
            <a:avLst/>
          </a:prstGeom>
          <a:noFill/>
          <a:ln w="0">
            <a:noFill/>
          </a:ln>
        </p:spPr>
        <p:txBody>
          <a:bodyPr lIns="90000" rIns="90000" tIns="46800" bIns="46800" anchor="t">
            <a:normAutofit/>
          </a:bodyPr>
          <a:p>
            <a:pPr marL="274680" indent="-2746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us, it can be said that emigration from the Arab countries is and will remain an important demographic wildcard. </a:t>
            </a:r>
            <a:endParaRPr b="0" lang="en-US" sz="4000" spc="-1" strike="noStrike">
              <a:solidFill>
                <a:srgbClr val="000000"/>
              </a:solidFill>
              <a:latin typeface="Arial"/>
            </a:endParaRPr>
          </a:p>
          <a:p>
            <a:pPr marL="274680" indent="-2746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 affects the age and sex structure of populations as well as the size in both sending and receiving countr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F983CD8-4EDC-4AC6-84CD-EFB76B6950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3. Changing EU Demographics</a:t>
            </a:r>
            <a:endParaRPr b="0" lang="en-US" sz="4000" spc="-1" strike="noStrike">
              <a:solidFill>
                <a:srgbClr val="000000"/>
              </a:solidFill>
              <a:latin typeface="Arial"/>
            </a:endParaRPr>
          </a:p>
        </p:txBody>
      </p:sp>
      <p:sp>
        <p:nvSpPr>
          <p:cNvPr id="83" name="PlaceHolder 2"/>
          <p:cNvSpPr>
            <a:spLocks noGrp="1"/>
          </p:cNvSpPr>
          <p:nvPr>
            <p:ph/>
          </p:nvPr>
        </p:nvSpPr>
        <p:spPr>
          <a:xfrm>
            <a:off x="456840" y="1341360"/>
            <a:ext cx="8218440" cy="4608720"/>
          </a:xfrm>
          <a:prstGeom prst="rect">
            <a:avLst/>
          </a:prstGeom>
          <a:noFill/>
          <a:ln w="0">
            <a:noFill/>
          </a:ln>
        </p:spPr>
        <p:txBody>
          <a:bodyPr lIns="90000" rIns="90000" tIns="46800" bIns="46800" anchor="t">
            <a:normAutofit fontScale="86000"/>
          </a:bodyPr>
          <a:p>
            <a:pPr marL="458640" indent="-4586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ber states of the EU face an emerging and potentially dramatic shift in their demographics.</a:t>
            </a:r>
            <a:endParaRPr b="0" lang="en-US" sz="3600" spc="-1" strike="noStrike">
              <a:solidFill>
                <a:srgbClr val="000000"/>
              </a:solidFill>
              <a:latin typeface="Arial"/>
            </a:endParaRPr>
          </a:p>
          <a:p>
            <a:pPr marL="458640" indent="-4586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ub-replacement birth rate and increased longevity among Europeans will create a financial crisis in member states’ social programmes as the number of pensioners soars and the number of workers declines.</a:t>
            </a:r>
            <a:endParaRPr b="0" lang="en-US" sz="3600" spc="-1" strike="noStrike">
              <a:solidFill>
                <a:srgbClr val="000000"/>
              </a:solidFill>
              <a:latin typeface="Arial"/>
            </a:endParaRPr>
          </a:p>
          <a:p>
            <a:pPr marL="4586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86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32C7C43-2ACC-4329-8CE2-A55AA1BB4C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U population was estimated at  500 million on 1 January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2008: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ve births = 5.4 mill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s       = 4.8 mill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tal increase in EU in 2008=2.2 million, of whi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6 million from natural increase,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 million from migr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B814383-29AA-4648-AF02-6B65FA8E3A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European countries have fertility rates that are less than replacement levels, 2.1 children per woma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situation highlights the fact that many social institutions were developed under the assumption that there would always be more children than elderly; this assumption no longer hold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4B35DB5-69C4-41AE-84CA-72FB8BC209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From 2015:</a:t>
            </a:r>
            <a:endParaRPr b="0" lang="en-US" sz="3800" spc="-1" strike="noStrike">
              <a:solidFill>
                <a:srgbClr val="000000"/>
              </a:solidFill>
              <a:latin typeface="Arial"/>
            </a:endParaRPr>
          </a:p>
          <a:p>
            <a:pPr lvl="1" marL="743040" indent="-28584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Deaths will outnumber births, </a:t>
            </a:r>
            <a:endParaRPr b="0" lang="en-US" sz="3800" spc="-1" strike="noStrike">
              <a:solidFill>
                <a:srgbClr val="000000"/>
              </a:solidFill>
              <a:latin typeface="Arial"/>
            </a:endParaRPr>
          </a:p>
          <a:p>
            <a:pPr lvl="1" marL="743040" indent="-28584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opulation growth will only result from positive net migration;</a:t>
            </a:r>
            <a:endParaRPr b="0" lang="en-US" sz="3800" spc="-1" strike="noStrike">
              <a:solidFill>
                <a:srgbClr val="000000"/>
              </a:solidFill>
              <a:latin typeface="Arial"/>
            </a:endParaRPr>
          </a:p>
          <a:p>
            <a:pPr lvl="1" marL="743040" indent="-28584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Under zero-migration scenario, the EU27 population will start to shrink.</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28D86109-CA32-478D-8430-7157FE14D4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765000"/>
            <a:ext cx="8291520" cy="536112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ontinuities are more common than is generally realized.</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remental engineering progress are very much in evidence, but there are surprising and stunning discontinuities.</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me political discontinuities of the past 60 years have been even more stunning.</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B178CEF-F3A5-4A83-82CA-4077C3954C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U27 will face a population that is growing older.</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population aged 65+ will jump from 13% in 2008 to 30% in 2050.</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0B384DA-C5FA-40F1-BE72-7665A2169C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 Europe's population ages the number of those of working age (defined as 15-64) will become smaller.</a:t>
            </a:r>
            <a:endParaRPr b="0" lang="en-US" sz="3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tween 2005 and 2050, EU27 will lose 19 per cent, or 64 million, of its current working-age population.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DDB61C57-9912-492C-84CE-D17966ECC1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U27, such a drop in its working-age population is more than the entire present-day working-age population, 55 million, of EU27's most populous country, German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working-age population of Germany itself is projected to drop to 45 million by 2050.</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7A395C4B-CAB2-4A8F-9303-4C058AF166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620280"/>
            <a:ext cx="8229600" cy="5505480"/>
          </a:xfrm>
          <a:prstGeom prst="rect">
            <a:avLst/>
          </a:prstGeom>
          <a:noFill/>
          <a:ln w="0">
            <a:noFill/>
          </a:ln>
        </p:spPr>
        <p:txBody>
          <a:bodyPr lIns="90000" rIns="90000" tIns="46800" bIns="46800" anchor="t">
            <a:normAutofit/>
          </a:bodyPr>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 sustain the existing social system, Europe: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needs to raise the birth-rate dramatically to at least the replacement level of 2.1 children per woman;</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nd it needs more tax paying immigrants to fill the gap until the population achieves long-term sustainability.</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CE438EE2-86CF-4622-86A6-4277846562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6094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st immigrants have been mostly coming from countries around the Mediterranean and many of the needed future immigrants will likely come from the southern Mediterranean countries.</a:t>
            </a:r>
            <a:endParaRPr b="0" lang="en-US" sz="4200" spc="-1" strike="noStrike">
              <a:solidFill>
                <a:srgbClr val="000000"/>
              </a:solidFill>
              <a:latin typeface="Arial"/>
            </a:endParaRPr>
          </a:p>
          <a:p>
            <a:pPr marL="6094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3"/>
          </p:nvPr>
        </p:nvSpPr>
        <p:spPr/>
        <p:txBody>
          <a:bodyPr/>
          <a:p>
            <a:fld id="{72B4D4F6-2A40-40D0-9FF8-3F829C6941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8000"/>
          </a:bodyPr>
          <a:p>
            <a:pPr marL="335880" indent="-3358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us, it can be said that emigration from the southern Mediterranean countries to the EU is and will remain an important demographic wildcard. It affects the age and sex structure and the size of populations on both sides of the Mediterranean.</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 name="PlaceHolder 2"/>
          <p:cNvSpPr>
            <a:spLocks noGrp="1"/>
          </p:cNvSpPr>
          <p:nvPr>
            <p:ph type="sldNum" idx="3"/>
          </p:nvPr>
        </p:nvSpPr>
        <p:spPr/>
        <p:txBody>
          <a:bodyPr/>
          <a:p>
            <a:fld id="{D0F82CBD-9196-4F88-ACD8-B99C0B4139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th the Arab region and Europe with their history of thousands of years of conflicts, interaction and cultural exchanges need a comprehensive and balanced approach to migration.</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A567FE5-92D7-4C58-9050-D76E5B6521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9000"/>
          </a:bodyPr>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is requires policies and measures addressing a broad range of challenges and opportunities through dialogue and cooperation between the Arab (sending) countries and the European (destination) countries.</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B4E53E5-37EE-429C-B435-C4039F61DD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8000" y="475920"/>
            <a:ext cx="8280360" cy="5473800"/>
          </a:xfrm>
          <a:prstGeom prst="rect">
            <a:avLst/>
          </a:prstGeom>
          <a:noFill/>
          <a:ln w="0">
            <a:noFill/>
          </a:ln>
        </p:spPr>
        <p:txBody>
          <a:bodyPr lIns="90000" rIns="90000" tIns="46800" bIns="46800" anchor="t">
            <a:normAutofit fontScale="99000"/>
          </a:bodyPr>
          <a:p>
            <a:pPr marL="270000" indent="-2700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fortunately, comprehensive, scientific data regarding the determinants and consequences of international migration and the migration intentions of the rapidly increasing young people in the Arab countries are not available.</a:t>
            </a:r>
            <a:endParaRPr b="0" lang="en-US" sz="4000" spc="-1" strike="noStrike">
              <a:solidFill>
                <a:srgbClr val="000000"/>
              </a:solidFill>
              <a:latin typeface="Arial"/>
            </a:endParaRPr>
          </a:p>
          <a:p>
            <a:pPr marL="270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2F4B11A-7796-4DBB-90A3-DE8CB188B2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10920" y="692280"/>
            <a:ext cx="7993080" cy="5433840"/>
          </a:xfrm>
          <a:prstGeom prst="rect">
            <a:avLst/>
          </a:prstGeom>
          <a:noFill/>
          <a:ln w="0">
            <a:noFill/>
          </a:ln>
        </p:spPr>
        <p:txBody>
          <a:bodyPr lIns="90000" rIns="90000" tIns="46800" bIns="4680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3. The MED-HIMS Project</a:t>
            </a:r>
            <a:endParaRPr b="0" lang="en-US" sz="4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 a series of workshops organized by MEDSTAT II, it was agreed that ‘Specialized household surveys provide data on the determinants and consequences of international migration that cannot sufficiently and efficiently be collected by other method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754A069-5354-48E3-BB25-3A27A3A2A8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20280"/>
            <a:ext cx="8507520" cy="550548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graphic changes are usually slow and regular.</a:t>
            </a:r>
            <a:endParaRPr b="0" lang="en-US" sz="4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t demographic discontinuities can and do occur, and can be as abrupt in relative terms as major technical and political shifts.</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7D893EE-18E0-4BFC-8BFB-B05E453640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 collaboration with MEDSTAT II, ‘Project Documents’ for conducting such surveys have been prepared by the statistical offices in Egypt, Jordan, Palestine and Syria.</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A11EC8C-50AC-45AE-82D9-5904AA4511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was also agreed that these migration surveys should be implemented within a regional coordinated migration survey programme for the MED countries.</a:t>
            </a:r>
            <a:endParaRPr b="0" lang="en-US" sz="3200" spc="-1" strike="noStrike">
              <a:solidFill>
                <a:srgbClr val="000000"/>
              </a:solidFill>
              <a:latin typeface="Arial"/>
            </a:endParaRPr>
          </a:p>
          <a:p>
            <a:pPr marL="9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STAT II developed background papers on the objectives and scope of the proposed ‘Mediterranean Household International Migration Survey’ </a:t>
            </a:r>
            <a:endParaRPr b="0" lang="en-US" sz="3200" spc="-1" strike="noStrike">
              <a:solidFill>
                <a:srgbClr val="000000"/>
              </a:solidFill>
              <a:latin typeface="Arial"/>
            </a:endParaRPr>
          </a:p>
          <a:p>
            <a:pPr marL="95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ED-HIM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060BD95-CC3C-4061-9B33-D89DAAF768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6840" y="691920"/>
            <a:ext cx="8147160" cy="5113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MED-HIMS project will aim to overcome the lack of data on international migration from the MED-MENA region by collecting reliable and representative multi-topic, multi-level, retrospective and comparative data on the characteristics and behaviour of migrants.</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5DDF136-D7B7-4D80-950D-2C2B1DD9EE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3640" y="549000"/>
            <a:ext cx="8351640" cy="5327640"/>
          </a:xfrm>
          <a:prstGeom prst="rect">
            <a:avLst/>
          </a:prstGeom>
          <a:noFill/>
          <a:ln w="0">
            <a:noFill/>
          </a:ln>
        </p:spPr>
        <p:txBody>
          <a:bodyPr lIns="90000" rIns="90000" tIns="46800" bIns="46800" anchor="t">
            <a:normAutofit/>
          </a:bodyPr>
          <a:p>
            <a:pPr marL="177840" indent="-177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MED-HIMS project will concentrate mainly on out-migration, return migration, and intentions to migrate, as well as ‘emerging issues’ of international migration for which data are required such as circular migration, migration of highly skilled persons, irregular migration, and remittances. </a:t>
            </a:r>
            <a:endParaRPr b="0" lang="en-US" sz="3600" spc="-1" strike="noStrike">
              <a:solidFill>
                <a:srgbClr val="000000"/>
              </a:solidFill>
              <a:latin typeface="Arial"/>
            </a:endParaRPr>
          </a:p>
          <a:p>
            <a:pPr marL="17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71C991B-1E3C-4DF8-B3E7-FF14450F1B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691920"/>
            <a:ext cx="8291520" cy="532908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nformation on socio-economic status of the household and on characteristics of local communities in sample areas will also be gathered.</a:t>
            </a:r>
            <a:r>
              <a:rPr b="0" lang="en-US" sz="4800" spc="-1" strike="noStrike">
                <a:solidFill>
                  <a:srgbClr val="000000"/>
                </a:solidFill>
                <a:latin typeface="Arial"/>
              </a:rPr>
              <a:t> </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C328A4ED-87D7-41E5-B8A3-139C88B0BD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posed MED-HIMS project will aim to improve the setting of priorities and the planning, implementation and evaluation of international migration programmes.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D-HIMS will be designed to meet a number of objectives which may be summarized </a:t>
            </a:r>
            <a:r>
              <a:rPr b="1" lang="en-GB" sz="3200" spc="-1" strike="noStrike">
                <a:solidFill>
                  <a:srgbClr val="000000"/>
                </a:solidFill>
                <a:latin typeface="Arial"/>
              </a:rPr>
              <a:t>as</a:t>
            </a:r>
            <a:r>
              <a:rPr b="1" lang="en-US" sz="3200" spc="-1" strike="noStrike">
                <a:solidFill>
                  <a:srgbClr val="000000"/>
                </a:solidFill>
                <a:latin typeface="Arial"/>
              </a:rPr>
              <a:t> follow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625381E-5A93-475C-9603-5A21BF24A8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a:t>
            </a:r>
            <a:r>
              <a:rPr b="1" lang="en-US" sz="3200" spc="-1" strike="noStrike">
                <a:solidFill>
                  <a:srgbClr val="000000"/>
                </a:solidFill>
                <a:latin typeface="Arial"/>
              </a:rPr>
              <a:t>to collect data in order to understand the nature of MED-migration and the demographic and socio-economic characteristics of migrants;</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collect data on migration histories and the migration experiences and practic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3)</a:t>
            </a:r>
            <a:r>
              <a:rPr b="1" lang="en-GB" sz="3200" spc="-1" strike="noStrike">
                <a:solidFill>
                  <a:srgbClr val="000000"/>
                </a:solidFill>
                <a:latin typeface="Arial"/>
              </a:rPr>
              <a:t>	</a:t>
            </a:r>
            <a:r>
              <a:rPr b="1" lang="en-GB" sz="3200" spc="-1" strike="noStrike">
                <a:solidFill>
                  <a:srgbClr val="000000"/>
                </a:solidFill>
                <a:latin typeface="Arial"/>
              </a:rPr>
              <a:t>to collect data on migration intentions and potential destin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FE1BB24-8DB1-45A5-8851-91CD0384D4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91920"/>
            <a:ext cx="8075520" cy="4824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4)</a:t>
            </a:r>
            <a:r>
              <a:rPr b="1" lang="en-GB" sz="3200" spc="-1" strike="noStrike">
                <a:solidFill>
                  <a:srgbClr val="000000"/>
                </a:solidFill>
                <a:latin typeface="Arial"/>
              </a:rPr>
              <a:t>	</a:t>
            </a:r>
            <a:r>
              <a:rPr b="1" lang="en-GB" sz="3200" spc="-1" strike="noStrike">
                <a:solidFill>
                  <a:srgbClr val="000000"/>
                </a:solidFill>
                <a:latin typeface="Arial"/>
              </a:rPr>
              <a:t>to assess the impact of migration on household economic behaviour and practice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a:t>
            </a:r>
            <a:r>
              <a:rPr b="1" lang="en-GB" sz="3200" spc="-1" strike="noStrike">
                <a:solidFill>
                  <a:srgbClr val="000000"/>
                </a:solidFill>
                <a:latin typeface="Arial"/>
              </a:rPr>
              <a:t>	</a:t>
            </a:r>
            <a:r>
              <a:rPr b="1" lang="en-GB" sz="3200" spc="-1" strike="noStrike">
                <a:solidFill>
                  <a:srgbClr val="000000"/>
                </a:solidFill>
                <a:latin typeface="Arial"/>
              </a:rPr>
              <a:t>to assess the impact of remittances and their utilization and their impact on socio- economic development in the MED-region;</a:t>
            </a:r>
            <a:endParaRPr b="0" lang="en-US" sz="32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en-US" sz="3200" spc="-1" strike="noStrike">
                <a:solidFill>
                  <a:srgbClr val="000000"/>
                </a:solidFill>
                <a:latin typeface="Arial"/>
              </a:rPr>
              <a:t>	</a:t>
            </a:r>
            <a:r>
              <a:rPr b="1" lang="en-US" sz="3200" spc="-1" strike="noStrike">
                <a:solidFill>
                  <a:srgbClr val="000000"/>
                </a:solidFill>
                <a:latin typeface="Arial"/>
              </a:rPr>
              <a:t>to assess the impact of migration on unemployment and </a:t>
            </a:r>
            <a:r>
              <a:rPr b="1" lang="en-GB" sz="3200" spc="-1" strike="noStrike">
                <a:solidFill>
                  <a:srgbClr val="000000"/>
                </a:solidFill>
                <a:latin typeface="Arial"/>
              </a:rPr>
              <a:t>labour</a:t>
            </a:r>
            <a:r>
              <a:rPr b="1" lang="en-US" sz="3200" spc="-1" strike="noStrike">
                <a:solidFill>
                  <a:srgbClr val="000000"/>
                </a:solidFill>
                <a:latin typeface="Arial"/>
              </a:rPr>
              <a:t> dynamics;</a:t>
            </a:r>
            <a:r>
              <a:rPr b="1" lang="en-GB" sz="2800" spc="-1" strike="noStrike">
                <a:solidFill>
                  <a:srgbClr val="000000"/>
                </a:solidFill>
                <a:latin typeface="Arial"/>
              </a:rPr>
              <a:t> </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590F8B6-031C-4CB6-A3F9-8E923167A0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4000" y="692280"/>
            <a:ext cx="8064360" cy="5400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r>
              <a:rPr b="1" lang="en-US" sz="3200" spc="-1" strike="noStrike">
                <a:solidFill>
                  <a:srgbClr val="000000"/>
                </a:solidFill>
                <a:latin typeface="Arial"/>
              </a:rPr>
              <a:t>	</a:t>
            </a:r>
            <a:r>
              <a:rPr b="1" lang="en-US" sz="3200" spc="-1" strike="noStrike">
                <a:solidFill>
                  <a:srgbClr val="000000"/>
                </a:solidFill>
                <a:latin typeface="Arial"/>
              </a:rPr>
              <a:t>to assess the impact of migration on the skill-level of return migrants;</a:t>
            </a:r>
            <a:r>
              <a:rPr b="1"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a:t>
            </a:r>
            <a:r>
              <a:rPr b="1" lang="en-US" sz="3200" spc="-1" strike="noStrike">
                <a:solidFill>
                  <a:srgbClr val="000000"/>
                </a:solidFill>
                <a:latin typeface="Arial"/>
              </a:rPr>
              <a:t>	</a:t>
            </a:r>
            <a:r>
              <a:rPr b="1" lang="en-US" sz="3200" spc="-1" strike="noStrike">
                <a:solidFill>
                  <a:srgbClr val="000000"/>
                </a:solidFill>
                <a:latin typeface="Arial"/>
              </a:rPr>
              <a:t>to assess the overall awareness of migration issues and practice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a:t>
            </a:r>
            <a:r>
              <a:rPr b="1" lang="en-US" sz="3200" spc="-1" strike="noStrike">
                <a:solidFill>
                  <a:srgbClr val="000000"/>
                </a:solidFill>
                <a:latin typeface="Arial"/>
              </a:rPr>
              <a:t>	</a:t>
            </a:r>
            <a:r>
              <a:rPr b="1" lang="en-US" sz="3200" spc="-1" strike="noStrike">
                <a:solidFill>
                  <a:srgbClr val="000000"/>
                </a:solidFill>
                <a:latin typeface="Arial"/>
              </a:rPr>
              <a:t>to assess migrants’ future plans;</a:t>
            </a:r>
            <a:r>
              <a:rPr b="1"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to elucidate the processes leading to the decision to migrat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to evaluate the effectiveness of  governmental interventions aiming at preventing illegal emigratio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46BFFF6-759B-489C-A325-2915625C4E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9640" y="907560"/>
            <a:ext cx="7777440" cy="4753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 to develop specific methodologies for collecting and analyzing international migration data; and</a:t>
            </a:r>
            <a:endParaRPr b="0" lang="en-US" sz="32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 to </a:t>
            </a:r>
            <a:r>
              <a:rPr b="1" lang="en-GB" sz="3200" spc="-1" strike="noStrike">
                <a:solidFill>
                  <a:srgbClr val="000000"/>
                </a:solidFill>
                <a:latin typeface="Arial"/>
              </a:rPr>
              <a:t>improve data utilisation by promoting and encouraging their use by planners, policy makers, and managers of international migration and development programmes.</a:t>
            </a:r>
            <a:r>
              <a:rPr b="1" lang="en-GB"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DC1C1CF-9223-46EB-B0CC-3D0B5652B0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predictability does not prevent us from identifying those discontinuities whose magnitude and impact would be so large that they could alter the complex strategic balance between, and within, countrie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B1018915-4C16-40DB-A16F-BD6E3F267C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76280"/>
            <a:ext cx="8291520" cy="5649840"/>
          </a:xfrm>
          <a:prstGeom prst="rect">
            <a:avLst/>
          </a:prstGeom>
          <a:noFill/>
          <a:ln w="0">
            <a:noFill/>
          </a:ln>
        </p:spPr>
        <p:txBody>
          <a:bodyPr lIns="90000" rIns="90000" tIns="46800" bIns="46800" anchor="t">
            <a:normAutofit/>
          </a:bodyPr>
          <a:p>
            <a:pPr marL="272880" indent="-272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parate arrangements will have to be made for the establishment of a ‘MED-HIMS Central Unit’ for the management of such regional survey programme and for the provision of technical assistance and financial support. </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F3AE26A-0623-4020-98FE-DE19E474A6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
        <p:nvSpPr>
          <p:cNvPr id="3" name="PlaceHolder 2"/>
          <p:cNvSpPr>
            <a:spLocks noGrp="1"/>
          </p:cNvSpPr>
          <p:nvPr>
            <p:ph type="sldNum" idx="3"/>
          </p:nvPr>
        </p:nvSpPr>
        <p:spPr/>
        <p:txBody>
          <a:bodyPr/>
          <a:p>
            <a:fld id="{F85CE141-3D0A-48B6-A3A2-938ED53BD572}" type="slidenum">
              <a:t>6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guste Comte, the 19</a:t>
            </a:r>
            <a:r>
              <a:rPr b="0" lang="en-US" sz="4000" spc="-1" strike="noStrike" baseline="30000">
                <a:solidFill>
                  <a:srgbClr val="000000"/>
                </a:solidFill>
                <a:latin typeface="Arial"/>
              </a:rPr>
              <a:t>th</a:t>
            </a:r>
            <a:r>
              <a:rPr b="0" lang="en-US" sz="4000" spc="-1" strike="noStrike">
                <a:solidFill>
                  <a:srgbClr val="000000"/>
                </a:solidFill>
                <a:latin typeface="Arial"/>
              </a:rPr>
              <a:t>-century scientist, is widely credited with the dictum:</a:t>
            </a:r>
            <a:endParaRPr b="0" lang="en-US" sz="4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5000" spc="-1" strike="noStrike">
                <a:solidFill>
                  <a:srgbClr val="000000"/>
                </a:solidFill>
                <a:latin typeface="Arial"/>
              </a:rPr>
              <a:t>“</a:t>
            </a:r>
            <a:r>
              <a:rPr b="1" lang="en-US" sz="5000" spc="-1" strike="noStrike">
                <a:solidFill>
                  <a:srgbClr val="000000"/>
                </a:solidFill>
                <a:latin typeface="Arial"/>
              </a:rPr>
              <a:t>Demography is destiny</a:t>
            </a:r>
            <a:r>
              <a:rPr b="0" lang="en-US" sz="5000" spc="-1" strike="noStrike">
                <a:solidFill>
                  <a:srgbClr val="000000"/>
                </a:solidFill>
                <a:latin typeface="Arial"/>
              </a:rPr>
              <a:t>.”</a:t>
            </a:r>
            <a:endParaRPr b="0" lang="en-US" sz="5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a wonderful aphorism- but it promises too much and offers too littl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D490DB11-6C2B-4B28-8159-500499E438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24000" y="620280"/>
            <a:ext cx="8496000" cy="55054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more operational formulation might suggest that:</a:t>
            </a:r>
            <a:endParaRPr b="0" lang="en-US" sz="3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mographic forces can alter the size and composition of regularly established population groupings.</a:t>
            </a:r>
            <a:endParaRPr b="0" lang="en-US" sz="3600" spc="-1" strike="noStrike">
              <a:solidFill>
                <a:srgbClr val="000000"/>
              </a:solidFill>
              <a:latin typeface="Arial"/>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mographic considerations can alter the strategic balance between, and within, countrie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8C8EA88F-A1B7-4157-B245-94D27ED7D6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4360" y="620640"/>
            <a:ext cx="7632720" cy="468000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or our purposes here, we will try to examine the changing demographics of the Arab Region and the European Union.</a:t>
            </a:r>
            <a:endParaRPr b="0" lang="en-US" sz="4800" spc="-1" strike="noStrike">
              <a:solidFill>
                <a:srgbClr val="000000"/>
              </a:solidFill>
              <a:latin typeface="Arial"/>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D11114BA-98F8-477C-A5F6-9A8C82F1C7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04:25:14Z</dcterms:created>
  <dc:creator>Samir Farid</dc:creator>
  <dc:description/>
  <dc:language>en-US</dc:language>
  <cp:lastModifiedBy>Samir Farid</cp:lastModifiedBy>
  <dcterms:modified xsi:type="dcterms:W3CDTF">2009-06-25T05:01:48Z</dcterms:modified>
  <cp:revision>22</cp:revision>
  <dc:subject/>
  <dc:title>The Use of Household Surveys to Study the Dynamics of International Migration in the Arab Region </dc:title>
</cp:coreProperties>
</file>