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A578-1EC4-4EB8-8056-D8105549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3005-C78C-441A-9514-178D004A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ED2-78E0-4614-BCCD-0859E7CB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BFAF-700E-479E-8325-CFE43244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E1A0-555A-4016-8AF7-4688E0C0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947-C8D3-48AB-9B77-FC628466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2567-38A3-43E0-AC12-962DFE6E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8BCD-E115-4798-9996-091139BC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23CB-18CD-43CD-8006-F14C4551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36D4-89E2-4438-ADFC-09653E5D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60F-A53D-4FAA-BFB6-912B59A9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C16C-3FA1-45BA-AE77-715C7101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3981-7D9D-452A-98A1-37929CEB8B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37080" y="6778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37080" y="6778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575560" y="1446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575560" y="1446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75560" y="356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356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37080" y="6778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37080" y="6778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75560" y="1446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575560" y="1446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75560" y="356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75560" y="356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70440" y="6778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70440" y="6778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08920" y="1446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08920" y="1446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08920" y="356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08920" y="356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360" y="260280"/>
            <a:ext cx="2943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>
                  <a:alpha val="78039"/>
                </a:srgbClr>
              </a:gs>
              <a:gs pos="100000">
                <a:srgbClr val="ffffff">
                  <a:alpha val="7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ct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مدخل</a:t>
            </a:r>
            <a:r>
              <a:rPr b="1" lang="ar-SA" sz="2400" spc="-1" strike="noStrike">
                <a:solidFill>
                  <a:srgbClr val="000000"/>
                </a:solidFill>
                <a:latin typeface="MS Reference Serif"/>
                <a:ea typeface="MCS Zamzam S_U normal.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955800"/>
            <a:ext cx="876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الهجرة :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عني بالمعنى الغوي بأنها الانتقال من مكان إلى آخر أوهي تمثل حركة السكان عبر حدود معينة لغرض الإقام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الهجرة الدولية :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عرف الهجرة الدولية بأنها حركة السكان بين الدول سواء كانت هذه الهجرة عبر المنافذ الجوية أو البحرية  أو عبر المنافذ الحدودية البرية الدولية لبلد ما ، وعلية فأن المهاجرون يشكلون جزء من السكان القادمين والمغادرين عالميا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شعار المصلحة2"/>
          <p:cNvPicPr/>
          <p:nvPr/>
        </p:nvPicPr>
        <p:blipFill>
          <a:blip r:embed="rId2"/>
          <a:stretch/>
        </p:blipFill>
        <p:spPr>
          <a:xfrm>
            <a:off x="57240" y="115920"/>
            <a:ext cx="914400" cy="874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031240" y="-243000"/>
            <a:ext cx="1077840" cy="1224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89720" y="981000"/>
            <a:ext cx="1503360" cy="432000"/>
          </a:xfrm>
          <a:prstGeom prst="roundRect">
            <a:avLst>
              <a:gd name="adj" fmla="val 16667"/>
            </a:avLst>
          </a:prstGeom>
          <a:solidFill>
            <a:srgbClr val="ccccff">
              <a:alpha val="78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معنى الهجرة</a:t>
            </a:r>
            <a:r>
              <a:rPr b="1" lang="ar-SA" sz="2400" spc="-1" strike="noStrike">
                <a:solidFill>
                  <a:srgbClr val="000000"/>
                </a:solidFill>
                <a:latin typeface="MS Reference Serif"/>
                <a:ea typeface="MCS Zamzam S_U normal.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0560" y="5805360"/>
            <a:ext cx="862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4292640"/>
            <a:ext cx="8137800" cy="198756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عوام</a:t>
            </a:r>
            <a:r>
              <a:rPr b="1" lang="ar-EG" sz="20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ل</a:t>
            </a:r>
            <a:r>
              <a:rPr b="1" lang="ar-SA" sz="2000" spc="-1" strike="noStrike">
                <a:solidFill>
                  <a:srgbClr val="000000"/>
                </a:solidFill>
                <a:latin typeface="MS Reference Serif"/>
                <a:ea typeface="MCS Zamzam S_U normal."/>
              </a:rPr>
              <a:t> وأسباب اقتصادية (الدافع الاقتصادي)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عوامل وأسباب سياسية واجتماعي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الضغط السكاني الشديد وخاصة في الدول النامية والأقل نمو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قلة وندرة الأيدي العاملة في بعض الدول مما يدفع السكان في دو ل أخرى ألي الانتقال إليها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076640"/>
            <a:ext cx="3529080" cy="432000"/>
          </a:xfrm>
          <a:prstGeom prst="roundRect">
            <a:avLst>
              <a:gd name="adj" fmla="val 16667"/>
            </a:avLst>
          </a:prstGeom>
          <a:solidFill>
            <a:srgbClr val="ccccff">
              <a:alpha val="78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عوامل واسباب الهجرة الدو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3" descr="شعار المصلحة2"/>
          <p:cNvPicPr/>
          <p:nvPr/>
        </p:nvPicPr>
        <p:blipFill>
          <a:blip r:embed="rId2"/>
          <a:stretch/>
        </p:blipFill>
        <p:spPr>
          <a:xfrm>
            <a:off x="0" y="0"/>
            <a:ext cx="914400" cy="874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028000" y="-316080"/>
            <a:ext cx="1077840" cy="1224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50920" y="260280"/>
            <a:ext cx="52578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>
                  <a:alpha val="78039"/>
                </a:srgbClr>
              </a:gs>
              <a:gs pos="100000">
                <a:srgbClr val="ffffff">
                  <a:alpha val="7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ct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محاور ورقة العمل</a:t>
            </a:r>
            <a:r>
              <a:rPr b="1" lang="ar-SA" sz="2400" spc="-1" strike="noStrike">
                <a:solidFill>
                  <a:srgbClr val="000000"/>
                </a:solidFill>
                <a:latin typeface="MS Reference Serif"/>
                <a:ea typeface="MCS Zamzam S_U normal.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198440"/>
            <a:ext cx="8569080" cy="646200"/>
          </a:xfrm>
          <a:prstGeom prst="roundRect">
            <a:avLst>
              <a:gd name="adj" fmla="val 16667"/>
            </a:avLst>
          </a:prstGeom>
          <a:solidFill>
            <a:srgbClr val="cc99ff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الأول :-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MS Reference Serif"/>
                <a:cs typeface="MCS Zamzam S_U normal."/>
              </a:rPr>
              <a:t>أهم مظاهر التجربة اليمنية في مجال جمع بيانات الهجرة الدول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133720"/>
            <a:ext cx="8569080" cy="647640"/>
          </a:xfrm>
          <a:prstGeom prst="roundRect">
            <a:avLst>
              <a:gd name="adj" fmla="val 16667"/>
            </a:avLst>
          </a:prstGeom>
          <a:solidFill>
            <a:srgbClr val="cc99ff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الثاني :-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MS Reference Serif"/>
                <a:cs typeface="MCS Zamzam S_U normal."/>
              </a:rPr>
              <a:t>أهم المعوقات والصعوبات العائقة لتطوير التجربة في جمع البيانات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997360"/>
            <a:ext cx="8569080" cy="647640"/>
          </a:xfrm>
          <a:prstGeom prst="roundRect">
            <a:avLst>
              <a:gd name="adj" fmla="val 16667"/>
            </a:avLst>
          </a:prstGeom>
          <a:solidFill>
            <a:srgbClr val="cc99ff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الثالث :-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MS Reference Serif"/>
                <a:cs typeface="MCS Zamzam S_U normal."/>
              </a:rPr>
              <a:t>مصادر البيانات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3860640"/>
            <a:ext cx="8569080" cy="648000"/>
          </a:xfrm>
          <a:prstGeom prst="roundRect">
            <a:avLst>
              <a:gd name="adj" fmla="val 16667"/>
            </a:avLst>
          </a:prstGeom>
          <a:solidFill>
            <a:srgbClr val="cc99ff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الرابع :-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MS Reference Serif"/>
                <a:cs typeface="MCS Zamzam S_U normal."/>
              </a:rPr>
              <a:t>أساليب وطرق جمع البيان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4724280"/>
            <a:ext cx="8569080" cy="648000"/>
          </a:xfrm>
          <a:prstGeom prst="roundRect">
            <a:avLst>
              <a:gd name="adj" fmla="val 16667"/>
            </a:avLst>
          </a:prstGeom>
          <a:solidFill>
            <a:srgbClr val="cc99ff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الخامس : - </a:t>
            </a:r>
            <a:r>
              <a:rPr b="1" lang="ar-EG" sz="2800" spc="-1" strike="noStrike" u="sng">
                <a:solidFill>
                  <a:srgbClr val="000000"/>
                </a:solidFill>
                <a:uFillTx/>
                <a:latin typeface="MS Reference Serif"/>
                <a:cs typeface="MCS Zamzam S_U normal."/>
              </a:rPr>
              <a:t>المقترحات والتوصيات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MS Reference Serif"/>
                <a:ea typeface="MCS Zamzam S_U normal.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3" descr="شعار المصلحة2"/>
          <p:cNvPicPr/>
          <p:nvPr/>
        </p:nvPicPr>
        <p:blipFill>
          <a:blip r:embed="rId2"/>
          <a:stretch/>
        </p:blipFill>
        <p:spPr>
          <a:xfrm>
            <a:off x="0" y="0"/>
            <a:ext cx="914400" cy="87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8031240" y="-316080"/>
            <a:ext cx="1077840" cy="1224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87280" y="260280"/>
            <a:ext cx="6624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>
                  <a:alpha val="78039"/>
                </a:srgbClr>
              </a:gs>
              <a:gs pos="100000">
                <a:srgbClr val="ffffff">
                  <a:alpha val="7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MS Reference Serif"/>
                <a:cs typeface="MCS Zamzam S_U normal."/>
              </a:rPr>
              <a:t>أهم مظاهر التجربة اليمنية في مجال جمع بيانات الهجرة الدول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198440"/>
            <a:ext cx="8785440" cy="862200"/>
          </a:xfrm>
          <a:prstGeom prst="roundRect">
            <a:avLst>
              <a:gd name="adj" fmla="val 16667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S Reference Serif"/>
                <a:ea typeface="MCS Zamzam S_U normal."/>
              </a:rPr>
              <a:t>(أ):- الثبات النسبي للمصطلحات والمفاهيم والتعاريف المستخدمة حول جمع إحصاءات الهجرة الدولي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2276640"/>
            <a:ext cx="8785440" cy="861840"/>
          </a:xfrm>
          <a:prstGeom prst="roundRect">
            <a:avLst>
              <a:gd name="adj" fmla="val 16667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S Reference Serif"/>
                <a:ea typeface="MCS Zamzam S_U normal."/>
              </a:rPr>
              <a:t>(ب):- الاستناد على ماهو متاح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429000"/>
            <a:ext cx="8785440" cy="861840"/>
          </a:xfrm>
          <a:prstGeom prst="roundRect">
            <a:avLst>
              <a:gd name="adj" fmla="val 16667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ج) :- محدودية مشاركة العاملين الاحصائيي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4508640"/>
            <a:ext cx="8785440" cy="861840"/>
          </a:xfrm>
          <a:prstGeom prst="roundRect">
            <a:avLst>
              <a:gd name="adj" fmla="val 16667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S Reference Serif"/>
                <a:ea typeface="MCS Zamzam S_U normal."/>
              </a:rPr>
              <a:t>( د) :- محدودية نطاق الاستخدا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3" descr="شعار المصلحة2"/>
          <p:cNvPicPr/>
          <p:nvPr/>
        </p:nvPicPr>
        <p:blipFill>
          <a:blip r:embed="rId2"/>
          <a:stretch/>
        </p:blipFill>
        <p:spPr>
          <a:xfrm>
            <a:off x="0" y="0"/>
            <a:ext cx="914400" cy="874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148600" y="-243000"/>
            <a:ext cx="887400" cy="100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87280" y="189000"/>
            <a:ext cx="6767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>
                  <a:alpha val="78039"/>
                </a:srgbClr>
              </a:gs>
              <a:gs pos="100000">
                <a:srgbClr val="ffffff">
                  <a:alpha val="7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MS Reference Serif"/>
                <a:cs typeface="MCS Zamzam S_U normal."/>
              </a:rPr>
              <a:t>أهم المعوقات والصعوبات العائقة لتطوير التجربة في جمع البيا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054080"/>
            <a:ext cx="8785440" cy="719280"/>
          </a:xfrm>
          <a:prstGeom prst="roundRect">
            <a:avLst>
              <a:gd name="adj" fmla="val 16667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تباعد فترات إجراء التعداد وهو المصدر الرئيسي لإحصاءات الهجرة الدولية حيث يتم اجرائه مرة كل عشر سنوا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917720"/>
            <a:ext cx="8785440" cy="719280"/>
          </a:xfrm>
          <a:prstGeom prst="roundRect">
            <a:avLst>
              <a:gd name="adj" fmla="val 16667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عدم إجراء مسح ميداني تخصصي بالعينة في مجال إحصاءات الهجرة الدولية حتى الآن يلبي حاجة المستخدم من البيا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782800"/>
            <a:ext cx="8785440" cy="862200"/>
          </a:xfrm>
          <a:prstGeom prst="roundRect">
            <a:avLst>
              <a:gd name="adj" fmla="val 16667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عدم التطبيق والعمل بالنظام الإحصائي الموحد لإحصاءات الهجرة الدو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3790800"/>
            <a:ext cx="8785440" cy="862200"/>
          </a:xfrm>
          <a:prstGeom prst="roundRect">
            <a:avLst>
              <a:gd name="adj" fmla="val 16667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غياب وضعف البرامج والأنشطة مما أدى إلى عدم وجود  آلية للتنسيق وتبادل المعلومات فيما بين  المؤسسات ذات العلاقة بإحصاءات الهجرة الدو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4799160"/>
            <a:ext cx="8785440" cy="861840"/>
          </a:xfrm>
          <a:prstGeom prst="roundRect">
            <a:avLst>
              <a:gd name="adj" fmla="val 16667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محدودية المراجع والوثائق المترجمة الى اللغة العربية و التي يستعين بها العاملين والفنيين في تطوير المفاهيم والمصطلحات في مجال إحصاءات الهجرة الدول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3" descr="شعار المصلحة2"/>
          <p:cNvPicPr/>
          <p:nvPr/>
        </p:nvPicPr>
        <p:blipFill>
          <a:blip r:embed="rId2"/>
          <a:stretch/>
        </p:blipFill>
        <p:spPr>
          <a:xfrm>
            <a:off x="0" y="0"/>
            <a:ext cx="914400" cy="87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031240" y="-243000"/>
            <a:ext cx="1077840" cy="1224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96880" y="128520"/>
            <a:ext cx="6099480" cy="49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>
                  <a:alpha val="78039"/>
                </a:srgbClr>
              </a:gs>
              <a:gs pos="100000">
                <a:srgbClr val="ffffff">
                  <a:alpha val="7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MS Reference Serif"/>
                <a:cs typeface="MCS Zamzam S_U normal."/>
              </a:rPr>
              <a:t>أهم مصادر بيانات الهجرة الدول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268280"/>
            <a:ext cx="8785440" cy="719280"/>
          </a:xfrm>
          <a:prstGeom prst="roundRect">
            <a:avLst>
              <a:gd name="adj" fmla="val 16667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المصدر الأول : التعداد العام للسك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276640"/>
            <a:ext cx="8785440" cy="718920"/>
          </a:xfrm>
          <a:prstGeom prst="roundRect">
            <a:avLst>
              <a:gd name="adj" fmla="val 16667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المصدر الثاني : الجمع في نقاط الحدو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3286080"/>
            <a:ext cx="8785440" cy="719280"/>
          </a:xfrm>
          <a:prstGeom prst="roundRect">
            <a:avLst>
              <a:gd name="adj" fmla="val 16667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المصدر الثالث : السجلات الإدار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3" descr="شعار المصلحة2"/>
          <p:cNvPicPr/>
          <p:nvPr/>
        </p:nvPicPr>
        <p:blipFill>
          <a:blip r:embed="rId2"/>
          <a:stretch/>
        </p:blipFill>
        <p:spPr>
          <a:xfrm>
            <a:off x="0" y="0"/>
            <a:ext cx="914400" cy="874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031240" y="-243000"/>
            <a:ext cx="1077840" cy="122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32000" y="333360"/>
            <a:ext cx="655164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>
                  <a:alpha val="78039"/>
                </a:srgbClr>
              </a:gs>
              <a:gs pos="100000">
                <a:srgbClr val="ffffff">
                  <a:alpha val="7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MS Reference Serif"/>
                <a:cs typeface="MCS Zamzam S_U normal."/>
              </a:rPr>
              <a:t>أساليب جمع بيانات الهجرة الدولي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1280" y="1341360"/>
            <a:ext cx="8623440" cy="76788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وإذا ما تتبعنا ونظرنا إلى تجربة اليمن في هذا المجال ، فإنها تستند وبدرجة رئيسية بإتباع أسلوبين رئيسيين هما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3213000"/>
            <a:ext cx="8785440" cy="792360"/>
          </a:xfrm>
          <a:prstGeom prst="roundRect">
            <a:avLst>
              <a:gd name="adj" fmla="val 16667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MS Reference Serif"/>
                <a:cs typeface="MCS Zamzam S_U normal."/>
              </a:rPr>
              <a:t>الأسلوب الأول : إجراء التعدادات العامة للسكان – كل عشر سنو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4654440"/>
            <a:ext cx="8785440" cy="719280"/>
          </a:xfrm>
          <a:prstGeom prst="roundRect">
            <a:avLst>
              <a:gd name="adj" fmla="val 16667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MS Reference Serif"/>
                <a:cs typeface="MCS Zamzam S_U normal."/>
              </a:rPr>
              <a:t>الأسلوب الثاني : جمع البيانات عند نقاط أو منافذ عبور الأشخا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3" descr="شعار المصلحة2"/>
          <p:cNvPicPr/>
          <p:nvPr/>
        </p:nvPicPr>
        <p:blipFill>
          <a:blip r:embed="rId2"/>
          <a:stretch/>
        </p:blipFill>
        <p:spPr>
          <a:xfrm>
            <a:off x="0" y="0"/>
            <a:ext cx="914400" cy="874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8031240" y="-316080"/>
            <a:ext cx="1077840" cy="1224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32000" y="260280"/>
            <a:ext cx="648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>
                  <a:alpha val="78039"/>
                </a:srgbClr>
              </a:gs>
              <a:gs pos="100000">
                <a:srgbClr val="ffffff">
                  <a:alpha val="7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 u="sng">
                <a:solidFill>
                  <a:srgbClr val="000000"/>
                </a:solidFill>
                <a:uFillTx/>
                <a:latin typeface="MS Reference Serif"/>
                <a:cs typeface="MCS Zamzam S_U normal."/>
              </a:rPr>
              <a:t>اخيراً :المقترحات والتوصيات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MS Reference Serif"/>
                <a:ea typeface="MCS Zamzam S_U normal.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981000"/>
            <a:ext cx="8785440" cy="719280"/>
          </a:xfrm>
          <a:prstGeom prst="roundRect">
            <a:avLst>
              <a:gd name="adj" fmla="val 16667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العمل على توفير مسوح سنوية خاصة بالهجرة الدولية وتوفير الدعم المناسب ل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1846440"/>
            <a:ext cx="8785440" cy="790560"/>
          </a:xfrm>
          <a:prstGeom prst="roundRect">
            <a:avLst>
              <a:gd name="adj" fmla="val 16667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توفير أية مستجدات باللغة العربية حول هذا المجال لإمكانية مواكبة التطورات الدولية حول إحصاءات الهج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2781360"/>
            <a:ext cx="8785440" cy="936720"/>
          </a:xfrm>
          <a:prstGeom prst="roundRect">
            <a:avLst>
              <a:gd name="adj" fmla="val 16667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توفير الخبراء والاستشاريين الدوليين المختصين بهذا المجال لاستكمال وتحديث وتطوير أليه جمع البيانات حول إحصاءات الهج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4653000"/>
            <a:ext cx="8785440" cy="792000"/>
          </a:xfrm>
          <a:prstGeom prst="roundRect">
            <a:avLst>
              <a:gd name="adj" fmla="val 16667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الاطلاع على تجارب الدول في هذا المجال لإثراء الخبرات الحالية وإمكانية التطوير من خلال توفير زيارات استطلاعية وتبادل الخب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3862440"/>
            <a:ext cx="8785440" cy="646200"/>
          </a:xfrm>
          <a:prstGeom prst="roundRect">
            <a:avLst>
              <a:gd name="adj" fmla="val 16667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الإسهام في تامين الدعم المؤسسي والتدريب والتأهيل للكوادر العاملة في هذا المج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5589720"/>
            <a:ext cx="8785440" cy="792000"/>
          </a:xfrm>
          <a:prstGeom prst="roundRect">
            <a:avLst>
              <a:gd name="adj" fmla="val 16667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bdd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36000" bIns="0" anchor="t">
            <a:noAutofit/>
          </a:bodyPr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MS Reference Serif"/>
                <a:cs typeface="MCS Zamzam S_U normal."/>
              </a:rPr>
              <a:t>دراسة إمكانية تصميم نظام آلي ليتم العمل بموجبة على مستوى الدول, ويتميز بمرونة في مواكبة التغيرات والدفع بتوحيد وتوافق كيانات البيانات على مستوى الدو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68360" y="3714120"/>
            <a:ext cx="41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م </a:t>
            </a:r>
            <a:r>
              <a:rPr b="1" lang="ar-YE" sz="4000" spc="-1" strike="noStrike">
                <a:solidFill>
                  <a:srgbClr val="000000"/>
                </a:solidFill>
                <a:latin typeface="Arial"/>
              </a:rPr>
              <a:t> بحمد الله ,,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3" descr="شعار المصلحة2"/>
          <p:cNvPicPr/>
          <p:nvPr/>
        </p:nvPicPr>
        <p:blipFill>
          <a:blip r:embed="rId2"/>
          <a:stretch/>
        </p:blipFill>
        <p:spPr>
          <a:xfrm>
            <a:off x="995400" y="836640"/>
            <a:ext cx="2633760" cy="266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192640" y="-27000"/>
            <a:ext cx="3170160" cy="3600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340000" y="4744800"/>
            <a:ext cx="41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ونشكركم على حسن اصغائك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7:03:54Z</dcterms:created>
  <dc:creator>Owner</dc:creator>
  <dc:description/>
  <dc:language>en-US</dc:language>
  <cp:lastModifiedBy>User</cp:lastModifiedBy>
  <dcterms:modified xsi:type="dcterms:W3CDTF">2009-06-30T21:15:50Z</dcterms:modified>
  <cp:revision>23</cp:revision>
  <dc:subject/>
  <dc:title>تقرير موجز لمستوى الإنجاز في تنفيذ الأنشطة خلال العام 2008م ضمن برنامج التعاون بين ا لمصلحة ومنظمة اليونيسي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38166063</vt:r8>
  </property>
  <property fmtid="{D5CDD505-2E9C-101B-9397-08002B2CF9AE}" pid="3" name="_ReviewingToolsShownOnce">
    <vt:lpwstr/>
  </property>
</Properties>
</file>