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08EF-5722-451A-99CC-87538295C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C596-9019-4435-A402-04641F7A5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B26B-B0B6-4B6A-899C-714F138E0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D948-ACE2-4B06-B793-82A4BC8A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784C-65A7-4564-9FD1-3DC4AF04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EDC1-0208-49D0-A490-B461C6254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2EA3-CC1D-4DF1-AEE6-BDE86C4ED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B474-AE19-4604-B08D-BDC4099E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7A71-F895-4CE9-ABD8-FD900352A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C9D-345F-486B-88F4-83CCFB49C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1444-3A98-4E1E-859B-697D6407B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B6D2-964E-456C-B968-98953B80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B985-2118-450E-8F24-326778E0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Arial"/>
              </a:rPr>
              <a:t>اللقاءات مع بعض المسؤولين في الجمارك والموانئ والمخلصين الجملركيين والوكلاء الملاحيين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0F0F-446A-43D3-80BC-F930D40C0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C55E-552F-4C43-9E85-DB5DB377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A049-4752-4C96-8622-43B34E2A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A6EB-DAC3-4585-89DD-CB4F511FF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6F6-A72E-4D80-AE7A-D2545991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5C5-52C8-4A0F-9018-635B833B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68C-8994-454B-B063-315292C4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0F1-A181-4BBC-A90B-26729846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99B-7715-4750-9A37-0290C45F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481-7A35-4C87-9488-166D181A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B06-AC62-4E7F-9208-49A7D1B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77C-D058-4CA8-B2AA-9E3F8DDE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E63-5E6E-469C-8B29-321F9BD8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F95-A7B8-4581-BDA0-19B6F00B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C8E-59CB-4A6D-929D-01026A35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33F-13E5-4F43-840A-86D9B8CB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8853-5358-4D69-A937-B572CCF4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3612-977B-4B50-A572-17AB9B51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6A1F-05B0-4EF1-AA46-3069CAC6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3C15-E007-4570-9E67-123214E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33DC-BD0D-4F12-9F5F-F2C165A2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41D8-1269-47DE-8488-A43AC1B5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BB22-8083-41B9-93B6-A2AD443E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C9A4-204B-4912-A4AE-A16F5BDD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2ACA-72BF-47A2-ABE9-74DF6AB0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7619-015A-49A1-8107-20A66848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D37A-4307-4325-A597-9F2EEA63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AE52-C7A0-4F65-BCC9-D48AEBD5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3930-1A2C-4BBB-8E7D-9E81A948947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UNESCWA-EDG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AEA7-BC31-4E8B-9D24-7B9C27BC1F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297A-0C55-4D9A-A56E-D30FB07F5976}" type="datetime">
              <a:rPr b="0" lang="en-US" sz="1200" spc="-1" strike="noStrike">
                <a:solidFill>
                  <a:srgbClr val="1f497d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UNESCWA-EDG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1FE7-159E-4658-92E7-EAC778D24D16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533520" y="259092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9d9d9"/>
                </a:solidFill>
                <a:latin typeface="Arial"/>
              </a:rPr>
              <a:t>مبادرات الاسكوا لتسهيل التجارة والنقل في بلدان المنطقة العر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d9d9d9"/>
                </a:solidFill>
                <a:latin typeface="Arial"/>
              </a:rPr>
              <a:t>تقييم العوائق غير الجمركية</a:t>
            </a:r>
            <a:r>
              <a:rPr b="1" i="1" lang="ar-SA" sz="44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3657600" y="48769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9d9d9"/>
                </a:solidFill>
                <a:latin typeface="Arial"/>
              </a:rPr>
              <a:t>فتحية عبد الفاضل- الاسكو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819520" y="2133720"/>
          <a:ext cx="5105160" cy="4038480"/>
        </p:xfrm>
        <a:graphic>
          <a:graphicData uri="http://schemas.openxmlformats.org/drawingml/2006/table">
            <a:tbl>
              <a:tblPr/>
              <a:tblGrid>
                <a:gridCol w="1671480"/>
                <a:gridCol w="1112760"/>
                <a:gridCol w="2320920"/>
              </a:tblGrid>
              <a:tr h="44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79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ميل مع الجمر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ميل مع الجهات الأخر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ر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ين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كيل ملاح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هات رقا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اق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إجمالي عدد الاجراء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عدد التوقيع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23" name="TextBox 4"/>
          <p:cNvSpPr/>
          <p:nvPr/>
        </p:nvSpPr>
        <p:spPr>
          <a:xfrm>
            <a:off x="1600200" y="14479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مقارنة عدد الاجراءات والتوقيعات في مصر لعامي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2005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و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2012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5"/>
          <p:cNvSpPr/>
          <p:nvPr/>
        </p:nvSpPr>
        <p:spPr>
          <a:xfrm>
            <a:off x="457200" y="1600200"/>
            <a:ext cx="8229600" cy="3020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توصيات الدراسا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خلصت الدراسات في مجال تسهيل التجارة لكل من الاردن، لبنان، سوريا، فلسطين ، الامارات ومصر الي عدد من التوصيات تهدف جمعيها الى تحسين وتطوير المؤسسات والاطراف الوطنية المشاركة في عمليات التجارة الخارجية مثل الجمارك‘ والموانئ، وجهات الرقاب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685800" y="50040"/>
            <a:ext cx="7238880" cy="71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22268"/>
                </a:solidFill>
                <a:latin typeface="Arial"/>
                <a:cs typeface="Calibri"/>
              </a:rPr>
              <a:t>انشطة الاسكوا في مجال الدعم الفني حول تسهيل التجارة، اهمها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22268"/>
                </a:solidFill>
                <a:uFillTx/>
                <a:latin typeface="Arial"/>
              </a:rPr>
              <a:t>أ- مشاريع تم تنفيذها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Calibri"/>
              </a:rPr>
              <a:t>مشروع حساب التنمية الممول من المجلس الاقتصادي والاجتماعي في الامم المتحدة" حول تسهيل التجارة 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2003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-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Calibri"/>
              </a:rPr>
              <a:t>مشروع الامم المتحدة للتنمية لبناء القدرات في مجال تطوير وصلات النقل الاقليمية البرية والبرية البحرية ، 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2002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-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Arial"/>
              </a:rPr>
              <a:t>تم تنظيم عدد من الانشطة ذات العلاقة من خلال تنفيذ هذين المشروعين منها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Calibri"/>
              </a:rPr>
              <a:t>تنظيم عدد من ورش العمل التدريبية في عدد من البلدان الاعضاء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Calibri"/>
              </a:rPr>
              <a:t>تم توفير الخدمات الفنية والاستشارية في مجال تسهيل نقل البضائع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Calibri"/>
              </a:rPr>
              <a:t>تم اعداد الدراسات الميدانية والدراسات المتخصصة حول الحواجز غير الجمركية في بعض بلدان المنطق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457200" y="1172160"/>
            <a:ext cx="80773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22268"/>
                </a:solidFill>
                <a:latin typeface="Arial"/>
                <a:cs typeface="Calibri"/>
              </a:rPr>
              <a:t>انشطة الاسكوا في مجال الدعم الفني حول تسهيل التجارة، اهمها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22268"/>
                </a:solidFill>
                <a:uFillTx/>
                <a:latin typeface="Arial"/>
              </a:rPr>
              <a:t>ب- مشاريع يتم تنفيذها حاليا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Calibri"/>
              </a:rPr>
              <a:t>مشروع حساب التنمية الممول من المجلس الاقتصادي والاجتماعي في الامم المتحدة حول سلاسل الامداد 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2011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-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2013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Calibri"/>
              </a:rPr>
              <a:t>مشروع الامم المتحدة للتنمية لبناء القدرات في مجال المعونة من أجل التجارة، 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2011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 -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2013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Chart 4" descr=""/>
          <p:cNvPicPr/>
          <p:nvPr/>
        </p:nvPicPr>
        <p:blipFill>
          <a:blip r:embed="rId1"/>
          <a:stretch/>
        </p:blipFill>
        <p:spPr>
          <a:xfrm>
            <a:off x="225360" y="987480"/>
            <a:ext cx="3938760" cy="3230640"/>
          </a:xfrm>
          <a:prstGeom prst="rect">
            <a:avLst/>
          </a:prstGeom>
          <a:ln w="0">
            <a:noFill/>
          </a:ln>
        </p:spPr>
      </p:pic>
      <p:pic>
        <p:nvPicPr>
          <p:cNvPr id="228" name="Chart 5" descr=""/>
          <p:cNvPicPr/>
          <p:nvPr/>
        </p:nvPicPr>
        <p:blipFill>
          <a:blip r:embed="rId2"/>
          <a:stretch/>
        </p:blipFill>
        <p:spPr>
          <a:xfrm>
            <a:off x="2664000" y="3511440"/>
            <a:ext cx="4419360" cy="3353040"/>
          </a:xfrm>
          <a:prstGeom prst="rect">
            <a:avLst/>
          </a:prstGeom>
          <a:ln w="0">
            <a:noFill/>
          </a:ln>
        </p:spPr>
      </p:pic>
      <p:pic>
        <p:nvPicPr>
          <p:cNvPr id="229" name="Chart 7" descr=""/>
          <p:cNvPicPr/>
          <p:nvPr/>
        </p:nvPicPr>
        <p:blipFill>
          <a:blip r:embed="rId3"/>
          <a:stretch/>
        </p:blipFill>
        <p:spPr>
          <a:xfrm>
            <a:off x="4565520" y="1365120"/>
            <a:ext cx="42735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6477120" y="914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c000"/>
                </a:solidFill>
                <a:latin typeface="Arial"/>
              </a:rPr>
              <a:t>مؤشر الاداء اللوجس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2"/>
          <p:cNvSpPr/>
          <p:nvPr/>
        </p:nvSpPr>
        <p:spPr>
          <a:xfrm>
            <a:off x="1447920" y="1600200"/>
            <a:ext cx="685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22268"/>
                </a:solidFill>
                <a:uFillTx/>
                <a:latin typeface="Arial"/>
              </a:rPr>
              <a:t>الانشطة المستقبلية في مجال تسهيل التجار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22268"/>
                </a:solidFill>
                <a:latin typeface="Arial"/>
              </a:rPr>
              <a:t>القيام باعداد دراسات تحليلية حول كفاءة الخدمات اللوجستية للتجارة في بعض البلدان ولبعض السلع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22268"/>
                </a:solidFill>
                <a:latin typeface="Arial"/>
              </a:rPr>
              <a:t> تنفيذ انشطة حول بناء القدرات في مجال استخدام سلاسل الامداد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22268"/>
                </a:solidFill>
                <a:latin typeface="Arial"/>
              </a:rPr>
              <a:t> تنفيذ انشطة حول امكانية الاستفادة من المعونة من أجل التجارة لتقليل الحواجز غير الجمركية في بلدان المنطقة العربية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3"/>
          <p:cNvSpPr/>
          <p:nvPr/>
        </p:nvSpPr>
        <p:spPr>
          <a:xfrm>
            <a:off x="3048120" y="32004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شك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533520" y="2438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دراسة ميدانية حول تسهيل نقل البضائع الدولية في منطقة الاسكوا  </a:t>
            </a:r>
            <a:r>
              <a:rPr b="1" i="1" lang="ar-SA" sz="2800" spc="-1" strike="noStrike">
                <a:solidFill>
                  <a:srgbClr val="3399ff"/>
                </a:solidFill>
                <a:latin typeface="Arial"/>
              </a:rPr>
              <a:t>2001</a:t>
            </a:r>
            <a:r>
              <a:rPr b="1" i="1" lang="ar-SA" sz="28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دراسة مقارنة حول تسهيل النقل والتجارة </a:t>
            </a:r>
            <a:r>
              <a:rPr b="1" lang="ar-EG" sz="2800" spc="-1" strike="noStrike">
                <a:solidFill>
                  <a:srgbClr val="3399ff"/>
                </a:solidFill>
                <a:latin typeface="Arial"/>
              </a:rPr>
              <a:t>في مصر والأردن وسوريا وفلسطين</a:t>
            </a: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2007</a:t>
            </a: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 دراسة تسهيل التجارة والنقل في جمهورية مصر العربية </a:t>
            </a: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04920" y="1447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000"/>
                </a:solidFill>
                <a:uFillTx/>
                <a:latin typeface="Arial"/>
              </a:rPr>
              <a:t>الدراسات الميدانية التى اعدتها الاسكوا  لتقييم العوائق غير الجمرك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 u="sng">
                <a:solidFill>
                  <a:srgbClr val="ffc000"/>
                </a:solidFill>
                <a:uFillTx/>
                <a:latin typeface="Arial"/>
              </a:rPr>
              <a:t>منهجية الدراسات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1905120"/>
            <a:ext cx="8516880" cy="35352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ar-LB" sz="2800" spc="-1" strike="noStrike">
                <a:solidFill>
                  <a:srgbClr val="0070c0"/>
                </a:solidFill>
                <a:latin typeface="Arial"/>
              </a:rPr>
              <a:t>اعتمدت الدراسات على جمع المعلومات من خلال استمارات الاستقصاء وإجراء المقابلات المباشرة مع الاطراف ذات الصلة مثل : </a:t>
            </a: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المصدرون والمستوردون وممثلي الجمارك والموانئ والمطارات ونقاط العبور الحدودية والناقلين ومتعهدي النقل وممثلي البنوك وغير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1524240" cy="2210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981080" y="1447920"/>
            <a:ext cx="6934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000"/>
                </a:solidFill>
                <a:uFillTx/>
                <a:latin typeface="Arial"/>
              </a:rPr>
              <a:t>1- </a:t>
            </a:r>
            <a:r>
              <a:rPr b="1" lang="ar-SA" sz="2800" spc="-1" strike="noStrike" u="sng">
                <a:solidFill>
                  <a:srgbClr val="ffc000"/>
                </a:solidFill>
                <a:uFillTx/>
                <a:latin typeface="Arial"/>
              </a:rPr>
              <a:t>دراسة ميدانية حول تسهيل نقل البضائع الدولية في منطقة الاسكوا </a:t>
            </a:r>
            <a:r>
              <a:rPr b="1" i="1" lang="ar-SA" sz="2800" spc="-1" strike="noStrike" u="sng">
                <a:solidFill>
                  <a:srgbClr val="ffc000"/>
                </a:solidFill>
                <a:uFillTx/>
                <a:latin typeface="Arial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تشتمل الدراسة على ستة مجلدات، تم اعدادها في خمس من الدول الاعضاء، هم: لبنان، الاردن، سوريا، الامارات، ومص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Arial"/>
              </a:rPr>
              <a:t>نتائج الدراسات :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 رصدت الدراسات عدد من العوائق ، أهمها ينحصر في ثلاث 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مجالات اساسية، ويرتبط كل مجال بعدد كبير من الاسباب،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14400" y="2286000"/>
          <a:ext cx="7696080" cy="4307040"/>
        </p:xfrm>
        <a:graphic>
          <a:graphicData uri="http://schemas.openxmlformats.org/drawingml/2006/table">
            <a:tbl>
              <a:tblPr/>
              <a:tblGrid>
                <a:gridCol w="5438880"/>
                <a:gridCol w="225720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اسبا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عوائق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6264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عدم وجود دليل واضح للاجراءات، وان وجد لا يتم تحديث البيانات والمعلومات، وعدم وضوح وشفافية الاجراءات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نقص في الكوادر البشرية عالية الكفاءة مما ينتج عنه تعدد الاخطاء وبطء الاجراءات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عدم وجود معايير واضحة متفق عليها لتقدير قيمة البضائع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التعامل المباشر مع عدد كبير من الموظفين وجهاً لوج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عدم وجود ربط بين جميع الأطراف التى لها دور في تكملة الاجراءات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ضعف كفاءة النق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كثرة عدد الخطوات بصورة مفرط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رتفاع تكلفة الإجراء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53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طول الفترة الزمنية اللازمة لإنجاز الإجراء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46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فساد والممارسات غير المشرو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pic>
        <p:nvPicPr>
          <p:cNvPr id="211" name="Picture 5" descr="j0323759"/>
          <p:cNvPicPr/>
          <p:nvPr/>
        </p:nvPicPr>
        <p:blipFill>
          <a:blip r:embed="rId1"/>
          <a:stretch/>
        </p:blipFill>
        <p:spPr>
          <a:xfrm>
            <a:off x="0" y="5335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990720" y="1441440"/>
          <a:ext cx="7238880" cy="5187960"/>
        </p:xfrm>
        <a:graphic>
          <a:graphicData uri="http://schemas.openxmlformats.org/drawingml/2006/table">
            <a:tbl>
              <a:tblPr/>
              <a:tblGrid>
                <a:gridCol w="1206360"/>
                <a:gridCol w="774720"/>
                <a:gridCol w="1143000"/>
                <a:gridCol w="1295280"/>
                <a:gridCol w="914400"/>
                <a:gridCol w="1905120"/>
              </a:tblGrid>
              <a:tr h="64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rut Leba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 Aqa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 Latta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 Alexand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rates Dub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815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ميل مع الجمر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ميل مع الجهات الأخر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ر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8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ين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6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كيل ملاح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هات رقا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اق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8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إجمالي عدد الاجراء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62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عدد التوقيع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عدد الايا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13" name="TextBox 6"/>
          <p:cNvSpPr/>
          <p:nvPr/>
        </p:nvSpPr>
        <p:spPr>
          <a:xfrm>
            <a:off x="2209680" y="762120"/>
            <a:ext cx="61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99ff"/>
                </a:solidFill>
                <a:uFillTx/>
                <a:latin typeface="Arial"/>
              </a:rPr>
              <a:t>تلخيص لبعض النتائج: عدد الاجراءات والتواقيع</a:t>
            </a:r>
            <a:r>
              <a:rPr b="1" lang="ar-SA" sz="2400" spc="-1" strike="noStrike" u="sng">
                <a:solidFill>
                  <a:srgbClr val="3399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Arial"/>
              </a:rPr>
              <a:t>2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Arial"/>
              </a:rPr>
              <a:t>-دراسة مقارنة حول تسهيل النقل والتجارة </a:t>
            </a:r>
            <a:r>
              <a:rPr b="1" lang="ar-EG" sz="2400" spc="-1" strike="noStrike" u="sng">
                <a:solidFill>
                  <a:srgbClr val="ffc000"/>
                </a:solidFill>
                <a:uFillTx/>
                <a:latin typeface="Arial"/>
              </a:rPr>
              <a:t>في مصر والأردن وسوريا وفلسطين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80880" y="243828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 algn="just" rtl="1">
              <a:lnSpc>
                <a:spcPct val="8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70c0"/>
                </a:solidFill>
                <a:latin typeface="Arial"/>
              </a:rPr>
              <a:t>في عام </a:t>
            </a:r>
            <a:r>
              <a:rPr b="1" lang="ar-LB" sz="2400" spc="-1" strike="noStrike">
                <a:solidFill>
                  <a:srgbClr val="0070c0"/>
                </a:solidFill>
                <a:latin typeface="Arial"/>
              </a:rPr>
              <a:t>2004</a:t>
            </a:r>
            <a:r>
              <a:rPr b="1" lang="ar-LB" sz="2400" spc="-1" strike="noStrike">
                <a:solidFill>
                  <a:srgbClr val="0070c0"/>
                </a:solidFill>
                <a:latin typeface="Arial"/>
              </a:rPr>
              <a:t> ، أعدت الاسكوا خمسة دراسات في كل من مصر ، وسوريا ، والأردن ، وفلسطين ، ولبنا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just" rtl="1">
              <a:lnSpc>
                <a:spcPct val="8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just" rtl="1">
              <a:lnSpc>
                <a:spcPct val="8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الهدف الأساسي من </a:t>
            </a:r>
            <a:r>
              <a:rPr b="1" lang="ar-LB" sz="2400" spc="-1" strike="noStrike">
                <a:solidFill>
                  <a:srgbClr val="0070c0"/>
                </a:solidFill>
                <a:latin typeface="Arial"/>
              </a:rPr>
              <a:t>تلك الدراسات الوطنية هو تحديد معوقات تسهيل النقل والتجارة في تلك البلدان واقتراح بعض الحلو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just" rtl="1">
              <a:lnSpc>
                <a:spcPct val="8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just" rtl="1">
              <a:lnSpc>
                <a:spcPct val="8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70c0"/>
                </a:solidFill>
                <a:latin typeface="Arial"/>
              </a:rPr>
              <a:t>في عام </a:t>
            </a:r>
            <a:r>
              <a:rPr b="1" lang="ar-LB" sz="2400" spc="-1" strike="noStrike">
                <a:solidFill>
                  <a:srgbClr val="0070c0"/>
                </a:solidFill>
                <a:latin typeface="Arial"/>
              </a:rPr>
              <a:t>2007</a:t>
            </a:r>
            <a:r>
              <a:rPr b="1" lang="ar-LB" sz="2400" spc="-1" strike="noStrike">
                <a:solidFill>
                  <a:srgbClr val="0070c0"/>
                </a:solidFill>
                <a:latin typeface="Arial"/>
              </a:rPr>
              <a:t> ، أعدت الاسكوا دراسة تحليلية جمعت فيها الدراسات للبلدان المذكورة أعلاه- وتحديدا مصر، وسوريا ، والأردن ، وفلسط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just" rtl="1">
              <a:lnSpc>
                <a:spcPct val="8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just" rtl="1">
              <a:lnSpc>
                <a:spcPct val="8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70c0"/>
                </a:solidFill>
                <a:latin typeface="Arial"/>
              </a:rPr>
              <a:t>الهدف  هو المقارنة بين تلك البلدان من حيث المعوقات والحلول المقترح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just" rtl="1">
              <a:lnSpc>
                <a:spcPct val="8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447920" y="1492200"/>
          <a:ext cx="7238880" cy="501192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731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-الاعتماد على الإجراءات التقليدية (الورقية) بين الميناء والأطراف الأخرى</a:t>
                      </a:r>
                      <a:r>
                        <a:rPr b="1" lang="ar-LB" sz="2200" spc="-1" strike="noStrike">
                          <a:solidFill>
                            <a:srgbClr val="002060"/>
                          </a:solidFill>
                          <a:latin typeface="Arial"/>
                          <a:cs typeface="Calibri"/>
                        </a:rPr>
                        <a:t>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1" lang="ar-SA" sz="2200" spc="-1" strike="noStrike">
                          <a:solidFill>
                            <a:srgbClr val="002060"/>
                          </a:solidFill>
                          <a:latin typeface="Arial"/>
                          <a:cs typeface="Calibri"/>
                        </a:rPr>
                        <a:t>قصور في معدات الشحن والتفريغ والتداول من حيث قدرتها على مسايرة حمولات وأشكال البضاعة المتداولة، مما يسبب عجز في معدلات الأداء</a:t>
                      </a:r>
                      <a:r>
                        <a:rPr b="1" lang="ar-LB" sz="2200" spc="-1" strike="noStrike">
                          <a:solidFill>
                            <a:srgbClr val="002060"/>
                          </a:solidFill>
                          <a:latin typeface="Arial"/>
                          <a:cs typeface="Calibri"/>
                        </a:rPr>
                        <a:t>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1" lang="ar-SA" sz="2200" spc="-1" strike="noStrike">
                          <a:solidFill>
                            <a:srgbClr val="002060"/>
                          </a:solidFill>
                          <a:latin typeface="Arial"/>
                          <a:cs typeface="Calibri"/>
                        </a:rPr>
                        <a:t>نقص في معدات الشحن والتفريغ والتداول بين الأرصفة والمخازن</a:t>
                      </a:r>
                      <a:r>
                        <a:rPr b="1" lang="ar-LB" sz="2200" spc="-1" strike="noStrike">
                          <a:solidFill>
                            <a:srgbClr val="002060"/>
                          </a:solidFill>
                          <a:latin typeface="Arial"/>
                          <a:cs typeface="Calibri"/>
                        </a:rPr>
                        <a:t>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1" lang="ar-SA" sz="2200" spc="-1" strike="noStrike">
                          <a:solidFill>
                            <a:srgbClr val="002060"/>
                          </a:solidFill>
                          <a:latin typeface="Arial"/>
                          <a:cs typeface="Calibri"/>
                        </a:rPr>
                        <a:t>قدم وعدم دقة الموازين المتاحة في بعض الموانئ</a:t>
                      </a:r>
                      <a:r>
                        <a:rPr b="1" lang="ar-LB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 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-النقص في فراغات وخدمات الشحن البحري المناسبة لصادرات الحاصلات البستانية (الخضر والفاكهة)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-النقص الشديد في أجهزة الكشف بالموجات، والاعتماد الدائم على فتح الحاويات للكشف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- تأخر نتائج الفحص من قبل الأجهزة الرقابية خاصة الصحة والزراعة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-عدم كفاية المعامل الموجودة بالمنافذ لإجراء جميع أنواع التحاليل والفحص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-</a:t>
                      </a:r>
                      <a:r>
                        <a:rPr b="1" lang="ar-LB" sz="2200" spc="-1" strike="noStrike">
                          <a:solidFill>
                            <a:srgbClr val="002060"/>
                          </a:solidFill>
                          <a:latin typeface="Arial"/>
                          <a:cs typeface="Calibri"/>
                        </a:rPr>
                        <a:t>التعقيد والتأخير في الإجراءات اللوجستية وعدم مطابقة المستندات في أغلب الأحيان للمعايير القياسية الدولية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6858000" y="914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Arial"/>
              </a:rPr>
              <a:t>النتائج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j0323759"/>
          <p:cNvPicPr/>
          <p:nvPr/>
        </p:nvPicPr>
        <p:blipFill>
          <a:blip r:embed="rId1"/>
          <a:stretch/>
        </p:blipFill>
        <p:spPr>
          <a:xfrm>
            <a:off x="0" y="609480"/>
            <a:ext cx="1486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2133720" y="914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Arial"/>
              </a:rPr>
              <a:t>3- 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Arial"/>
              </a:rPr>
              <a:t>دراسة تسهيل التجارة والنقل في جمهورية مصر العربية 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5334120" y="1752480"/>
            <a:ext cx="3581280" cy="64972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الهدف الاساسي من هذه الدراسة ه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تحديث الدراسة التى أعدت 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2005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خلال عام 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2005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 تم رصد حوا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89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 معوق ومشكلة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بالمقارنة بدراسة 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2005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، نلاحظ الات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</a:rPr>
              <a:t> مشاكل ومعوقات تم ازالتها بشك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Arial"/>
              </a:rPr>
              <a:t>كامل وعددها (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ea typeface="Arial"/>
              </a:rPr>
              <a:t>22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Arial"/>
              </a:rPr>
              <a:t>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  <a:ea typeface="Arial"/>
              </a:rPr>
              <a:t>- 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Arial"/>
              </a:rPr>
              <a:t>مشاكل ومعوقات تم تحسينها نسبياَ وازيلت بشكل جزئي وعددها (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ea typeface="Arial"/>
              </a:rPr>
              <a:t>41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ea typeface="Arial"/>
              </a:rPr>
              <a:t>- 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Arial"/>
              </a:rPr>
              <a:t>مشاكل ومعوقات ما زالت قائمة (عددها 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ea typeface="Arial"/>
              </a:rPr>
              <a:t>26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1676520"/>
          <a:ext cx="4876920" cy="4800600"/>
        </p:xfrm>
        <a:graphic>
          <a:graphicData uri="http://schemas.openxmlformats.org/drawingml/2006/table">
            <a:tbl>
              <a:tblPr/>
              <a:tblGrid>
                <a:gridCol w="1547640"/>
                <a:gridCol w="1587600"/>
                <a:gridCol w="1741680"/>
              </a:tblGrid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معوقات تم ازالتها بالكامل بعد </a:t>
                      </a: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2005</a:t>
                      </a: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، أهمها</a:t>
                      </a: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معوقات تم تحسينها -بشكل جزئي بعد </a:t>
                      </a: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2005</a:t>
                      </a: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، أهمها</a:t>
                      </a: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معوقات ما زالت قائمة، أهمها</a:t>
                      </a: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1619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توفير كتيبات حول الاجراءات مع التحديث بشكل دوري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تحديث قانون الحجر الزراعي ليواكب المتغيرات الحديثة في التجارة الدولية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صيانة الارصفة بصورة جعلها تتحمل الحمولات الكبيرة من البضائع، تدريب عدد كافي من خبراء الجمار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تأخير للحاويات في الميناء، اجراءات المانفيست بصورة تقليدية في بعض الموانئ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 بطء في بعض الاجراءات والتواقيع،- تكرار فتح حاويات الترانزي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ارتفاع تكاليف التخزين والخدمات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- تطبيق التبادل الالكتروني للبيانات </a:t>
                      </a: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EDI</a:t>
                      </a: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cs typeface="Calibri"/>
                        </a:rPr>
                        <a:t>ليس بالشكل الشامل والفعال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70c0"/>
                          </a:solidFill>
                          <a:latin typeface="Arial"/>
                          <a:ea typeface="Calibri"/>
                        </a:rPr>
                        <a:t>- عدم الربط الشبكي بين المنافذ الجمركية المختلفة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04:29Z</dcterms:created>
  <dc:creator>User</dc:creator>
  <dc:description/>
  <dc:language>en-US</dc:language>
  <cp:lastModifiedBy>289223</cp:lastModifiedBy>
  <dcterms:modified xsi:type="dcterms:W3CDTF">2013-04-23T08:46:54Z</dcterms:modified>
  <cp:revision>408</cp:revision>
  <dc:subject/>
  <dc:title>Slide 1</dc:title>
</cp:coreProperties>
</file>