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ftr" idx="5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6BDA-8E60-4F18-97BA-E978D7BBB0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6F15-3BD9-41FD-8377-1FDE393D6909}" type="slidenum"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9BAE-DB29-4940-9686-4576DBEFFB21}" type="slidenum"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7FF9-9396-41BF-90D7-53A6AFE9EAC2}" type="slidenum"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719-A352-4D1D-B2F3-9490A726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B5B-5B1D-48DD-8953-A61B8F9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53029-4281-4CF6-AAD6-DEAB10D4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90221-B1F6-434C-B18B-8D74E7FB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D8CF3-FAB7-46C9-958F-B6E645F1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347D-E77F-42D7-B2A9-236D317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9DE5-E649-416B-855F-5B05E106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415B-5E07-4C7B-B670-F60BFC7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22F76-3557-4893-8EF9-AF51F4B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8A5F-6381-4DD5-A0DE-DC14B448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2D3E6-CA64-4468-917F-318557D5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8757-F59F-4DAE-9D11-FB612F46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233-75A5-42EC-83C5-D15CCAF5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07EF2-385D-4243-BC2B-5853D05A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99A0-A66E-4576-8411-8CEBAD3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CFD3-9565-4354-9A9B-7BCDA39D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4D060-A66C-47BB-8420-D7C6A540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2A87-546A-41B6-9B4A-E9E0422C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A935A-1E0D-4245-999E-E66CF930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9BD0-51C1-454C-B2B1-A475EA1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08013-840C-422B-999F-8CE6171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45CFB-3E69-478E-932D-8B504D39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1F29-552B-484A-8FCE-D8286CEF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C06-95D2-4E67-87CD-568BE4E3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CFFF-1017-4993-BE49-F7105474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C38D6-16E3-4A6C-AD7F-5DD24852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A358B-121D-4089-AF7F-CE50E287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6B726-3AE6-46C8-A7B4-6578797A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009F8-6C37-4E68-B590-A85E14E3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997D-A600-4855-8D55-4F8F0262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30B4-CB9B-4FF9-ACE6-927ABEE5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0C5FF-7006-4A44-968E-31B5500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410D0-1292-4F82-9E97-1EF0980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F3213-F69A-4E2F-B78B-1758398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D8B7-C29A-4C48-B121-CDCB5BA7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67A27-415E-4C56-9B06-1ECFE276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A16C-6852-4157-8E4A-203D1433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AA356-E0D2-4EFC-AD31-8115F67B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76EEF-488A-4C1A-AF76-5D55C998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92268-0147-4682-864F-9EB52B8E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2970F-02C1-47FE-ACD6-6C1618DB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F54B7-41F4-4CEF-AD63-4FBEE0D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72C93-CABF-49D8-A24B-305595CC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24F6-4CDF-4079-8688-1F3DDA2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DD36-2700-4F72-8D56-3D2ADD3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02769-D9E5-46DE-954C-933D9A5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8A9B9-6557-4147-85CC-9712FC71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20023-4320-47F5-ACFD-6261312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4352E-4D8B-4F30-95D0-472B74B7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0225E-5534-4FB6-B92D-80621208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C5D61-513D-4EC9-9147-B17A0A3D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09159-A61C-495C-900C-A9AD0431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E64C8-98DF-42E5-926D-F4EBFEAF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5144F-C6AC-46D8-8803-8FE203EF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9EFEB-AF22-478B-9960-7E074BF1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A1E70-BF09-4546-A368-27E41E53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56B8F-F75D-446F-92DB-63514F24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25DF4-1A7F-48CB-9D13-C7A35E3F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6B128-848C-4753-B827-D7FC5121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38A75-6B9C-4442-A0F0-D132DF31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477CF-81BB-48ED-B218-1B49680B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D1864-FA97-41C6-BDB5-3E081FE2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D4B0A-9AC6-45A8-BDA9-7681C697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FFA88-C61E-4942-8542-563A2587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93094-AFF2-4001-BBAA-DDA5F5ED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AB824-EAAB-4A0F-9BC2-FF6877D6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BB7F0-3C3D-40B3-AC9F-0C5523E5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71940-88DC-43AC-AC7F-EE45452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1AD42-DE5D-4CE3-A05B-2B77D87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CD8BB-B784-4BF3-8A54-D389A7C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F6378-DA7F-4F7E-B6DB-4721C45B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64334-10E5-4AAA-AC9D-F2B869F2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A7311-EE4F-420E-A04A-EA586C10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4F694-1F0C-420D-BC6C-FBE75636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6A5B2-4DCC-4EE5-A944-961E3A94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BF6E9-4495-4335-8520-C9828974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32902-D119-418A-AF0C-AB49903E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BD23C-3C1E-464C-826A-00C0CF5F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17CE0-6DFE-49EC-992F-386B8D50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323F7-40DA-4330-AFF0-B8B8BF04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B145C-35EE-45AF-90B0-BC0904B2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585D1-1EB0-4609-A506-4281566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3EF71-06FE-4ACD-86D7-555501A4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80D2-53D8-448A-AC48-4D7EE82B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5FF4-DFA7-4403-9A4B-1D97954E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7C177-D2B3-46ED-BAD9-595F43CE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02CE9-92D1-439F-BF3A-261AD67A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0EBD6-3111-4505-BCF6-E22C8749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B73FC-67BF-460D-AE9B-0F63C05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A21F0-A7F4-4BEC-8696-B108770A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C3C03-DD65-491A-9D7E-3D510528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64C74-989B-4909-9EB6-E88FA74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78550-6C61-4057-A550-A1686EAD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77501-1269-4364-9D8E-D6A7784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FB856-737A-4F37-AA99-0C23E4B5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C50DB-111E-4D9B-B857-0FE5EF49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5556B-5A5B-4DC0-B1C2-C3AAD9C1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C88A6-E2F3-4E73-B473-EA43794F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D2663-9DB2-422A-BA2D-B029411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34D83-2620-46AC-ABB8-9F11573B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A037F-7F70-477B-BBAF-FF1DB04D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E369A-1890-4DE8-BC49-90202618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9078E-0367-4FEC-9F69-DE68C71B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9A670-933F-45CE-8B18-B2F1D680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1C2-D261-4590-8D06-13517D76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71212-B72F-4325-A5C2-BF82F9C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1A388-91EC-4E4D-A9E2-C3C6633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96551-AD88-4F85-A653-03AEEBE4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3CE8C-CDA3-4EE2-832F-9DABA886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08892-E65C-49A3-93A2-601FE38B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FB57E-599E-4E40-9E5E-CC847583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28200-8392-42FD-B7E2-52931636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45C24-3FF3-4FA6-AECA-2196D634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EC776-0A3D-422D-B6F4-219A794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B0D1D-8EAB-41B7-BEF4-2EF7AEB6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34520-DA52-4E80-B7CF-CC10B8C3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C7E8E-7B02-4018-BC24-43672932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148B6-025C-439A-BCB2-5EB6BC3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89BAA-C9D0-4998-B906-94122BD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8DBCA-2ACE-42C3-A295-CB8C3D36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4C8F5-D685-4950-B87F-A81E6413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1A45A-DFB2-4975-AEC2-833340A4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44607-D2B3-494C-AF12-4618F04B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C916B-9BD3-495D-AC7E-36009BD1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599F4-E2CA-4C14-8292-017FFCC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4FF94-ED32-47A9-AAEC-A0A52E84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CACBC-832E-42D4-9E40-439100F6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7637E-90B4-4912-A3C1-50483873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B0DDA-BA2F-4E3B-AC9A-894280C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1D0C0-07A9-45D5-8A03-B58F7EF4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B6D62-8168-4023-AB8A-7CED8879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AF6D0-CD24-40F5-8065-C021EEC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EC7EC-353F-4F98-B279-C58A01C8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8797F-0B04-4848-B0AF-B298867C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8FDC6-34E3-4199-8C41-7CF24A66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00685-7B4A-4684-87A6-C9BA46B4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3027E-8BE8-430E-B4AA-6C0CF994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82041-4D44-4F53-99E4-3F71E220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9A830-FDF7-4FAD-95E9-1344F67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4F9B7-AE37-4F8E-AA5E-7D1E6DDF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E5E40-5903-44E2-8EFE-B35BFF3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668B6-1C9B-4015-88A5-E402E93D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C1E5C-EDD7-44A0-B130-C24BB019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97F02-B7F6-48FC-9C94-246D1E24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2D989-A755-4552-9949-950D5FB3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4246D-84B2-47DA-8E06-F00F69DA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0061-6ACD-45A8-8ECF-67180C89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8176-83E8-4C0F-8CCB-B14F923D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392A-2BB2-48A6-ACF6-5DE6AD2F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1ECB-37A0-43B7-B031-328BFCB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5B93-983C-4C48-BD93-629FBEC2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523-14D0-4961-BCC2-6B7C2E12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0964-8BC1-437F-B2A6-5C0462B2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AFB0-02BC-41FE-A4BA-1550809D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4EA2-FD0F-4CF1-8961-0E715E8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241-7474-4DD4-B9F2-922C7CD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2E01-F0FF-4CF1-9549-A99084E5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1392-43AE-4C1F-A716-B9BA03B1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EA64-C0C3-4082-A0B0-779217E7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402-45DA-4647-A27B-1F258D11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0EA-A8F4-4B5F-9322-5DD6224C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FE2-3222-4F5B-8C78-1687CA09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18D-7CA0-4D77-A1C7-FB225E21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DA6E-075A-4A04-ACE8-44D9BD60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3971-E794-407E-98CE-A006CDA8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BC7C-7531-4D90-B628-D201E28B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8F49-8B08-444A-A563-01FFFF2C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D57B-555B-4E55-B1BB-1B99FFD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544F-93D3-4ED8-81EC-F49AF3E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1355-646D-42D7-87E5-7C725D6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6CF-4485-4955-B6F4-C29F291A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5ABB-7FCD-48D2-A363-7D13277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86AC-D40E-4590-9892-917D6867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17D1-2A32-4B0F-81C1-C7A662A7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182F-F91C-4B7D-A660-B37A9C30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2286-5546-40A2-8204-6EE74A0A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3496-A0B9-4B77-B60C-BD75785A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53431-F2FE-48FA-9F84-E204C210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1E60-00B8-4CBC-990A-C482B420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D4CB-043C-426F-A80D-CBAE3C95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EC41-430B-4EF2-82B6-2F655505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A17-839B-4438-9941-79BF6114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298D1-AAB9-4B2B-91DF-F2B1AA53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55DC7-A9A8-48DA-8407-DE3E348C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F712-756D-43C8-AC75-C439009B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0CAE-FD7B-4DB4-BDC0-5BEF92D0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A393-E731-449A-93A8-F8481901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12993-FB99-41E4-B5A3-96BAE2D9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FCB0-64B5-470A-9BB7-03CE43E9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FAABB-A415-4116-B978-C3E5CAB5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57DD8-2295-4567-9D1C-9D9CBB10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086E1-3FC6-4051-BAE0-F3E46FA5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8C2-C7A9-459C-A71B-3B5C591AAF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0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40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0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1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2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42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3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43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3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3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3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3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3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43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3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30CD-7DAD-40DA-BF76-6A37313D4E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8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8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8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48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8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8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49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49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51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1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1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1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1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1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51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073-FEE3-4C7A-AB65-A969E8FAB5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6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56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6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6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6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6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6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6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7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7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7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7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7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7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7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57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58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8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9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9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9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9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59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9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16A7-C3A3-47D4-9A4E-3ED8406935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3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64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4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4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4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4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4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4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4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5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5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5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5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5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65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66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6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6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6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7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7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67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7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C117-49FB-4E9F-B95C-5382C5F1B8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1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71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2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2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3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3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3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73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74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4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4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4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4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4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75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5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C7F8-26FC-49D3-AAB4-ED536BE8F9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79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9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9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1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81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82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2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2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2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2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2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82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24EB-8754-44AB-813E-DDBD01071B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7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87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7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7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7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88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90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0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0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0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0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90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7A6E-5CDB-4706-A18C-8979B53FC2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5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95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5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96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97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7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8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8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8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8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98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8E35-5B86-4062-8A7F-A110D316E9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2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03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3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3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3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3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3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3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3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3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4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4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4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4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4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04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05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5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5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5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6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6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06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A145-CB60-4FB3-998D-BFB4014A84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0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0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0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10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1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2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2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2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12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13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3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3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3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3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3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14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B25E-8544-4734-8A1E-A21188098E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1cd"/>
                </a:solidFill>
                <a:latin typeface="Eurostile LT Std Bold"/>
              </a:rPr>
              <a:t>Click to edit the title text format</a:t>
            </a: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1" marL="743040" indent="-28584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2" marL="11430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3" marL="16002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4" marL="20574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18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8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8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0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20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21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1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1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1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1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1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21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C892-7268-4566-8708-F92B9FC088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6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4e4e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4e4e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4e4e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2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6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6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6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6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889d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27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4e4e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4e4e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c0de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c0de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2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2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8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9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0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1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7DAE-FF69-4D87-80AB-09047BBAE8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1cd"/>
                </a:solidFill>
                <a:latin typeface="Eurostile LT Std Bold"/>
              </a:rPr>
              <a:t>Click to edit the title text format</a:t>
            </a: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1" marL="743040" indent="-28584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2" marL="11430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3" marL="16002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4" marL="20574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1cd"/>
                </a:solidFill>
                <a:latin typeface="Eurostile LT Std Bold"/>
              </a:rPr>
              <a:t>Click to edit the title text format</a:t>
            </a: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1" marL="743040" indent="-28584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2" marL="11430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3" marL="16002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4" marL="20574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1cd"/>
                </a:solidFill>
                <a:latin typeface="Eurostile LT Std Bold"/>
              </a:rPr>
              <a:t>Click to edit the title text format</a:t>
            </a: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1" marL="743040" indent="-28584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2" marL="11430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3" marL="16002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4" marL="20574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1cd"/>
                </a:solidFill>
                <a:latin typeface="Eurostile LT Std Bold"/>
              </a:rPr>
              <a:t>Click to edit the title text format</a:t>
            </a: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1" marL="743040" indent="-28584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2" marL="11430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3" marL="16002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4" marL="20574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E93-26FB-4B0A-94DF-BAA06638D5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1cd"/>
                </a:solidFill>
                <a:latin typeface="Eurostile LT Std Bold"/>
              </a:rPr>
              <a:t>Click to edit the title text format</a:t>
            </a: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1" marL="743040" indent="-28584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2" marL="11430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3" marL="16002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4" marL="20574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67B-2A33-44C8-8A79-7B84233138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1b1b77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Freeform 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1a1a9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6" name="Freeform 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7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359" name="Freeform 7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0" name="Freeform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1cd"/>
                </a:solidFill>
                <a:latin typeface="Eurostile LT Std Bold"/>
              </a:rPr>
              <a:t>Click to edit the title text format</a:t>
            </a: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HelveticaNeueLT Std Med"/>
            </a:endParaRPr>
          </a:p>
          <a:p>
            <a:pPr lvl="1" marL="743040" indent="-28584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elveticaNeueLT Std Med"/>
            </a:endParaRPr>
          </a:p>
          <a:p>
            <a:pPr lvl="2" marL="11430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HelveticaNeueLT Std Med"/>
            </a:endParaRPr>
          </a:p>
          <a:p>
            <a:pPr lvl="3" marL="16002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HelveticaNeueLT Std Med"/>
            </a:endParaRPr>
          </a:p>
          <a:p>
            <a:pPr lvl="4" marL="2057400" indent="-228600">
              <a:spcBef>
                <a:spcPts val="601"/>
              </a:spcBef>
              <a:buClr>
                <a:srgbClr val="cdb87e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HelveticaNeueLT Std Med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HelveticaNeueLT Std Med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HelveticaNeueLT Std 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HelveticaNeueLT Std Me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91D2-AEBA-486B-B30D-6AB1B7689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201240" cy="5556240"/>
          </a:xfrm>
          <a:prstGeom prst="rect">
            <a:avLst/>
          </a:prstGeom>
          <a:ln w="0">
            <a:noFill/>
          </a:ln>
        </p:spPr>
      </p:pic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12280" y="1066680"/>
            <a:ext cx="794556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urostile LT Std Bold"/>
                <a:ea typeface="SimSun"/>
              </a:rPr>
              <a:t>Achieving Compliance with WTO future Trade Facilitation Agreement: Learning from  UNCTAD's  Experience of Working with 25+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3"/>
          <p:cNvSpPr/>
          <p:nvPr/>
        </p:nvSpPr>
        <p:spPr>
          <a:xfrm>
            <a:off x="2143080" y="5391000"/>
            <a:ext cx="487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6" name="Text Box 7"/>
          <p:cNvSpPr/>
          <p:nvPr/>
        </p:nvSpPr>
        <p:spPr>
          <a:xfrm>
            <a:off x="1447920" y="515772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HelveticaNeueLT Std Med"/>
                <a:ea typeface="SimSun"/>
              </a:rPr>
              <a:t>Dr. Mohammad SAEED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HelveticaNeueLT Std Med"/>
                <a:ea typeface="SimSun"/>
              </a:rPr>
              <a:t>Senior Technical Advisor, UNCTA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HelveticaNeueLT Std Med"/>
                <a:ea typeface="SimSun"/>
              </a:rPr>
              <a:t>mohammad.saeed@unctad.or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7" name="TextBox 1"/>
          <p:cNvSpPr/>
          <p:nvPr/>
        </p:nvSpPr>
        <p:spPr>
          <a:xfrm>
            <a:off x="762120" y="3200400"/>
            <a:ext cx="69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pert Group Meeting on Transport and Trade Facilitation in ESCWA reg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0 –11 April 2013, Dubai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Title 4"/>
          <p:cNvSpPr/>
          <p:nvPr/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91cd"/>
                </a:solidFill>
                <a:latin typeface="Eurostile LT Std Bold"/>
                <a:ea typeface="SimSu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UNCTAD project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11360" indent="-71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89" name="Group 3"/>
          <p:cNvGrpSpPr/>
          <p:nvPr/>
        </p:nvGrpSpPr>
        <p:grpSpPr>
          <a:xfrm>
            <a:off x="1116000" y="1052640"/>
            <a:ext cx="6769080" cy="685800"/>
            <a:chOff x="1116000" y="1052640"/>
            <a:chExt cx="6769080" cy="685800"/>
          </a:xfrm>
        </p:grpSpPr>
        <p:sp>
          <p:nvSpPr>
            <p:cNvPr id="1390" name="AutoShape 4"/>
            <p:cNvSpPr/>
            <p:nvPr/>
          </p:nvSpPr>
          <p:spPr>
            <a:xfrm>
              <a:off x="1116000" y="1052640"/>
              <a:ext cx="6769080" cy="68580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nstantia"/>
                </a:rPr>
                <a:t>Trade facilitation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3419640" y="1341360"/>
              <a:ext cx="216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392" name="Rectangle 6"/>
          <p:cNvSpPr/>
          <p:nvPr/>
        </p:nvSpPr>
        <p:spPr>
          <a:xfrm>
            <a:off x="250920" y="1844640"/>
            <a:ext cx="2520720" cy="37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MS PGothic"/>
              </a:rPr>
              <a:t>Research and analys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94" name="Group 8"/>
          <p:cNvGrpSpPr/>
          <p:nvPr/>
        </p:nvGrpSpPr>
        <p:grpSpPr>
          <a:xfrm>
            <a:off x="126360" y="2498040"/>
            <a:ext cx="2818800" cy="3473280"/>
            <a:chOff x="126360" y="2498040"/>
            <a:chExt cx="2818800" cy="3473280"/>
          </a:xfrm>
        </p:grpSpPr>
        <p:pic>
          <p:nvPicPr>
            <p:cNvPr id="1395" name="Picture 8" descr="UNCTAD_DTL_TLB_2011_1_COUV ENG"/>
            <p:cNvPicPr/>
            <p:nvPr/>
          </p:nvPicPr>
          <p:blipFill>
            <a:blip r:embed="rId1"/>
            <a:stretch/>
          </p:blipFill>
          <p:spPr>
            <a:xfrm rot="20830800">
              <a:off x="334440" y="2674440"/>
              <a:ext cx="1824840" cy="2083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96" name="Picture 4" descr=""/>
            <p:cNvPicPr/>
            <p:nvPr/>
          </p:nvPicPr>
          <p:blipFill>
            <a:blip r:embed="rId2"/>
            <a:stretch/>
          </p:blipFill>
          <p:spPr>
            <a:xfrm rot="20814600">
              <a:off x="639720" y="3120840"/>
              <a:ext cx="1750320" cy="208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97" name="Picture 11" descr=""/>
            <p:cNvPicPr/>
            <p:nvPr/>
          </p:nvPicPr>
          <p:blipFill>
            <a:blip r:embed="rId3"/>
            <a:stretch/>
          </p:blipFill>
          <p:spPr>
            <a:xfrm rot="20880000">
              <a:off x="977760" y="3723120"/>
              <a:ext cx="1769400" cy="208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398" name="Group 12"/>
          <p:cNvGrpSpPr/>
          <p:nvPr/>
        </p:nvGrpSpPr>
        <p:grpSpPr>
          <a:xfrm>
            <a:off x="3352680" y="1873080"/>
            <a:ext cx="2520720" cy="3765600"/>
            <a:chOff x="3352680" y="1873080"/>
            <a:chExt cx="2520720" cy="3765600"/>
          </a:xfrm>
        </p:grpSpPr>
        <p:sp>
          <p:nvSpPr>
            <p:cNvPr id="1399" name="Rectangle 13"/>
            <p:cNvSpPr/>
            <p:nvPr/>
          </p:nvSpPr>
          <p:spPr>
            <a:xfrm>
              <a:off x="3352680" y="1873080"/>
              <a:ext cx="2520720" cy="37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3498480" y="187308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sensus building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pic>
          <p:nvPicPr>
            <p:cNvPr id="1401" name="Picture 15" descr=""/>
            <p:cNvPicPr/>
            <p:nvPr/>
          </p:nvPicPr>
          <p:blipFill>
            <a:blip r:embed="rId4"/>
            <a:srcRect l="0" t="13216" r="38381" b="15947"/>
            <a:stretch/>
          </p:blipFill>
          <p:spPr>
            <a:xfrm>
              <a:off x="3425760" y="2685960"/>
              <a:ext cx="2376360" cy="25002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402" name="Picture 8" descr=""/>
            <p:cNvPicPr/>
            <p:nvPr/>
          </p:nvPicPr>
          <p:blipFill>
            <a:blip r:embed="rId5"/>
            <a:srcRect l="15934" t="22024" r="15934" b="22024"/>
            <a:stretch/>
          </p:blipFill>
          <p:spPr>
            <a:xfrm>
              <a:off x="3425760" y="4198680"/>
              <a:ext cx="237636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3" name="Rectangle 17"/>
          <p:cNvSpPr/>
          <p:nvPr/>
        </p:nvSpPr>
        <p:spPr>
          <a:xfrm>
            <a:off x="6229440" y="1844640"/>
            <a:ext cx="2520720" cy="37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4" name="Text Box 18"/>
          <p:cNvSpPr/>
          <p:nvPr/>
        </p:nvSpPr>
        <p:spPr>
          <a:xfrm>
            <a:off x="6302520" y="18381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MS PGothic"/>
              </a:rPr>
              <a:t>Capacity Build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05" name="Picture 19" descr=""/>
          <p:cNvPicPr/>
          <p:nvPr/>
        </p:nvPicPr>
        <p:blipFill>
          <a:blip r:embed="rId6"/>
          <a:srcRect l="0" t="12319" r="0" b="2929"/>
          <a:stretch/>
        </p:blipFill>
        <p:spPr>
          <a:xfrm>
            <a:off x="6229440" y="2637000"/>
            <a:ext cx="252072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6" name="Picture 20" descr="DSC_0561"/>
          <p:cNvPicPr/>
          <p:nvPr/>
        </p:nvPicPr>
        <p:blipFill>
          <a:blip r:embed="rId7"/>
          <a:stretch/>
        </p:blipFill>
        <p:spPr>
          <a:xfrm>
            <a:off x="6302520" y="4149720"/>
            <a:ext cx="2374920" cy="144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07" name="Text Box 21"/>
          <p:cNvSpPr/>
          <p:nvPr/>
        </p:nvSpPr>
        <p:spPr>
          <a:xfrm>
            <a:off x="3203640" y="57913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UNCTAD’s three pillar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Picture 5" descr="https://lh4.googleusercontent.com/-M5HlpIboJcY/UM_1AN-S4CI/AAAAAAAA0lc/MTeYxLYJ4nc/s747/JHG_1008.JPG"/>
          <p:cNvPicPr/>
          <p:nvPr/>
        </p:nvPicPr>
        <p:blipFill>
          <a:blip r:embed="rId2"/>
          <a:stretch/>
        </p:blipFill>
        <p:spPr>
          <a:xfrm>
            <a:off x="4419720" y="3701880"/>
            <a:ext cx="4724280" cy="3156120"/>
          </a:xfrm>
          <a:prstGeom prst="rect">
            <a:avLst/>
          </a:prstGeom>
          <a:ln w="0">
            <a:noFill/>
          </a:ln>
        </p:spPr>
      </p:pic>
      <p:pic>
        <p:nvPicPr>
          <p:cNvPr id="1409" name="Rectangle 2" descr=""/>
          <p:cNvPicPr/>
          <p:nvPr/>
        </p:nvPicPr>
        <p:blipFill>
          <a:blip r:embed="rId3"/>
          <a:stretch/>
        </p:blipFill>
        <p:spPr>
          <a:xfrm>
            <a:off x="536400" y="914400"/>
            <a:ext cx="7851960" cy="1219320"/>
          </a:xfrm>
          <a:prstGeom prst="rect">
            <a:avLst/>
          </a:prstGeom>
          <a:ln w="0">
            <a:noFill/>
          </a:ln>
        </p:spPr>
      </p:pic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304560" y="21337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he national environm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international        trade transactions;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lo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ordin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Government and private sector concerns;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11" name="Rectangle 3"/>
          <p:cNvSpPr/>
          <p:nvPr/>
        </p:nvSpPr>
        <p:spPr>
          <a:xfrm>
            <a:off x="304920" y="3809880"/>
            <a:ext cx="4419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MS PGothic"/>
              </a:rPr>
              <a:t>Through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MS PGothic"/>
              </a:rPr>
              <a:t>alignmen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MS PGothic"/>
              </a:rPr>
              <a:t> with    international conventions, regional arrangements, and national reform initiatives in line with  recognized best practic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MS PGothic"/>
              </a:rPr>
              <a:t>With particular reference t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MS PGothic"/>
              </a:rPr>
              <a:t>WTO future TF Agree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Content Placeholder 5"/>
          <p:cNvSpPr/>
          <p:nvPr/>
        </p:nvSpPr>
        <p:spPr>
          <a:xfrm>
            <a:off x="611280" y="2209680"/>
            <a:ext cx="8353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elveticaNeueLT Std Med"/>
                <a:ea typeface="SimSun"/>
              </a:rPr>
              <a:t>TWO multi-country projects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HelveticaNeueLT Std Med"/>
                <a:ea typeface="SimSun"/>
              </a:rPr>
              <a:t>Developing national implementation plans for future WTO TF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HelveticaNeueLT Std Med"/>
                <a:ea typeface="SimSun"/>
              </a:rPr>
              <a:t>Aligning national, regional and multilateral TF initiatives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Financed by the European Union, individual country donors and  by UND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Duratio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2 years (2012–2013) for EU &amp; UNDA Projec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</a:rPr>
              <a:t>In cooperation with </a:t>
            </a: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  <a:ea typeface="SimSun"/>
              </a:rPr>
              <a:t>other Annex D organizations (IMF, OECD, WB and WCO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Med"/>
                <a:ea typeface="SimSun"/>
              </a:rPr>
              <a:t>Over twenty five countries covere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13" name="Rectangle 2" descr=""/>
          <p:cNvPicPr/>
          <p:nvPr/>
        </p:nvPicPr>
        <p:blipFill>
          <a:blip r:embed="rId2"/>
          <a:stretch/>
        </p:blipFill>
        <p:spPr>
          <a:xfrm>
            <a:off x="536400" y="762120"/>
            <a:ext cx="7851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Content Placeholder 5"/>
          <p:cNvSpPr/>
          <p:nvPr/>
        </p:nvSpPr>
        <p:spPr>
          <a:xfrm>
            <a:off x="468360" y="1752480"/>
            <a:ext cx="82184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6094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National implementation plans (confidential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urrent status of implementation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ction Plan and lead agenc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Resource and time requiremen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riority and indicative categoriz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he UNCTAD Consolidated Report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Understanding the measur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ummary of findings without attribu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eb9415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mplementation template and sequencing along with an implementation check li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5" name="TextBox 1"/>
          <p:cNvSpPr/>
          <p:nvPr/>
        </p:nvSpPr>
        <p:spPr>
          <a:xfrm>
            <a:off x="1447920" y="838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SimSun"/>
              </a:rPr>
              <a:t>The project’s output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Content Placeholder 5"/>
          <p:cNvSpPr/>
          <p:nvPr/>
        </p:nvSpPr>
        <p:spPr>
          <a:xfrm>
            <a:off x="380880" y="1981080"/>
            <a:ext cx="8142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Identify areas of non-compliance based upon current status  and what needs to be done to achieve complianc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Updated needs assess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Action plans, national priority and time require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Areas where additional support/funding may be necessar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Increased knowledge of TF measures negotiated in WT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Reaffirmed/strengthened role of the TF committe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Basis to develop full fledged project proposal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7" name="Title 4"/>
          <p:cNvSpPr/>
          <p:nvPr/>
        </p:nvSpPr>
        <p:spPr>
          <a:xfrm>
            <a:off x="0" y="189000"/>
            <a:ext cx="89647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1360" indent="-71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8" name="TextBox 1"/>
          <p:cNvSpPr/>
          <p:nvPr/>
        </p:nvSpPr>
        <p:spPr>
          <a:xfrm>
            <a:off x="1295280" y="8380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SimSun"/>
              </a:rPr>
              <a:t>Support for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SimSun"/>
              </a:rPr>
              <a:t>Partner countrie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SimSun"/>
              </a:rPr>
              <a:t> in WTO TF Negoti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1258920" y="3139920"/>
            <a:ext cx="374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HelveticaNeueLT Std Med"/>
              </a:rPr>
              <a:t>Angola</a:t>
            </a:r>
            <a:endParaRPr b="0" lang="en-US" sz="20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HelveticaNeueLT Std Med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HelveticaNeueLT Std Med"/>
              </a:rPr>
              <a:t>Benin</a:t>
            </a:r>
            <a:endParaRPr b="0" lang="en-US" sz="20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HelveticaNeueLT Std Med"/>
              </a:rPr>
              <a:t>Burkina Faso</a:t>
            </a:r>
            <a:endParaRPr b="0" lang="en-US" sz="20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HelveticaNeueLT Std Med"/>
              </a:rPr>
              <a:t>Burundi</a:t>
            </a:r>
            <a:endParaRPr b="0" lang="en-US" sz="20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HelveticaNeueLT Std Med"/>
              </a:rPr>
              <a:t>Dominican Republic</a:t>
            </a:r>
            <a:endParaRPr b="0" lang="en-US" sz="20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HelveticaNeueLT Std Med"/>
              </a:rPr>
              <a:t>Gabon</a:t>
            </a:r>
            <a:endParaRPr b="0" lang="en-US" sz="20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HelveticaNeueLT Std Med"/>
              </a:rPr>
              <a:t>Guatemala</a:t>
            </a:r>
            <a:endParaRPr b="0" lang="en-US" sz="20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20" name="Content Placeholder 5"/>
          <p:cNvSpPr/>
          <p:nvPr/>
        </p:nvSpPr>
        <p:spPr>
          <a:xfrm>
            <a:off x="4140360" y="3124080"/>
            <a:ext cx="4089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79fc9"/>
                </a:solidFill>
                <a:latin typeface="HelveticaNeueLT Std Med"/>
              </a:rPr>
              <a:t>Jorda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HelveticaNeueLT Std Med"/>
              </a:rPr>
              <a:t>Nepa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Med"/>
              </a:rPr>
              <a:t>Organization of Eastern Caribbean States (OECS) (6 WTO members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HelveticaNeueLT Std Med"/>
              </a:rPr>
              <a:t>Paragua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HelveticaNeueLT Std Med"/>
              </a:rPr>
              <a:t>Surinam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79fc9"/>
                </a:solidFill>
                <a:latin typeface="HelveticaNeueLT Std Med"/>
              </a:rPr>
              <a:t>Suda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HelveticaNeueLT Std Med"/>
              </a:rPr>
              <a:t>Nicaragu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1" name="Text Box 4"/>
          <p:cNvSpPr/>
          <p:nvPr/>
        </p:nvSpPr>
        <p:spPr>
          <a:xfrm>
            <a:off x="73512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2" name="Text Box 5"/>
          <p:cNvSpPr/>
          <p:nvPr/>
        </p:nvSpPr>
        <p:spPr>
          <a:xfrm>
            <a:off x="826920" y="180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MS PGothic"/>
              </a:rPr>
              <a:t>A selection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the least developed countries, middle income developing countries, landlocked countries and small island economi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3" name="Title 4"/>
          <p:cNvSpPr/>
          <p:nvPr/>
        </p:nvSpPr>
        <p:spPr>
          <a:xfrm>
            <a:off x="539640" y="636480"/>
            <a:ext cx="8425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1360" indent="-71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4" name="TextBox 1"/>
          <p:cNvSpPr/>
          <p:nvPr/>
        </p:nvSpPr>
        <p:spPr>
          <a:xfrm>
            <a:off x="1447920" y="86184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333399"/>
                </a:solidFill>
                <a:latin typeface="Arial"/>
                <a:ea typeface="SimSun"/>
              </a:rPr>
              <a:t>Geographical coverag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5" name="TextBox 1"/>
          <p:cNvSpPr/>
          <p:nvPr/>
        </p:nvSpPr>
        <p:spPr>
          <a:xfrm>
            <a:off x="3048120" y="6248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Constantia"/>
              </a:rPr>
              <a:t>and </a:t>
            </a:r>
            <a:r>
              <a:rPr b="0" lang="fr-CH" sz="2400" spc="-1" strike="noStrike">
                <a:solidFill>
                  <a:srgbClr val="079fc9"/>
                </a:solidFill>
                <a:latin typeface="Constantia"/>
              </a:rPr>
              <a:t>Bahra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09120" y="23619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Issues and Initiatives 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UNCTAD projects on i</a:t>
            </a: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plementing TF measures in developing countrie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ethodology and national implementation Plan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Key Findings and  Lessons Learn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Way Forward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684360" y="1295280"/>
            <a:ext cx="7392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91cd"/>
                </a:solidFill>
                <a:latin typeface="Eurostile LT Std Bold"/>
              </a:rPr>
              <a:t>Transport and Trade Facilitation in ESCWA Region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28" name="Rectangle 4"/>
          <p:cNvSpPr/>
          <p:nvPr/>
        </p:nvSpPr>
        <p:spPr>
          <a:xfrm>
            <a:off x="533520" y="4114800"/>
            <a:ext cx="7467480" cy="762120"/>
          </a:xfrm>
          <a:prstGeom prst="rect">
            <a:avLst/>
          </a:prstGeom>
          <a:solidFill>
            <a:srgbClr val="ffffff">
              <a:alpha val="4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1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1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Picture 10" descr="https://lh3.googleusercontent.com/-l88QrNR0irg/T9y_OVf_qkI/AAAAAAAAsEQ/OIj9oPMlmeI/s901/JHG_5872.JPG"/>
          <p:cNvPicPr/>
          <p:nvPr/>
        </p:nvPicPr>
        <p:blipFill>
          <a:blip r:embed="rId1"/>
          <a:stretch/>
        </p:blipFill>
        <p:spPr>
          <a:xfrm>
            <a:off x="2514600" y="3540240"/>
            <a:ext cx="6629400" cy="3317760"/>
          </a:xfrm>
          <a:prstGeom prst="rect">
            <a:avLst/>
          </a:prstGeom>
          <a:ln w="0">
            <a:noFill/>
          </a:ln>
        </p:spPr>
      </p:pic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3. Methodology</a:t>
            </a:r>
            <a:endParaRPr b="1" lang="en-US" sz="36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/adjustment of Questionnaire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National Consultan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 Finding Mission in partnership with national authorities and national collaborative forum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of national stakeholder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National Implementation plan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Conference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mplementation Plan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Content Placeholder 5"/>
          <p:cNvSpPr/>
          <p:nvPr/>
        </p:nvSpPr>
        <p:spPr>
          <a:xfrm>
            <a:off x="611280" y="2057400"/>
            <a:ext cx="81518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Arial"/>
              </a:rPr>
              <a:t>Step I: 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Interviews with the TF stakeholders (Members of the TF Committee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o discuss the TF measures of particular importance to the interviewee  using a standardized questionnair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he response solicited is </a:t>
            </a:r>
            <a:r>
              <a:rPr b="0" lang="en-US" sz="2000" spc="-1" strike="noStrike">
                <a:solidFill>
                  <a:srgbClr val="079fc9"/>
                </a:solidFill>
                <a:latin typeface="Arial"/>
                <a:ea typeface="SimSun"/>
              </a:rPr>
              <a:t>not the official position or commit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of the government but an informed opinion based on the knowledge and experience of the interviewee(s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Arial"/>
              </a:rPr>
              <a:t>Step 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fting of the national implementation plan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 (national consultant, UNCTAD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d on the result of the interview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ing on the needs assessment and current state of implementa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Assigning proposed categorization and national prioriti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3" name="Title 4"/>
          <p:cNvSpPr/>
          <p:nvPr/>
        </p:nvSpPr>
        <p:spPr>
          <a:xfrm>
            <a:off x="324000" y="333360"/>
            <a:ext cx="88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4" name="Text Box 5"/>
          <p:cNvSpPr/>
          <p:nvPr/>
        </p:nvSpPr>
        <p:spPr>
          <a:xfrm>
            <a:off x="152280" y="10764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99"/>
                </a:solidFill>
                <a:latin typeface="Arial"/>
                <a:ea typeface="SimSun"/>
              </a:rPr>
              <a:t>Preparation of the national implementation pla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Content Placeholder 5"/>
          <p:cNvSpPr/>
          <p:nvPr/>
        </p:nvSpPr>
        <p:spPr>
          <a:xfrm>
            <a:off x="611280" y="1828800"/>
            <a:ext cx="8064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Step III: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National validation workshop to review and validate the draft plan, i.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status of implementation of each  trade facilitation measures in the draft TFA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 priority and category for each measu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s required for the implementation of non or partially implemented measur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 for technical assist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ope for the regional action, if releva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6" name="Title 4"/>
          <p:cNvSpPr/>
          <p:nvPr/>
        </p:nvSpPr>
        <p:spPr>
          <a:xfrm>
            <a:off x="380880" y="762120"/>
            <a:ext cx="861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4f91cd"/>
                </a:solidFill>
                <a:latin typeface="Eurostile LT Std Bold"/>
                <a:ea typeface="SimSun"/>
              </a:rPr>
              <a:t> </a:t>
            </a: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Preparation of the national implementation pla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609120" y="23619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Issues and Initiatives 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UNCTAD Projects on i</a:t>
            </a:r>
            <a:r>
              <a:rPr b="1" lang="en-US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plementing TF measures in developing countrie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ethodology and national implementation Plan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Key Findings and Lessons Learn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Way Forward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684360" y="1294920"/>
            <a:ext cx="7240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91cd"/>
                </a:solidFill>
                <a:latin typeface="Eurostile LT Std Bold"/>
              </a:rPr>
              <a:t>Transport and Trade Facilitation in ESCWA region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50" name="Rectangle 4"/>
          <p:cNvSpPr/>
          <p:nvPr/>
        </p:nvSpPr>
        <p:spPr>
          <a:xfrm>
            <a:off x="1066680" y="2362320"/>
            <a:ext cx="7239240" cy="799920"/>
          </a:xfrm>
          <a:prstGeom prst="rect">
            <a:avLst/>
          </a:prstGeom>
          <a:solidFill>
            <a:srgbClr val="ffffff">
              <a:alpha val="4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1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609120" y="23619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Issues and Initiatives 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UNCTAD project on i</a:t>
            </a: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plementing TF measures in developing countrie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ethodology and national implementation Plan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Key Findings and Lessons Learn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Way Forward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/>
          </p:nvPr>
        </p:nvSpPr>
        <p:spPr>
          <a:xfrm>
            <a:off x="684000" y="1295280"/>
            <a:ext cx="7545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91cd"/>
                </a:solidFill>
                <a:latin typeface="Eurostile LT Std Bold"/>
              </a:rPr>
              <a:t>Transport and Trade Facilitation in ESCWA Region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39" name="Rectangle 4"/>
          <p:cNvSpPr/>
          <p:nvPr/>
        </p:nvSpPr>
        <p:spPr>
          <a:xfrm>
            <a:off x="609480" y="4724280"/>
            <a:ext cx="7391520" cy="762120"/>
          </a:xfrm>
          <a:prstGeom prst="rect">
            <a:avLst/>
          </a:prstGeom>
          <a:solidFill>
            <a:srgbClr val="ffffff">
              <a:alpha val="4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4. Key Findings -A</a:t>
            </a:r>
            <a:endParaRPr b="1" lang="en-US" sz="44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F is not an ‘alien’ concept (principles well understood)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untry starting from scratch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progress since ‘Needs Assessment’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easures are implemented, but not ‘institutionalized’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may  require ‘fine tuning’ or ‘add-ons’ to achieve compliance with the final text 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s is ‘ahead’ of other border agencies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dentify Lead Agency to drive change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4. Key Findings -B</a:t>
            </a:r>
            <a:endParaRPr b="1" lang="en-US" sz="44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088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ion can be a key ingredient in providing the enabling environment necessary to support other measures 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T.A. necessary will be in form of Capacity Building to assist in development and implementation of reform strategies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aim beyond just achieving compliance with TFA to maximize returns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s expressed about private sectors ability to engage in some measures / drive agenda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133720" y="83808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Lessons Learnt -A</a:t>
            </a:r>
            <a:endParaRPr b="1" lang="en-US" sz="40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762120" y="1904760"/>
            <a:ext cx="80769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not to underestimat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litical Sup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cessary, even at advanced stage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im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st achieving compliance with TFA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identify  and designat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ad Ag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in achieving ownership of Reform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ational Consul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the quality of study especially in identification of suitable respondent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0" lang="fr-CH" sz="2400" spc="-1" strike="noStrike">
                <a:solidFill>
                  <a:srgbClr val="ff9900"/>
                </a:solidFill>
                <a:latin typeface="Arial"/>
              </a:rPr>
              <a:t>consul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with private sector frequently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‘</a:t>
            </a:r>
            <a:r>
              <a:rPr b="0" lang="fr-CH" sz="2400" spc="-1" strike="noStrike">
                <a:solidFill>
                  <a:srgbClr val="ff9900"/>
                </a:solidFill>
                <a:latin typeface="Arial"/>
              </a:rPr>
              <a:t>Needs Assessmen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’ was a useful starting point to further develop the plan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Lessons Learnt -B</a:t>
            </a:r>
            <a:endParaRPr b="1" lang="en-US" sz="40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685440" y="1752120"/>
            <a:ext cx="807732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k research prior to conducting study helped in making it more effective /focused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mplementation is already underway, need to monitor with regard to final tex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ing’ remains a complex issue but amounts are not enormou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ll functioning national trade facilitation Committee can steer the implementation process in a better way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at implementation plans with actions, budgets and calendars 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help guide respondents (keep focus) without appearing dismissive (not a debate on TFA merits)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lementation plan remains a ‘Living’ Documen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09120" y="23619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Issues and Initiatives 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UNCTAD project on i</a:t>
            </a: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plementing TF measures in developing countrie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ethodology and national implementation Plan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Key Findings Lessons Learn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Way Forward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/>
          </p:nvPr>
        </p:nvSpPr>
        <p:spPr>
          <a:xfrm>
            <a:off x="684360" y="1294920"/>
            <a:ext cx="73929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91cd"/>
                </a:solidFill>
                <a:latin typeface="Eurostile LT Std Bold"/>
              </a:rPr>
              <a:t>Transport and Trade Facilitation in ESCWA Region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450" name="Rectangle 4"/>
          <p:cNvSpPr/>
          <p:nvPr/>
        </p:nvSpPr>
        <p:spPr>
          <a:xfrm>
            <a:off x="609480" y="5334120"/>
            <a:ext cx="7315200" cy="914400"/>
          </a:xfrm>
          <a:prstGeom prst="rect">
            <a:avLst/>
          </a:prstGeom>
          <a:solidFill>
            <a:srgbClr val="ffffff">
              <a:alpha val="4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1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1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70c0"/>
                </a:solidFill>
                <a:latin typeface="Calibri"/>
              </a:rPr>
              <a:t>Policy recommendations for partner countries</a:t>
            </a:r>
            <a:endParaRPr b="1" lang="en-US" sz="36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7617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onstantia"/>
              </a:rPr>
              <a:t>Strengthen the National Trade  Facilitation collaborative forum(s)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 beyond TFA to broader National TF agenda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velop or Update  National TF Strategy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velop Action Plan for updated TF Strategy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onstantia"/>
              </a:rPr>
              <a:t>Design implementation Plans in consultation with the lead implementation Agency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09480" y="791640"/>
            <a:ext cx="7467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70c0"/>
                </a:solidFill>
                <a:latin typeface="Calibri"/>
              </a:rPr>
              <a:t>Using experience in other countries</a:t>
            </a:r>
            <a:endParaRPr b="1" lang="en-US" sz="36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Methodology ( questionnaire, interviews &amp; validation workshops) evolved and well tested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Partner countries’ response regarding process and utility of output further refined it.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Procedural steps (hiring of national consultants, travel plans, selection of participants) well practiced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Support from Annex D partners forthcoming &amp; beneficial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Expertise (available with UNCTAD) combined with  funding can help assisting more developing countries</a:t>
            </a: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 txBox="1"/>
          <p:nvPr/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NeueLT Std Me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c00000"/>
                </a:solidFill>
                <a:latin typeface="Arial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HelveticaNeueLT Std Me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0" spc="-1" strike="noStrike">
                <a:solidFill>
                  <a:srgbClr val="0070c0"/>
                </a:solidFill>
                <a:latin typeface="Arial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79fc9"/>
                </a:solidFill>
                <a:latin typeface="Eurostile LT Std Bold"/>
              </a:rPr>
              <a:t>Key Issues</a:t>
            </a:r>
            <a:endParaRPr b="1" lang="en-US" sz="36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609120" y="1676520"/>
            <a:ext cx="76201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1e0b"/>
                </a:solidFill>
                <a:latin typeface="HelveticaNeueLT Std Med"/>
              </a:rPr>
              <a:t>Huge documentary requirements (approx 40) and large number (27-309 Parties involved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1e0b"/>
                </a:solidFill>
                <a:latin typeface="HelveticaNeueLT Std Med"/>
              </a:rPr>
              <a:t>Lack of cooperation - between custom &amp; other border agencies and traders coupled with administrative inefficiencies 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1e0b"/>
                </a:solidFill>
                <a:latin typeface="HelveticaNeueLT Std Med"/>
              </a:rPr>
              <a:t>Scare use of  automated processes and lack of human and financial resources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1e0b"/>
                </a:solidFill>
                <a:latin typeface="HelveticaNeueLT Std Med"/>
              </a:rPr>
              <a:t>Deficiencies in the area of  infrastructure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Rectangle 2" descr=""/>
          <p:cNvPicPr/>
          <p:nvPr/>
        </p:nvPicPr>
        <p:blipFill>
          <a:blip r:embed="rId2"/>
          <a:stretch/>
        </p:blipFill>
        <p:spPr>
          <a:xfrm>
            <a:off x="457200" y="67644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bb42"/>
                </a:solidFill>
                <a:latin typeface="Arial"/>
              </a:rPr>
              <a:t>Three separate but complimentary processes underway to improve levels of Trade Facilitation</a:t>
            </a:r>
            <a:endParaRPr b="0" lang="en-US" sz="3200" spc="-1" strike="noStrike">
              <a:solidFill>
                <a:srgbClr val="ffffff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LT Std Med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55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HelveticaNeueLT Std Med"/>
                <a:ea typeface="MS PGothic"/>
              </a:rPr>
              <a:t>NATIONAL</a:t>
            </a:r>
            <a:r>
              <a:rPr b="0" lang="en-GB" sz="2200" spc="-1" strike="noStrike">
                <a:solidFill>
                  <a:srgbClr val="000000"/>
                </a:solidFill>
                <a:latin typeface="HelveticaNeueLT Std Med"/>
                <a:ea typeface="MS PGothic"/>
              </a:rPr>
              <a:t> – Countries have their own TF agenda (Reforms initiative for customs and other border regulatory agencies)</a:t>
            </a:r>
            <a:endParaRPr b="0" lang="en-US" sz="2200" spc="-1" strike="noStrike">
              <a:solidFill>
                <a:srgbClr val="ffffff"/>
              </a:solidFill>
              <a:latin typeface="HelveticaNeueLT Std Med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55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HelveticaNeueLT Std Med"/>
                <a:ea typeface="MS PGothic"/>
              </a:rPr>
              <a:t>REGIONAL – </a:t>
            </a:r>
            <a:r>
              <a:rPr b="0" lang="fr-CH" sz="2200" spc="-1" strike="noStrike">
                <a:solidFill>
                  <a:srgbClr val="000000"/>
                </a:solidFill>
                <a:latin typeface="HelveticaNeueLT Std Med"/>
                <a:ea typeface="MS PGothic"/>
              </a:rPr>
              <a:t>As required under regional trade agreements or Customs Union e.g GCC or GAFTA</a:t>
            </a:r>
            <a:endParaRPr b="0" lang="en-US" sz="2200" spc="-1" strike="noStrike">
              <a:solidFill>
                <a:srgbClr val="ffffff"/>
              </a:solidFill>
              <a:latin typeface="HelveticaNeueLT Std Med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55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HelveticaNeueLT Std Med"/>
                <a:ea typeface="MS PGothic"/>
              </a:rPr>
              <a:t>MULTILATERAL</a:t>
            </a:r>
            <a:r>
              <a:rPr b="0" lang="fr-CH" sz="2200" spc="-1" strike="noStrike">
                <a:solidFill>
                  <a:srgbClr val="000000"/>
                </a:solidFill>
                <a:latin typeface="HelveticaNeueLT Std Med"/>
                <a:ea typeface="MS PGothic"/>
              </a:rPr>
              <a:t> – WTO Process, aims to achieve binding TF commitments agreed internationally</a:t>
            </a:r>
            <a:endParaRPr b="0" lang="en-US" sz="2200" spc="-1" strike="noStrike">
              <a:solidFill>
                <a:srgbClr val="ffffff"/>
              </a:solidFill>
              <a:latin typeface="HelveticaNeueLT Std Me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LT Std Med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LT Std Med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79fc9"/>
                </a:solidFill>
                <a:latin typeface="Eurostile LT Std Bold"/>
              </a:rPr>
              <a:t>Challenge</a:t>
            </a:r>
            <a:endParaRPr b="1" lang="en-US" sz="36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685440" y="1523880"/>
            <a:ext cx="7543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aNeueLT Std Med"/>
              </a:rPr>
              <a:t>To achieve trade Facilitation reforms without compromising the compliance/ control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aNeueLT Std Med"/>
              </a:rPr>
              <a:t>Prepare national authorities to take on the TF obligations arising out of international Agreements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db87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aNeueLT Std Med"/>
              </a:rPr>
              <a:t>Aligning of national TF initiatives with  commitments at Regional and Multilateral level to bring synergies and efficiency. 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Rectangle 2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7851960" cy="914400"/>
          </a:xfrm>
          <a:prstGeom prst="rect">
            <a:avLst/>
          </a:prstGeom>
          <a:ln w="0">
            <a:noFill/>
          </a:ln>
        </p:spPr>
      </p:pic>
      <p:sp>
        <p:nvSpPr>
          <p:cNvPr id="1358" name="Text Box 3"/>
          <p:cNvSpPr/>
          <p:nvPr/>
        </p:nvSpPr>
        <p:spPr>
          <a:xfrm>
            <a:off x="1143000" y="2666880"/>
            <a:ext cx="2057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9" name="Text Box 4"/>
          <p:cNvSpPr/>
          <p:nvPr/>
        </p:nvSpPr>
        <p:spPr>
          <a:xfrm>
            <a:off x="5029200" y="2666880"/>
            <a:ext cx="2286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0" name="Text Box 5"/>
          <p:cNvSpPr/>
          <p:nvPr/>
        </p:nvSpPr>
        <p:spPr>
          <a:xfrm>
            <a:off x="2743200" y="53341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1" name="Text Box 6"/>
          <p:cNvSpPr/>
          <p:nvPr/>
        </p:nvSpPr>
        <p:spPr>
          <a:xfrm>
            <a:off x="2362320" y="5705640"/>
            <a:ext cx="3504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Customs and other border agenci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2" name="Oval 7"/>
          <p:cNvSpPr/>
          <p:nvPr/>
        </p:nvSpPr>
        <p:spPr>
          <a:xfrm>
            <a:off x="2590920" y="3429000"/>
            <a:ext cx="31240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Trade Facilit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3" name="AutoShape 8"/>
          <p:cNvSpPr/>
          <p:nvPr/>
        </p:nvSpPr>
        <p:spPr>
          <a:xfrm rot="10800000">
            <a:off x="5867280" y="3352320"/>
            <a:ext cx="990720" cy="685800"/>
          </a:xfrm>
          <a:custGeom>
            <a:avLst/>
            <a:gdLst>
              <a:gd name="textAreaLeft" fmla="*/ 569880 w 990720"/>
              <a:gd name="textAreaRight" fmla="*/ 836280 w 990720"/>
              <a:gd name="textAreaTop" fmla="*/ 92160 h 685800"/>
              <a:gd name="textAreaBottom" fmla="*/ 2934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4" name="AutoShape 9"/>
          <p:cNvSpPr/>
          <p:nvPr/>
        </p:nvSpPr>
        <p:spPr>
          <a:xfrm flipH="1" rot="10800000">
            <a:off x="1523880" y="3352320"/>
            <a:ext cx="990720" cy="685800"/>
          </a:xfrm>
          <a:custGeom>
            <a:avLst/>
            <a:gdLst>
              <a:gd name="textAreaLeft" fmla="*/ 569880 w 990720"/>
              <a:gd name="textAreaRight" fmla="*/ 836280 w 990720"/>
              <a:gd name="textAreaTop" fmla="*/ 92160 h 685800"/>
              <a:gd name="textAreaBottom" fmla="*/ 2934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5" name="AutoShape 10"/>
          <p:cNvSpPr/>
          <p:nvPr/>
        </p:nvSpPr>
        <p:spPr>
          <a:xfrm>
            <a:off x="3886200" y="4876920"/>
            <a:ext cx="533520" cy="685800"/>
          </a:xfrm>
          <a:prstGeom prst="upArrow">
            <a:avLst>
              <a:gd name="adj1" fmla="val 50000"/>
              <a:gd name="adj2" fmla="val 32136"/>
            </a:avLst>
          </a:prstGeom>
          <a:solidFill>
            <a:srgbClr val="079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Rectangle 2" descr=""/>
          <p:cNvPicPr/>
          <p:nvPr/>
        </p:nvPicPr>
        <p:blipFill>
          <a:blip r:embed="rId2"/>
          <a:stretch/>
        </p:blipFill>
        <p:spPr>
          <a:xfrm>
            <a:off x="914400" y="981000"/>
            <a:ext cx="8229600" cy="835200"/>
          </a:xfrm>
          <a:prstGeom prst="rect">
            <a:avLst/>
          </a:prstGeom>
          <a:ln w="0">
            <a:noFill/>
          </a:ln>
        </p:spPr>
      </p:pic>
      <p:sp>
        <p:nvSpPr>
          <p:cNvPr id="1367" name="Text Box 5"/>
          <p:cNvSpPr/>
          <p:nvPr/>
        </p:nvSpPr>
        <p:spPr>
          <a:xfrm>
            <a:off x="2743200" y="53341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304920" y="6019920"/>
            <a:ext cx="7848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rial Narrow"/>
              </a:rPr>
              <a:t>Reduce transaction cos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9" name="Oval 7"/>
          <p:cNvSpPr/>
          <p:nvPr/>
        </p:nvSpPr>
        <p:spPr>
          <a:xfrm>
            <a:off x="1295280" y="3352680"/>
            <a:ext cx="2210040" cy="1143000"/>
          </a:xfrm>
          <a:prstGeom prst="ellipse">
            <a:avLst/>
          </a:prstGeom>
          <a:solidFill>
            <a:srgbClr val="1b88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Door-to-door Logistic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0" name="Oval 11"/>
          <p:cNvSpPr/>
          <p:nvPr/>
        </p:nvSpPr>
        <p:spPr>
          <a:xfrm>
            <a:off x="1447920" y="1828800"/>
            <a:ext cx="5410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Public Secto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Ministry of Communications/Commerce/Finance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1" name="Oval 13"/>
          <p:cNvSpPr/>
          <p:nvPr/>
        </p:nvSpPr>
        <p:spPr>
          <a:xfrm>
            <a:off x="4876920" y="3124080"/>
            <a:ext cx="2209680" cy="1676520"/>
          </a:xfrm>
          <a:prstGeom prst="ellipse">
            <a:avLst/>
          </a:prstGeom>
          <a:solidFill>
            <a:srgbClr val="1b88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Customs reform &amp; modernizatio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2" name="Oval 14"/>
          <p:cNvSpPr/>
          <p:nvPr/>
        </p:nvSpPr>
        <p:spPr>
          <a:xfrm>
            <a:off x="3048120" y="3200400"/>
            <a:ext cx="2209680" cy="1600200"/>
          </a:xfrm>
          <a:prstGeom prst="ellipse">
            <a:avLst/>
          </a:prstGeom>
          <a:solidFill>
            <a:srgbClr val="1b88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TRADE FACILITATION MEASURE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3" name="Oval 17"/>
          <p:cNvSpPr/>
          <p:nvPr/>
        </p:nvSpPr>
        <p:spPr>
          <a:xfrm>
            <a:off x="762120" y="4876920"/>
            <a:ext cx="71625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0800" anchor="ctr">
            <a:no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Private Secto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Importers &amp; exporters, transport operators, banks, insurance co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4" name="Line 18"/>
          <p:cNvSpPr/>
          <p:nvPr/>
        </p:nvSpPr>
        <p:spPr>
          <a:xfrm>
            <a:off x="2057400" y="2590920"/>
            <a:ext cx="3049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5" name="Line 19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6" name="Line 20"/>
          <p:cNvSpPr/>
          <p:nvPr/>
        </p:nvSpPr>
        <p:spPr>
          <a:xfrm flipH="1">
            <a:off x="6095880" y="2590920"/>
            <a:ext cx="1526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9fc9"/>
                </a:solidFill>
                <a:latin typeface="Eurostile LT Std Bold"/>
              </a:rPr>
              <a:t>Different Avenues of Trade Facilitation</a:t>
            </a:r>
            <a:endParaRPr b="1" lang="en-US" sz="2800" spc="-1" strike="noStrike">
              <a:solidFill>
                <a:srgbClr val="4f91cd"/>
              </a:solidFill>
              <a:latin typeface="Eurostile LT Std Bold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021360" y="3357360"/>
            <a:ext cx="31226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 Med"/>
              </a:rPr>
              <a:t>Simplified and harmonized customs and trade procedures, documents and controls </a:t>
            </a:r>
            <a:endParaRPr b="0" lang="en-US" sz="1800" spc="-1" strike="noStrike">
              <a:solidFill>
                <a:srgbClr val="000000"/>
              </a:solidFill>
              <a:latin typeface="HelveticaNeueLT Std Med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79" name="AutoShape 4"/>
          <p:cNvSpPr/>
          <p:nvPr/>
        </p:nvSpPr>
        <p:spPr>
          <a:xfrm>
            <a:off x="457200" y="1600200"/>
            <a:ext cx="2971800" cy="16556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Behind-the-gate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measur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0" name="AutoShape 5"/>
          <p:cNvSpPr/>
          <p:nvPr/>
        </p:nvSpPr>
        <p:spPr>
          <a:xfrm>
            <a:off x="2819520" y="1600200"/>
            <a:ext cx="3352680" cy="165564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Behind-the-bord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measur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1" name="Rectangle 6"/>
          <p:cNvSpPr/>
          <p:nvPr/>
        </p:nvSpPr>
        <p:spPr>
          <a:xfrm>
            <a:off x="2819520" y="3429000"/>
            <a:ext cx="32004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ransport corridor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upply chain managemen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usiness facilita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2" name="Rectangle 7"/>
          <p:cNvSpPr/>
          <p:nvPr/>
        </p:nvSpPr>
        <p:spPr>
          <a:xfrm>
            <a:off x="304920" y="52578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79fc9"/>
                </a:solidFill>
                <a:latin typeface="Constantia"/>
              </a:rPr>
              <a:t>It can produce best results where cooperation between different ministries/agencies of the government work hand in hand with private secto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3" name="AutoShape 5"/>
          <p:cNvSpPr/>
          <p:nvPr/>
        </p:nvSpPr>
        <p:spPr>
          <a:xfrm>
            <a:off x="5715000" y="1600200"/>
            <a:ext cx="3048120" cy="16556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At-the-bord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measur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4" name="Rectangle 3"/>
          <p:cNvSpPr/>
          <p:nvPr/>
        </p:nvSpPr>
        <p:spPr>
          <a:xfrm>
            <a:off x="297000" y="3463920"/>
            <a:ext cx="2835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nventory contro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taff training &amp; developmen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n-house processes and procedur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 txBox="1"/>
          <p:nvPr/>
        </p:nvSpPr>
        <p:spPr>
          <a:xfrm>
            <a:off x="609120" y="23619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Issues and Initiatives 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UNCTAD projects on i</a:t>
            </a:r>
            <a:r>
              <a:rPr b="0" lang="en-US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plementing TF measures in developing countries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Methodology and national implementation Plan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Key Findings  and Lessons Learnt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HelveticaNeueLT Std Med"/>
                <a:ea typeface="SimSun"/>
              </a:rPr>
              <a:t>Way Forward</a:t>
            </a: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cdb87e"/>
              </a:buClr>
              <a:buFont typeface="HelveticaNeueLT Std M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/>
          </p:nvPr>
        </p:nvSpPr>
        <p:spPr>
          <a:xfrm>
            <a:off x="684360" y="1294920"/>
            <a:ext cx="7240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91cd"/>
                </a:solidFill>
                <a:latin typeface="Eurostile LT Std Bold"/>
              </a:rPr>
              <a:t>Transport and Trade Facilitation in ESCWA Region</a:t>
            </a:r>
            <a:endParaRPr b="0" lang="en-US" sz="2800" spc="-1" strike="noStrike">
              <a:solidFill>
                <a:srgbClr val="000000"/>
              </a:solidFill>
              <a:latin typeface="HelveticaNeueLT Std Med"/>
            </a:endParaRPr>
          </a:p>
        </p:txBody>
      </p:sp>
      <p:sp>
        <p:nvSpPr>
          <p:cNvPr id="1387" name="Rectangle 4"/>
          <p:cNvSpPr/>
          <p:nvPr/>
        </p:nvSpPr>
        <p:spPr>
          <a:xfrm>
            <a:off x="685800" y="3048120"/>
            <a:ext cx="7620120" cy="990360"/>
          </a:xfrm>
          <a:prstGeom prst="rect">
            <a:avLst/>
          </a:prstGeom>
          <a:solidFill>
            <a:srgbClr val="ffffff">
              <a:alpha val="4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4:21:12Z</dcterms:created>
  <dc:creator>Kerswell</dc:creator>
  <dc:description/>
  <dc:language>en-US</dc:language>
  <cp:lastModifiedBy>Unctad User</cp:lastModifiedBy>
  <cp:lastPrinted>2011-11-01T16:28:14Z</cp:lastPrinted>
  <dcterms:modified xsi:type="dcterms:W3CDTF">2013-04-10T13:35:23Z</dcterms:modified>
  <cp:revision>176</cp:revision>
  <dc:subject/>
  <dc:title>Development Dimension of Trade Facilitation</dc:title>
</cp:coreProperties>
</file>