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F14-4D4A-4048-940A-24ED3836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F46-53B8-4182-AEDA-77DCCB62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7E2-A8CD-405E-811A-0EC538E9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78E-5490-45B0-8237-9FFE2036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2D60-6701-455D-8B54-672A85EB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865-28AA-4DAD-9001-60F2076E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7BBF-21B4-493D-BBE4-B3167389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20A-6A2B-4BEB-B71F-3946A2C9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4ED7-F931-4B11-8416-BA207CA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2B59-E5B8-4160-BB1B-94D3171F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116B-48D8-4041-A8D6-66AFF47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5A6-AAAE-4F95-9628-E88E12A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5E7E-B2AA-4F15-A141-1E340E3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15C5-583E-4AFE-B6AB-8FE225D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A515-CB5A-4729-8CC8-08610551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DBF1-508D-4C7E-92F0-59767CFC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083-85E0-414F-ABA7-BEF0C58D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D601-3E2D-467E-8ED5-5D956F6E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5F32-D53F-4ED7-A18C-A299D92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5F64-0136-4BCA-A24E-299C0058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1DDF-97D7-4E58-A981-808CE50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00BE-FDAD-4700-B29C-2BD5BFD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B00-86B9-44CA-8CF4-E676B6B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8F2F-C1DA-4A9C-BEFA-03A5353F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CBD1-2B6A-4433-BF46-42D07BF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59A8-9176-4726-8B10-6A6B516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F273-9EF0-4C84-8FB1-50DAD6C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5E88-F273-45B7-9056-F32D60FB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4BE7-489C-489F-B3D2-D1DA183E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1669-ECE0-4F6F-86C0-B70313E8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280-959C-43B9-9328-DD954A06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B9F-B78C-40F8-90AD-EE7E1C65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8BB-D422-4CA1-935B-1C67C62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BCC-6A15-4603-8C3A-30B7AFF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22C-72C0-4601-8751-5ADE6F7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2C0-F49C-4F52-935A-5C97DF5E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5827-B152-4985-A7D4-0CFF86C2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efef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efef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F2CF-4A84-42B5-BB6B-6785E6F434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e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efef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efef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A4E2-40C2-4C0E-96E7-EB0E662280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5788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28600" y="533520"/>
            <a:ext cx="8686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GM on Trade and Transport Facil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-11 April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bai, United Arab Em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8120" y="4784760"/>
            <a:ext cx="8763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ade and Transport Facilitation Measures – Trade and Income Implications for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mon Mevel / RITD / UN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609480" y="1468440"/>
            <a:ext cx="8001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partite (COMESA-EAC-SADC = 26 African countri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up a web-based NTB reporting, monitoring and elimination mechanism (with concrete timelines for the removal of NTB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unched the Comprehensive Tripartite Trade and Transport Facilitation Programm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CTTTFP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ification and harmonization of customs procedu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monization of vehicle regulations and standards (i.e. agreed on maximum vehicle dimensions in terms of height, width and length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monization of the third party motor vehicle insuran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top border post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(OSBP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 need to stop at both sides of the bor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operating or under construction in ECOWAS, COMESA, EAC and SA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going concrete efforts to improve trade and transport facil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85800" y="1344600"/>
            <a:ext cx="78487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Computable General Equilibrium (CGE)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using a CGE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powerful tool for economists to conduct policy analyses of many kind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not only trade policies but also environmental policies, fiscal policies … just to name a fe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37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able of capturing multiple interactions taking place within the different agents of the world economy – thanks to many interconnected equations representing behaviors of economic agents and various economic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has significant constraints/limitations and represent world economy imperfectly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based on numerous assumpt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t is the only tool available today to undertake assessment of complex economic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533520" y="1752480"/>
            <a:ext cx="784836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elling International Relationships in Applied General Equilibrium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(MIRAGE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PII &amp; IFPRI, UNECA is member of the MIRAGE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ynamic, multi-country &amp; multi-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icularly well designed for trade polici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09480" y="1905120"/>
            <a:ext cx="784872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ey data inputs for CGE model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obal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ad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alysi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oject 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(GTAP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atabase – version 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sed as global Social Accounting Matrix for the model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57 se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13 reg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rket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s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ap-HS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(MAcMap-HS6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ersion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haustive database on market acces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ilateral level 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(220 exporters &amp; 169 importers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5113 product li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formation on bound, applied MFN &amp; applied tariff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ferential schemes includ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609480" y="1523880"/>
            <a:ext cx="78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09480" y="990720"/>
            <a:ext cx="784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mparison of findings from 2 scenari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TA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al of all tariff barriers on goods within the African continent – Effecti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ion of trade facilitation measures on top of C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TA + making customs procedures twice more efficient as well as reducing the time goods spend at African ports by half (by 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09480" y="1523880"/>
            <a:ext cx="784872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ow are the results repor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ess otherwise indicated, results are gi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mparison between scenarios and referenc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or baseline; i.e. without trade reform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ther percent change or absolute chang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year 2022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allow time for variables to adjust after full implementation of trade reform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380880" y="1979640"/>
            <a:ext cx="838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ports and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Real income variations for Africa – Percentage and value changes as compared to the baseline scenario – 20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87584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Authors’ calculations based on MI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62120" y="55458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iff revenue losses tend to limit the magnitud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l income gains for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85341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2120" y="510552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-African Trade would increase by 52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2010 and 20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establishm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 would not dou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untry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all African economies get an increase in exports nearly half of them regist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e in real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6"/>
          <p:cNvSpPr/>
          <p:nvPr/>
        </p:nvSpPr>
        <p:spPr>
          <a:xfrm>
            <a:off x="609480" y="2057400"/>
            <a:ext cx="7925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Share of intra-African trade: 2010 vs. 20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6"/>
          <p:cNvSpPr/>
          <p:nvPr/>
        </p:nvSpPr>
        <p:spPr>
          <a:xfrm>
            <a:off x="838080" y="4419720"/>
            <a:ext cx="431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authors’ calculations based on MIRA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585880"/>
            <a:ext cx="7391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09480" y="958680"/>
            <a:ext cx="784872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what extent could complementary reforms help enhancing the share of Intra-African T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l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de facilitation (TF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tion of trade costs or “Iceberg costs” (following L. Fontagné &amp; Y. Decreux (2009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imates of trade costs obtained by crossing information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s in days in export/import process from World Bank Doing Business Reports on Trading Across B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/import weight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verages time costs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. Minor and D. Hummels (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imates by country and sector of percentage of exports and imports lost due to delay in customs processing and por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04920" y="2436840"/>
            <a:ext cx="83818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ports and r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al income variations for Africa after establishment of a CFTA with and without TF measures – Percentage as compared to the baseline scenario – 20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8600" y="52567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Authors’ calculations based on MI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686800" cy="13921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609480" y="1219320"/>
            <a:ext cx="78487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y fig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rica’s total trade accounts for about 3% of total world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or diversification of Africa’s tr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mary products account for 64% of Africa’s ex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dustrial products account for 66% of Africa’s im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re of intra-African trade is low around about 10-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62120" y="48769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-African Trade w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RE THAN 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2010 and 20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establishm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TA if accompanied by Trade Facilitation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African economies –without exception- regis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in both exports and real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6"/>
          <p:cNvSpPr/>
          <p:nvPr/>
        </p:nvSpPr>
        <p:spPr>
          <a:xfrm>
            <a:off x="457200" y="1905120"/>
            <a:ext cx="7924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Share of intra-African trade after establishment of a CFTA with and without TF measure: 2010 vs. 20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6"/>
          <p:cNvSpPr/>
          <p:nvPr/>
        </p:nvSpPr>
        <p:spPr>
          <a:xfrm>
            <a:off x="685800" y="4267080"/>
            <a:ext cx="43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authors’ calculations based on MIRA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2838600"/>
            <a:ext cx="76960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65240" y="1273320"/>
            <a:ext cx="830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tra-African Trade – Changes as compared to the baseline scenario – 2022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– US$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-38160" y="663336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Authors’ calculations based on MIRA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560" y="1919160"/>
            <a:ext cx="7441920" cy="4781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"/>
          <p:cNvSpPr/>
          <p:nvPr/>
        </p:nvSpPr>
        <p:spPr>
          <a:xfrm>
            <a:off x="7467480" y="2362320"/>
            <a:ext cx="1676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F measures strong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industrialization of intra-African t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85800" y="1371600"/>
            <a:ext cx="7848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TA would bring trade and real income gains for Africa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reduction/elimination of tariff barriers is not costl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Generating tariff revenue los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al income effects can be ambiguous 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(some African countries being hur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ary measure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uch as trade facilitatio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critical to enhance trade benefits and industrialization, and ensure real income gains for all African ec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 and policy 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685800" y="1523880"/>
            <a:ext cx="78487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theless, adopting trade facilitation measures and improving infrastructure are very 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example: the Programme for Infrastructure Development in Africa (PIDA) has identified 51 priority projects for the period 2012-2020 and the cost of implementation is estimated to about USD 70 bill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there is a need to find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id for Trade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(AfT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could be devoted to key priority projects aiming at tackling constraints to intra-African tr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imit losses associated t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llicit Financial Flows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(IFF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rom Afr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reation of  an African fund aiming at tackling NTB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 and policy 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5800" y="1295280"/>
            <a:ext cx="784872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Account project on 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A in collaboration with all other UN Commissions (ESCWA, ESCAP, ECE, ECL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e objectiv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sist member States in each of the 5 regions in mobilizing AfT resources to help increasing intra-regional tr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far as Africa is concern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cus on 5 transport corridors projects taken from P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lp improving formulation of projects to secure Af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lp including a Monitoring and Evaluation (M&amp;E) component to the projects to make sure they are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UN Reg. Commissions-wide initi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533520" y="1981080"/>
            <a:ext cx="78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609480" y="914400"/>
            <a:ext cx="7848720" cy="59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ramount deci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anuary 2012 (Addis Ababa) – 18th AU Summit of African Heads of States and Govern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doption of AU Action Plan on “Boosting Intra-African Trade and the Establishment of a Continental Free Trade Area (CFTA)” -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7 as indicative date for CF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bjective set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oubling the share of Intra-African Trade within the next 10 years (from 10-12% to 20-25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entral question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 what extent, can improvements in transport and trade facilitation measures help achieving the objective 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utline of the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" y="1828800"/>
            <a:ext cx="78487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 trade and transport-related constraints within Africa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going concrete efforts to improve trade and transport facilitation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pirical analysis from improvement of trade facilitation measures in the context of the CF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lusions and polic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609480" y="1523880"/>
            <a:ext cx="78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371600"/>
            <a:ext cx="830592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addition to Non-Tariff Barriers (NTBs) to trade many other constraints hinder trade within the African contin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till significant tariff barriers to trad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oor infrastructur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ack of export diversificatio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ow intra-industry trad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ack of exploitation of supply chain potentials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ack of productive capacities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Governance issues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in trade and transport-related constraints within Africa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1523880"/>
            <a:ext cx="78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153280" cy="196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6"/>
          <p:cNvSpPr/>
          <p:nvPr/>
        </p:nvSpPr>
        <p:spPr>
          <a:xfrm>
            <a:off x="457200" y="495288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Average time for inland transport + customs procedures + port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World Bank, “Doing Business 2012: Doing Business in a More Transparent Worl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57200" y="1371600"/>
            <a:ext cx="8305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verage time to export vs. im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in trade and transport-related constraints within Africa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609480" y="1523880"/>
            <a:ext cx="78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" y="1371600"/>
            <a:ext cx="830592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 few specific 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30% of Africa’s roads are pave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ARIA IV, UN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orting a car from Japan to Abidjan costs in average USD 1,500, whereas it costs in average USD 5,000 to import the same vehicle from Addis Ababa to Abidj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ARIA IV, UN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a distance of about 500 kilometers between Douala and Bertoua, in Cameroon, up to 47 roadblocks can be fou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ARIA IV, UN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in trade and transport-related constraints within Africa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609480" y="1523880"/>
            <a:ext cx="78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57200" y="1371600"/>
            <a:ext cx="8305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ternet diffusion worldwide (users per 1,000 popu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in trade and transport-related constraints within Africa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2631960"/>
            <a:ext cx="8534160" cy="398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266760" y="657756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UNECA, ARIA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9480" y="1649520"/>
            <a:ext cx="8001000" cy="40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8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owever, data issues which do not allow for exhaustive accounting of intra-African trade should be highlighted, 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fficulties to measure informal t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ack of data availability on trade i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spcBef>
                <a:spcPts val="1874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in trade and transport-related constraints within Africa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HPprobook</cp:lastModifiedBy>
  <dcterms:modified xsi:type="dcterms:W3CDTF">2013-04-11T03:17:03Z</dcterms:modified>
  <cp:revision>10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