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810-ED57-4DF5-A1AB-BB0F50C3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0880" y="417348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72E-4C1E-499C-BA5C-81FDF3B5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8088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604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C20-B382-493F-87BE-3DD0B768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15160" y="190476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49440" y="190476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80880" y="417348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15160" y="417348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49440" y="417348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0A1-30FC-4DD8-9E08-F40A203C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DD84-7227-494D-B3D1-DF5C62C4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49CC-3DC5-407C-B5A3-6336BFFF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BB20-B2A3-406E-BDFF-23607746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0AD8-562A-4B54-A1BF-49B50E7D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4923-41D3-429C-B8C2-D3B7494F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245880" y="930240"/>
            <a:ext cx="866916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3E89-F6CA-4E1D-9CB2-D6D32114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8088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D3FC-1B3F-42E1-A054-376B055D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6FE9-A859-4F85-8642-50FD05AA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604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2EEE-DFA5-4B2B-AB7A-76F9CA6D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80880" y="417348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3F15-2AD1-47B0-A6C7-AB2AF0DD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0880" y="417348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05B2-9A86-4C72-9BA5-EBCAE3F8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8088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604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FE5C-F467-46DE-B024-3BF1F76D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15160" y="190476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49440" y="190476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80880" y="417348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15160" y="417348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49440" y="417348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57A6-E9FC-4419-A9A2-07CBFC45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92D47-BE06-4A7F-9F1F-866BF3D7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01C30-3C8A-4308-ABCF-1898CD8A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F0952-E473-444E-BA7F-06BBC116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B2A93-66A5-4FBA-A6CC-E5AAAF89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AA9EA-68FA-4801-A05C-3C2F9176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D33-75B9-4F10-8B64-17D5FE20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45880" y="930240"/>
            <a:ext cx="866916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0A9DD-3950-47B3-8251-F0EDC169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147CB-77A2-4C58-A4D7-02C00758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604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DD64A-575B-41FD-A057-EBD10C7D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80880" y="417348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EFB3F-BCBC-4F42-AEB0-03812FCC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0880" y="417348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D2F17-4A41-4497-A3B4-CF2979EE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8088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604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39597-D6B5-4DA1-BCB0-C1BD2F7F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5160" y="190476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49440" y="190476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80880" y="417348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5160" y="417348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49440" y="417348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DA7E5-D670-4E0C-AB57-4DA4A600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21F-8E2E-4C31-800C-AC999430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009-397C-4C8A-A1CA-E3EADB6B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45880" y="930240"/>
            <a:ext cx="866916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643-E92E-4D1F-A192-D264C94C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6D6-3080-47B2-BF5B-77AF1786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604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0C6-9958-4171-98FD-66E3411C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80880" y="417348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448-9A57-4979-BF9D-A352E110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13,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28600" y="0"/>
            <a:ext cx="8488080" cy="831600"/>
            <a:chOff x="228600" y="0"/>
            <a:chExt cx="8488080" cy="831600"/>
          </a:xfrm>
        </p:grpSpPr>
        <p:grpSp>
          <p:nvGrpSpPr>
            <p:cNvPr id="5" name=""/>
            <p:cNvGrpSpPr/>
            <p:nvPr/>
          </p:nvGrpSpPr>
          <p:grpSpPr>
            <a:xfrm>
              <a:off x="1020600" y="77760"/>
              <a:ext cx="7696080" cy="685800"/>
              <a:chOff x="1020600" y="77760"/>
              <a:chExt cx="7696080" cy="685800"/>
            </a:xfrm>
          </p:grpSpPr>
          <p:sp>
            <p:nvSpPr>
              <p:cNvPr id="6" name=""/>
              <p:cNvSpPr/>
              <p:nvPr/>
            </p:nvSpPr>
            <p:spPr>
              <a:xfrm>
                <a:off x="1020600" y="7776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63720" y="77760"/>
                <a:ext cx="6075360" cy="680400"/>
                <a:chOff x="1863720" y="77760"/>
                <a:chExt cx="6075360" cy="68040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63720" y="79200"/>
                  <a:ext cx="3505320" cy="677160"/>
                  <a:chOff x="1863720" y="79200"/>
                  <a:chExt cx="3505320" cy="6771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26080" y="70092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44880" y="74376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08640" y="67392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65640" y="69480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292560" y="70416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46480" y="70272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2997360" y="56448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43520" y="55512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46480" y="60408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43240" y="62964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29280" y="59940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35400" y="64872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62496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380040" y="63756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48160" y="64692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59400" y="55980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26000" y="62316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11800" y="4802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399120" y="54720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275280" y="52632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57640" y="43596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73480" y="50256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29200" y="50904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894200" y="47232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65640" y="8028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60800" y="40248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41720" y="39312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11760" y="34056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34160" y="38340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884840" y="39636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59280" y="32796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61240" y="41364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23040" y="8820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35400" y="8676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570480" y="13284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792520" y="8676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486240" y="7920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467160" y="15192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367080" y="20268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51320" y="23580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39960" y="31356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36800" y="52020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59080" y="36432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40080" y="34560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63720" y="19476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30480" y="40572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586240" y="66600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571840" y="48528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44720" y="26280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24240" y="11700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05280" y="8820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95720" y="14400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271960" y="16596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70240" y="23112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57720" y="22968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24080" y="16452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31160" y="77760"/>
                  <a:ext cx="1807920" cy="680400"/>
                  <a:chOff x="6131160" y="77760"/>
                  <a:chExt cx="1807920" cy="6804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875720" y="67428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32720" y="69516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59640" y="70452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13920" y="70308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64440" y="56484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10600" y="55548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13920" y="60444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10680" y="63000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96360" y="59976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02480" y="64908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62532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47120" y="63792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15240" y="64728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26480" y="56016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778880" y="48060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66200" y="54756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42360" y="52668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24720" y="43632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40560" y="50292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496280" y="50940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37560" y="13320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58160" y="8712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53320" y="7776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34240" y="15228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34520" y="20304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18400" y="23616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07400" y="31392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04240" y="52056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26520" y="36468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07520" y="34596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31160" y="19656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397560" y="40788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53320" y="66636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38920" y="48564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12160" y="26316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691320" y="11736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372360" y="8856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62800" y="14436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39040" y="16632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37320" y="23148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24800" y="23004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491520" y="16488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33360" y="88560"/>
                <a:ext cx="7464240" cy="663840"/>
                <a:chOff x="1233360" y="88560"/>
                <a:chExt cx="7464240" cy="6638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33360" y="43956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595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573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191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6812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430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04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767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28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491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52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14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576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38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00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625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24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86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482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10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472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884240" y="85680"/>
                <a:ext cx="5864040" cy="671040"/>
                <a:chOff x="1884240" y="85680"/>
                <a:chExt cx="5864040" cy="6710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49064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684320" y="43956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5280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1460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0072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51320" y="43956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6252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65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2432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62640" y="43956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52760" y="43956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386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48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0488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4308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0168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788920" y="43956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471400" y="43956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884240" y="43956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1588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5732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1912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68092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68092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43520" y="43776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28600" y="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IMFENG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981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5"/>
          <p:cNvSpPr>
            <a:spLocks noGrp="1"/>
          </p:cNvSpPr>
          <p:nvPr>
            <p:ph type="sldNum" idx="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M-Ciro:  </a:t>
            </a:r>
            <a:fld id="{12F20352-2157-47B2-843D-A7CF4A268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6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1, 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IMFENG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1261800" cy="12319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-2 </a:t>
            </a:r>
            <a:fld id="{B2BCA57C-3500-4851-BFD3-4E66A7378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VI/QNA/03-II </a:t>
            </a:r>
            <a:fld id="{B66E0D13-A72C-4E05-B80C-5FDED2E39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3880" y="182844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Chain-linking and rebasing of national accounts</a:t>
            </a:r>
            <a:br>
              <a:rPr sz="3200"/>
            </a:br>
            <a:br>
              <a:rPr sz="3200"/>
            </a:b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Expert Group Meeting on National Accounts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Cairo May 12-14, 2009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sentation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Rebasing in practice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For the economic activities or aggregates for which the constant price estimates are obtained by revaluation, a change of base year involves replacing the old base prices currently used with the new base prices for the same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5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For the economic activities or aggregates for which the constant price estimates are obtained through deflation, a change of base year involves changing the reference period for the deflators used at the most detailed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39D-5565-4A42-AE8E-E6EFBCC2C19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How often the base period should be changed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Practices in this respect vary considerably, with some countries keeping the same base period for as many as 10 years or 5 years, and some changing the base period every yea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It is desirable to change base periods frequently, especially in times of large changes in relative prices and rapid economic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B6C-B65F-4502-9251-7A0D6C58C4C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How often the base period should be changed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5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Changing the base too frequently also can sometimes cause problems when individual prices and quantities fluctuate in a way so that the changes in relative prices occurring in earlier periods are reversed in later period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25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In this case period-to-period chain-linked indices in general will not return to its initial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2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Generally, It is not advisable to go for rebasing  more frequently than a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C80-6FE2-4791-9CAD-2EB4CFDF6C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Impacts on the growth rates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Normally relative prices tend to change in a way that is inversely related to changes in relative volum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As a result, the overall measure of growth based on a Laspeyres fixed-base formula will tend to overstate the growth in years after the base year compared with the growth rate which would be calculated if a more up-to-date set of relative prices were us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350-7AF8-44C3-BFFC-4ADE4C668F2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Impacts on the growth rates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25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Growth rates observed for major aggregates will change from those, which were based on earlier base year and previously publis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Changes can be very significant- which can lead to problems for national accountants in trying to explain why the constant price GDP growth rates have been “revised” compared with those previously publishe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3AEA-FB4D-4781-8EBE-5F1C059B411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Impacts on the growth rates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The SNA, 1993 has recommended compilation of chain volume indices to overcome this probl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25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However, countries in the region are still using system of fixed base yea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2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To form consistent time series the old series need to be linked to the series based on the new base year, resulting in a set of chain-linked time se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250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It should kept in mind that the chained estimates are no additiv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291-976E-45D4-B734-55FEA816B51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Linking of National Accounts Series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All countries are compiling national accounts aggregates at current and constant pric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5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They also update the base year periodicall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Several countries have breaks in their national accounts series resulting from the changes in base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50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The breaks have resulted in incomparability of the series based on different base year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792-8A2C-4487-A5B0-97C7EC51910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Linking of National Accounts Series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National accounts aggregates should be linked taking into account the alternative methods adopted for various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Revaluation: Multiplying quantities at the product level for a given year with the prices of the new base year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If price deflation: Changing the reference period for the deflators (link price deflators) used at the most disaggregated detailed leve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If deflation: Back series should be obtained by double def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If a single indicator: Back series has also to be obtained by single indicat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779-682B-4C76-A0E4-F810882BAC4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Linking of National Accounts Series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Linking the series is not easy in practice beca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While revising the base the compilers revise the compilation methodologies als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Alternative data base become available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Improvements in the coverage is introduced in the new series Linking the series is not easy in practice beca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The compilers may adopt new recommendations pertaining to new international standards provided by the latest International System of National Accounts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3AC-D637-4F6B-9792-67E39685635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Suggested solutions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Countries have to look into various details of all th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individual aspects carefu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25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If some activities were missing in the earlier series then numbers relating to this activity have to be seen in the right perspective and then plugged into the back seri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25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If another alternative set of data captures the activity more adequately, then change in data base need to be made for the current period as also for the possible past yea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600-B7A8-4A64-B74D-BE16C79F014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The need for rebasing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Constant price estimates use the price relatives of a particular year to weight together the volume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Each base year gives a different perspective resulting from those weigh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Relative prices in the base period tends to become progressively less relev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Therefore it is necessary to update the base period to adopt weights that are more consistent with current condi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322-5086-438D-B96E-12779A35BE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Linking of National Accounts Series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In conclusion,</a:t>
            </a: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No single solution exists for all types of problem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Countries have to consider the use of annual chaining as recommended by the SNA; if not, the base year should not be more than 5 years ol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Countries should carefully choose the base year, it should be a normal year having no dramatic changes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Countries need to consider each of the problem issues with proper care and determine solutions keeping general principles in mind and best practices at h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83B-E9D6-41CA-9D5E-1BEFA8D831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What is behind the change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From Supply S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Structural change in production structure in the economy over a period of tim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Structural changes in relative prices of various products in the economy over a period of tim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Continuous developments and inno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Obsoleteness of many old produc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Non-comparability of goods and services between far apart peri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827-C7DF-4B02-A311-F07476F8FBF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What is behind the change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From Demand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Structural change in the consumption patter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Structural change in the utilization and acquisition of capital good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Changes in the openness of the country to the wor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0CD-0393-4141-91A5-53BA648692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Due to the continuous changes in structure of Production and  consumption it is desirable to do more frequent rebasing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239-0098-4E34-AE36-6AE66FAA124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Rebasing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The change of the base year imp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Changing the price and quantity base for the individual price and quantity rel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Updating the weights used in aggregating the individual quantity relatives into sub-indices and to aggregate these sub-indices into more aggregated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3F5-AF7C-4F18-866E-89455829E9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Rebasing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In principle, the best indices to be used for rebasing are Paasche price indices and Laspeyres volume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In practice, it is not possible to construct them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Thus the national accountants are forced to construct approximates for these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4A2A-62A6-47D6-8C83-C81E990438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Constructing the approximates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Making the compilations at a possible detailed level, and performing the aggregation from this detailed level to the main national accounts aggregate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60E-9346-48B6-964E-2CA9C4514B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6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Rebasing in practice</a:t>
            </a:r>
            <a:endParaRPr b="0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Changing the reference period for individual price and volume indices used from being equal to the old base year to being equal to the new base yea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5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Performing the aggregation from this detailed compilation level to obtain the national accounts aggreg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E99-D43A-4C12-8195-DFC3923F0DE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7, 2003 P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3:39:00Z</dcterms:created>
  <dc:creator>Sfassler</dc:creator>
  <dc:description/>
  <dc:language>en-US</dc:language>
  <cp:lastModifiedBy>mmantcheva</cp:lastModifiedBy>
  <dcterms:modified xsi:type="dcterms:W3CDTF">2009-05-06T13:30:36Z</dcterms:modified>
  <cp:revision>58</cp:revision>
  <dc:subject/>
  <dc:title>National Accounts Statistics   Consumption of Fixed Capital, Inventory Valuation </dc:title>
</cp:coreProperties>
</file>