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AD792F3-9335-4511-94E1-87CA6AF64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741254E-D4FB-4D9E-9A93-60FF0A1D3D9A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AE162A3-973C-47F9-9853-BAD19D3A56DC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EE7B1A8-8FA2-4C88-9AF1-115B02C2377F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2D2-8DDF-47B6-9CDA-2BEB11A1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776-CCBE-4083-BE38-6D9C97F6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315-8EB8-4633-A016-399F6D1D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6A3-7896-4154-A744-3AD417C6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D8BE-FA23-4628-900C-D88B4CE7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02E9-740F-4B0F-9FAC-69560769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EED1-C1DD-4AC5-B910-5A29729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F89B-B771-4B31-BCA1-18D8C996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9591-165E-4FC2-B40E-E0107FA2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D44F-A1B0-4CA4-85E8-B772FC1D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74EE-DEA4-4A15-BB61-B03DD0F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D10-47F6-4F67-8D00-FE63915F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C9A-CFD4-47C2-B4F6-164E878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DB04-641F-4893-A499-0FEB07F3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7E10-6AF5-48D8-9C06-F41D4502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7283-6468-4D3E-AD01-EFA0800E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9EF-3C93-4470-98EE-60D7381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02E-3684-4B55-81D0-40DE88ED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C47-4BE2-4263-8898-C40EBDEC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0C0-CE55-4B61-BDAD-2F736BF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F81-3EB2-45A6-9C2B-1545CC6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307-F83C-4ED6-95CC-1DEFB4F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D1E-FE42-4902-9090-C766D5B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7FF-B1D0-44B6-B2D3-582F3B1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259D-5492-4DDD-8557-7197A3D0F441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" name="Group 23"/>
          <p:cNvGrpSpPr/>
          <p:nvPr/>
        </p:nvGrpSpPr>
        <p:grpSpPr>
          <a:xfrm>
            <a:off x="-6480" y="20520"/>
            <a:ext cx="1070280" cy="360360"/>
            <a:chOff x="-6480" y="20520"/>
            <a:chExt cx="1070280" cy="360360"/>
          </a:xfrm>
        </p:grpSpPr>
        <p:graphicFrame>
          <p:nvGraphicFramePr>
            <p:cNvPr id="22" name="Object 24"/>
            <p:cNvGraphicFramePr/>
            <p:nvPr/>
          </p:nvGraphicFramePr>
          <p:xfrm>
            <a:off x="0" y="20520"/>
            <a:ext cx="1063800" cy="2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0520"/>
                      <a:ext cx="1063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" name="Text Box 25"/>
            <p:cNvSpPr/>
            <p:nvPr/>
          </p:nvSpPr>
          <p:spPr>
            <a:xfrm>
              <a:off x="-6480" y="228600"/>
              <a:ext cx="1063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6699ff"/>
                  </a:solidFill>
                  <a:latin typeface="Times New Roman"/>
                  <a:cs typeface="Times New Roman"/>
                </a:rPr>
                <a:t>اللجنة الاقتصادية والاجتماعية لغربي آسيا</a:t>
              </a:r>
              <a:endParaRPr b="0" lang="en-US" sz="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7" name="Group 23"/>
          <p:cNvGrpSpPr/>
          <p:nvPr/>
        </p:nvGrpSpPr>
        <p:grpSpPr>
          <a:xfrm>
            <a:off x="-6480" y="20520"/>
            <a:ext cx="1070280" cy="360360"/>
            <a:chOff x="-6480" y="20520"/>
            <a:chExt cx="1070280" cy="360360"/>
          </a:xfrm>
        </p:grpSpPr>
        <p:graphicFrame>
          <p:nvGraphicFramePr>
            <p:cNvPr id="78" name="Object 24"/>
            <p:cNvGraphicFramePr/>
            <p:nvPr/>
          </p:nvGraphicFramePr>
          <p:xfrm>
            <a:off x="0" y="20520"/>
            <a:ext cx="1063800" cy="2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0520"/>
                      <a:ext cx="1063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Text Box 25"/>
            <p:cNvSpPr/>
            <p:nvPr/>
          </p:nvSpPr>
          <p:spPr>
            <a:xfrm>
              <a:off x="-6480" y="228600"/>
              <a:ext cx="1063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6699ff"/>
                  </a:solidFill>
                  <a:latin typeface="Times New Roman"/>
                  <a:cs typeface="Times New Roman"/>
                </a:rPr>
                <a:t>اللجنة الاقتصادية والاجتماعية لغربي آسيا</a:t>
              </a:r>
              <a:endParaRPr b="0" lang="en-US" sz="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266688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14D5-5174-49F2-9D92-CECB953DBD52}" type="slidenum">
              <a:rPr b="0" lang="en-US" sz="1000" spc="-1" strike="noStrike">
                <a:solidFill>
                  <a:srgbClr val="eaeaea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e System of Environmental-Economic Accounting for Water SEEAW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Water Asset Accounts-Exerci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2971800" cy="171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898560" y="135000"/>
            <a:ext cx="8043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168640" y="5410080"/>
            <a:ext cx="4652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Wafa Aboul Hos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Team leader, Statistics Divis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Economic and Social Commission for Western Asia (ESCWA)</a:t>
            </a:r>
            <a:br>
              <a:rPr sz="1200"/>
            </a:b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Tel: (961 1) 978-519, Fax: (961 1) 981 510   </a:t>
            </a:r>
            <a:br>
              <a:rPr sz="1200"/>
            </a:b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Email: aboulhosn@un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7372440" y="0"/>
            <a:ext cx="1771560" cy="498600"/>
            <a:chOff x="7372440" y="0"/>
            <a:chExt cx="1771560" cy="498600"/>
          </a:xfrm>
        </p:grpSpPr>
        <p:pic>
          <p:nvPicPr>
            <p:cNvPr id="135" name="Picture 10" descr="flagge"/>
            <p:cNvPicPr/>
            <p:nvPr/>
          </p:nvPicPr>
          <p:blipFill>
            <a:blip r:embed="rId2"/>
            <a:stretch/>
          </p:blipFill>
          <p:spPr>
            <a:xfrm>
              <a:off x="7372440" y="0"/>
              <a:ext cx="7412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1" descr="EuroMed"/>
            <p:cNvPicPr/>
            <p:nvPr/>
          </p:nvPicPr>
          <p:blipFill>
            <a:blip r:embed="rId3"/>
            <a:stretch/>
          </p:blipFill>
          <p:spPr>
            <a:xfrm>
              <a:off x="8058240" y="0"/>
              <a:ext cx="53316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2" descr=""/>
            <p:cNvPicPr/>
            <p:nvPr/>
          </p:nvPicPr>
          <p:blipFill>
            <a:blip r:embed="rId4"/>
            <a:stretch/>
          </p:blipFill>
          <p:spPr>
            <a:xfrm>
              <a:off x="8591400" y="0"/>
              <a:ext cx="55260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14"/>
          <p:cNvSpPr/>
          <p:nvPr/>
        </p:nvSpPr>
        <p:spPr>
          <a:xfrm>
            <a:off x="380880" y="20574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MEDSTAT-ESCWA-UNSD Joint subregional training session on the 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System of Environmental-Economic Accounting for Water (SEEAW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mman, March 10-13, 2008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ورشةعمل تدريبية بشأن نظام المحاسبة البيئية والاقتصادية المتكامل للمياه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عمان، من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الى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3</a:t>
            </a:r>
            <a:r>
              <a:rPr b="1" lang="ar-LB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اذار/مارس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00</a:t>
            </a:r>
            <a:r>
              <a:rPr b="1" lang="ar-LB" sz="1800" spc="-1" strike="noStrike">
                <a:solidFill>
                  <a:srgbClr val="eaeaea"/>
                </a:solidFill>
                <a:latin typeface="Verdana"/>
              </a:rPr>
              <a:t>8</a:t>
            </a:r>
            <a:r>
              <a:rPr b="1" lang="ar-LB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pening Stocks and Increases in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7" name="Object 546"/>
          <p:cNvGraphicFramePr/>
          <p:nvPr/>
        </p:nvGraphicFramePr>
        <p:xfrm>
          <a:off x="914400" y="946080"/>
          <a:ext cx="762948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5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6080"/>
                    <a:ext cx="762948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49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s in Stocks and Closing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692280" y="1290600"/>
          <a:ext cx="8124840" cy="48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290600"/>
                    <a:ext cx="812484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7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2 Matrix of Flows between Water Resour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7" name="Object 301"/>
          <p:cNvGraphicFramePr/>
          <p:nvPr/>
        </p:nvGraphicFramePr>
        <p:xfrm>
          <a:off x="457200" y="698400"/>
          <a:ext cx="8158320" cy="58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Object 3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98400"/>
                    <a:ext cx="815832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304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ercise on Asset Accou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52280" y="1905120"/>
            <a:ext cx="8670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udy the 2 following diagram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ll the Accounts Tables as per the dia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are your answers with the Tabl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own Arrow 35"/>
          <p:cNvSpPr/>
          <p:nvPr/>
        </p:nvSpPr>
        <p:spPr>
          <a:xfrm flipH="1">
            <a:off x="3199680" y="838080"/>
            <a:ext cx="228600" cy="243864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304920" y="3581280"/>
            <a:ext cx="746748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50400" y="5334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ritory B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457200" y="3581280"/>
            <a:ext cx="2057400" cy="46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Soil Water Stora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=500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33520" y="4114800"/>
            <a:ext cx="2144520" cy="537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Groundwater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=100,0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4419720" y="1981080"/>
            <a:ext cx="91440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Verdana"/>
              </a:rPr>
              <a:t>Interception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28"/>
          <p:cNvSpPr/>
          <p:nvPr/>
        </p:nvSpPr>
        <p:spPr>
          <a:xfrm rot="1479600">
            <a:off x="6521760" y="3690720"/>
            <a:ext cx="16668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Runoff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296520" y="54864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2666880" y="3352680"/>
            <a:ext cx="949320" cy="4266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ive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50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3657600" y="3352680"/>
            <a:ext cx="1328760" cy="473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eservoi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15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1295280" y="609480"/>
            <a:ext cx="5562720" cy="21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Precipit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5105520" y="3352680"/>
            <a:ext cx="947520" cy="4266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Lak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27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7772400" y="411480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Oceans and se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Box 31"/>
          <p:cNvSpPr/>
          <p:nvPr/>
        </p:nvSpPr>
        <p:spPr>
          <a:xfrm>
            <a:off x="6095880" y="2819520"/>
            <a:ext cx="167652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Down Arrow 33"/>
          <p:cNvSpPr/>
          <p:nvPr/>
        </p:nvSpPr>
        <p:spPr>
          <a:xfrm>
            <a:off x="1523880" y="838080"/>
            <a:ext cx="304920" cy="28195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3,0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Down Arrow 34"/>
          <p:cNvSpPr/>
          <p:nvPr/>
        </p:nvSpPr>
        <p:spPr>
          <a:xfrm>
            <a:off x="4267080" y="838080"/>
            <a:ext cx="152640" cy="243864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2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Down Arrow 38"/>
          <p:cNvSpPr/>
          <p:nvPr/>
        </p:nvSpPr>
        <p:spPr>
          <a:xfrm rot="10800000">
            <a:off x="8229240" y="266652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Down Arrow 39"/>
          <p:cNvSpPr/>
          <p:nvPr/>
        </p:nvSpPr>
        <p:spPr>
          <a:xfrm rot="10800000">
            <a:off x="4800240" y="2209320"/>
            <a:ext cx="304920" cy="9018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U-Turn Arrow 42"/>
          <p:cNvSpPr/>
          <p:nvPr/>
        </p:nvSpPr>
        <p:spPr>
          <a:xfrm>
            <a:off x="5638680" y="1981080"/>
            <a:ext cx="1143000" cy="1295640"/>
          </a:xfrm>
          <a:prstGeom prst="pi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Down Arrow 44"/>
          <p:cNvSpPr/>
          <p:nvPr/>
        </p:nvSpPr>
        <p:spPr>
          <a:xfrm rot="10800000">
            <a:off x="2285640" y="1828440"/>
            <a:ext cx="304920" cy="9018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7113600" y="2057400"/>
            <a:ext cx="20304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Down Arrow 47"/>
          <p:cNvSpPr/>
          <p:nvPr/>
        </p:nvSpPr>
        <p:spPr>
          <a:xfrm rot="10800000">
            <a:off x="609480" y="1905120"/>
            <a:ext cx="152640" cy="167616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Left Arrow 57"/>
          <p:cNvSpPr/>
          <p:nvPr/>
        </p:nvSpPr>
        <p:spPr>
          <a:xfrm flipV="1" rot="13463400">
            <a:off x="5600520" y="4575960"/>
            <a:ext cx="2733480" cy="790560"/>
          </a:xfrm>
          <a:prstGeom prst="leftArrow">
            <a:avLst>
              <a:gd name="adj1" fmla="val 43546"/>
              <a:gd name="adj2" fmla="val 51385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flow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Left Arrow 58"/>
          <p:cNvSpPr/>
          <p:nvPr/>
        </p:nvSpPr>
        <p:spPr>
          <a:xfrm flipV="1" rot="11931600">
            <a:off x="610560" y="5144040"/>
            <a:ext cx="2198520" cy="377640"/>
          </a:xfrm>
          <a:prstGeom prst="leftArrow">
            <a:avLst>
              <a:gd name="adj1" fmla="val 100000"/>
              <a:gd name="adj2" fmla="val 53069"/>
            </a:avLst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c29"/>
                </a:solidFill>
                <a:latin typeface="Verdana"/>
              </a:rPr>
              <a:t>Inflows 17,6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7341840" y="601992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C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Down Arrow 34"/>
          <p:cNvSpPr/>
          <p:nvPr/>
        </p:nvSpPr>
        <p:spPr>
          <a:xfrm rot="10800000">
            <a:off x="4266720" y="3809520"/>
            <a:ext cx="304920" cy="1752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b8ffff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Bent-Up Arrow 36"/>
          <p:cNvSpPr/>
          <p:nvPr/>
        </p:nvSpPr>
        <p:spPr>
          <a:xfrm>
            <a:off x="4495680" y="3733920"/>
            <a:ext cx="1067040" cy="1828800"/>
          </a:xfrm>
          <a:prstGeom prst="pie">
            <a:avLst/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Bent-Up Arrow 37"/>
          <p:cNvSpPr/>
          <p:nvPr/>
        </p:nvSpPr>
        <p:spPr>
          <a:xfrm flipH="1">
            <a:off x="3276000" y="3733920"/>
            <a:ext cx="1066680" cy="1828800"/>
          </a:xfrm>
          <a:prstGeom prst="pie">
            <a:avLst/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Down Arrow 34"/>
          <p:cNvSpPr/>
          <p:nvPr/>
        </p:nvSpPr>
        <p:spPr>
          <a:xfrm>
            <a:off x="5257800" y="838080"/>
            <a:ext cx="152280" cy="243864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4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Box 40"/>
          <p:cNvSpPr/>
          <p:nvPr/>
        </p:nvSpPr>
        <p:spPr>
          <a:xfrm>
            <a:off x="2873160" y="5334120"/>
            <a:ext cx="33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3c29"/>
                </a:solidFill>
                <a:latin typeface="Verdana"/>
              </a:rPr>
              <a:t>Inflows from Others Resources in Territory 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TextBox 43"/>
          <p:cNvSpPr/>
          <p:nvPr/>
        </p:nvSpPr>
        <p:spPr>
          <a:xfrm>
            <a:off x="3200400" y="4038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248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Box 44"/>
          <p:cNvSpPr/>
          <p:nvPr/>
        </p:nvSpPr>
        <p:spPr>
          <a:xfrm>
            <a:off x="411480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1054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495288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339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Down Arrow 48"/>
          <p:cNvSpPr/>
          <p:nvPr/>
        </p:nvSpPr>
        <p:spPr>
          <a:xfrm rot="7585200">
            <a:off x="2587320" y="4165560"/>
            <a:ext cx="304920" cy="1473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8ffff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Box 49"/>
          <p:cNvSpPr/>
          <p:nvPr/>
        </p:nvSpPr>
        <p:spPr>
          <a:xfrm>
            <a:off x="243828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43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U-Turn Arrow 50"/>
          <p:cNvSpPr/>
          <p:nvPr/>
        </p:nvSpPr>
        <p:spPr>
          <a:xfrm>
            <a:off x="106200" y="4191120"/>
            <a:ext cx="838440" cy="76176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a3c29"/>
                </a:solidFill>
                <a:latin typeface="Verdana"/>
              </a:rPr>
              <a:t>Returns from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0" lang="en-US" sz="900" spc="-1" strike="noStrike">
                <a:solidFill>
                  <a:srgbClr val="2a3c29"/>
                </a:solidFill>
                <a:latin typeface="Verdana"/>
              </a:rPr>
              <a:t>Economy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315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U-Turn Arrow 51"/>
          <p:cNvSpPr/>
          <p:nvPr/>
        </p:nvSpPr>
        <p:spPr>
          <a:xfrm>
            <a:off x="2438280" y="2895480"/>
            <a:ext cx="533520" cy="60984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Returns from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Economy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53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U-Turn Arrow 52"/>
          <p:cNvSpPr/>
          <p:nvPr/>
        </p:nvSpPr>
        <p:spPr>
          <a:xfrm>
            <a:off x="3657600" y="2895480"/>
            <a:ext cx="533520" cy="60984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Returns from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Economy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300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Rectangle 53"/>
          <p:cNvSpPr/>
          <p:nvPr/>
        </p:nvSpPr>
        <p:spPr>
          <a:xfrm>
            <a:off x="2057400" y="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agram1: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ning Stocks and Increases in Stock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04920" y="1676520"/>
            <a:ext cx="347796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TextBox 41"/>
          <p:cNvSpPr/>
          <p:nvPr/>
        </p:nvSpPr>
        <p:spPr>
          <a:xfrm>
            <a:off x="152280" y="2590920"/>
            <a:ext cx="129564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TextBox 54"/>
          <p:cNvSpPr/>
          <p:nvPr/>
        </p:nvSpPr>
        <p:spPr>
          <a:xfrm>
            <a:off x="0" y="6858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NING STOCK 109,7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Up Arrow 61"/>
          <p:cNvSpPr/>
          <p:nvPr/>
        </p:nvSpPr>
        <p:spPr>
          <a:xfrm>
            <a:off x="5410080" y="1371600"/>
            <a:ext cx="609840" cy="198108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2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Rectangle 36"/>
          <p:cNvSpPr/>
          <p:nvPr/>
        </p:nvSpPr>
        <p:spPr>
          <a:xfrm>
            <a:off x="152280" y="3581280"/>
            <a:ext cx="762012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652680" y="64580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ritory B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228600" y="3581280"/>
            <a:ext cx="2057400" cy="46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Soil Water Stora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=553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80880" y="4114800"/>
            <a:ext cx="1905120" cy="537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Groundwater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=100,189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447920" y="914400"/>
            <a:ext cx="4343400" cy="30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4210920" y="601992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2666880" y="3276720"/>
            <a:ext cx="1254240" cy="4266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ive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4,272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Box 21"/>
          <p:cNvSpPr/>
          <p:nvPr/>
        </p:nvSpPr>
        <p:spPr>
          <a:xfrm>
            <a:off x="4038480" y="3276720"/>
            <a:ext cx="1328760" cy="473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eservoi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1,61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Box 26"/>
          <p:cNvSpPr/>
          <p:nvPr/>
        </p:nvSpPr>
        <p:spPr>
          <a:xfrm>
            <a:off x="5486400" y="3276720"/>
            <a:ext cx="947880" cy="4266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Lak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2,95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TextBox 27"/>
          <p:cNvSpPr/>
          <p:nvPr/>
        </p:nvSpPr>
        <p:spPr>
          <a:xfrm>
            <a:off x="7772400" y="373392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Oceans and se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Down Arrow 38"/>
          <p:cNvSpPr/>
          <p:nvPr/>
        </p:nvSpPr>
        <p:spPr>
          <a:xfrm rot="10800000">
            <a:off x="8457840" y="1447920"/>
            <a:ext cx="484200" cy="22730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7113600" y="914400"/>
            <a:ext cx="20304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2057400" y="0"/>
            <a:ext cx="624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agram2: Decreases in Stocks and Closing Stock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Up Arrow 58"/>
          <p:cNvSpPr/>
          <p:nvPr/>
        </p:nvSpPr>
        <p:spPr>
          <a:xfrm>
            <a:off x="1066680" y="1143000"/>
            <a:ext cx="990720" cy="24382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21,12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Up Arrow 59"/>
          <p:cNvSpPr/>
          <p:nvPr/>
        </p:nvSpPr>
        <p:spPr>
          <a:xfrm>
            <a:off x="4343400" y="1295280"/>
            <a:ext cx="380880" cy="198144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8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Up Arrow 60"/>
          <p:cNvSpPr/>
          <p:nvPr/>
        </p:nvSpPr>
        <p:spPr>
          <a:xfrm>
            <a:off x="2590920" y="1219320"/>
            <a:ext cx="533160" cy="205740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5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eft Arrow 57"/>
          <p:cNvSpPr/>
          <p:nvPr/>
        </p:nvSpPr>
        <p:spPr>
          <a:xfrm flipV="1" rot="16200000">
            <a:off x="685440" y="4724280"/>
            <a:ext cx="838080" cy="685800"/>
          </a:xfrm>
          <a:prstGeom prst="leftArrow">
            <a:avLst>
              <a:gd name="adj1" fmla="val 43546"/>
              <a:gd name="adj2" fmla="val 51377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eft Arrow 57"/>
          <p:cNvSpPr/>
          <p:nvPr/>
        </p:nvSpPr>
        <p:spPr>
          <a:xfrm flipV="1" rot="16200000">
            <a:off x="-404640" y="4290120"/>
            <a:ext cx="1600200" cy="790560"/>
          </a:xfrm>
          <a:prstGeom prst="leftArrow">
            <a:avLst>
              <a:gd name="adj1" fmla="val 43546"/>
              <a:gd name="adj2" fmla="val 51381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7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eft Arrow 57"/>
          <p:cNvSpPr/>
          <p:nvPr/>
        </p:nvSpPr>
        <p:spPr>
          <a:xfrm flipV="1" rot="16200000">
            <a:off x="4776840" y="4518720"/>
            <a:ext cx="2361960" cy="790560"/>
          </a:xfrm>
          <a:prstGeom prst="leftArrow">
            <a:avLst>
              <a:gd name="adj1" fmla="val 43546"/>
              <a:gd name="adj2" fmla="val 51386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eft Arrow 57"/>
          <p:cNvSpPr/>
          <p:nvPr/>
        </p:nvSpPr>
        <p:spPr>
          <a:xfrm flipV="1" rot="16200000">
            <a:off x="3481200" y="4518720"/>
            <a:ext cx="2361960" cy="790560"/>
          </a:xfrm>
          <a:prstGeom prst="leftArrow">
            <a:avLst>
              <a:gd name="adj1" fmla="val 43546"/>
              <a:gd name="adj2" fmla="val 5137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Left Arrow 57"/>
          <p:cNvSpPr/>
          <p:nvPr/>
        </p:nvSpPr>
        <p:spPr>
          <a:xfrm flipV="1" rot="16200000">
            <a:off x="2171520" y="4609440"/>
            <a:ext cx="2514600" cy="761760"/>
          </a:xfrm>
          <a:prstGeom prst="leftArrow">
            <a:avLst>
              <a:gd name="adj1" fmla="val 43546"/>
              <a:gd name="adj2" fmla="val 51395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34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Down Arrow 72"/>
          <p:cNvSpPr/>
          <p:nvPr/>
        </p:nvSpPr>
        <p:spPr>
          <a:xfrm rot="1841400">
            <a:off x="1766880" y="3554280"/>
            <a:ext cx="790560" cy="3276720"/>
          </a:xfrm>
          <a:prstGeom prst="downArrow">
            <a:avLst>
              <a:gd name="adj1" fmla="val 33787"/>
              <a:gd name="adj2" fmla="val 5006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943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Box 73"/>
          <p:cNvSpPr/>
          <p:nvPr/>
        </p:nvSpPr>
        <p:spPr>
          <a:xfrm>
            <a:off x="0" y="4572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OSING STOCK 109,58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Right Arrow 33"/>
          <p:cNvSpPr/>
          <p:nvPr/>
        </p:nvSpPr>
        <p:spPr>
          <a:xfrm rot="869400">
            <a:off x="3742920" y="4030560"/>
            <a:ext cx="4505400" cy="5540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,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96120" y="54100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Freeform 39"/>
          <p:cNvSpPr/>
          <p:nvPr/>
        </p:nvSpPr>
        <p:spPr>
          <a:xfrm>
            <a:off x="46080" y="5773680"/>
            <a:ext cx="2982960" cy="1084320"/>
          </a:xfrm>
          <a:prstGeom prst="pie">
            <a:avLst/>
          </a:pr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U-Turn Arrow 40"/>
          <p:cNvSpPr/>
          <p:nvPr/>
        </p:nvSpPr>
        <p:spPr>
          <a:xfrm>
            <a:off x="3124080" y="2590920"/>
            <a:ext cx="53352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14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U-Turn Arrow 41"/>
          <p:cNvSpPr/>
          <p:nvPr/>
        </p:nvSpPr>
        <p:spPr>
          <a:xfrm>
            <a:off x="4876920" y="2590920"/>
            <a:ext cx="53316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28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U-Turn Arrow 43"/>
          <p:cNvSpPr/>
          <p:nvPr/>
        </p:nvSpPr>
        <p:spPr>
          <a:xfrm>
            <a:off x="6172200" y="2590920"/>
            <a:ext cx="53352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2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438280" y="3886200"/>
            <a:ext cx="4191120" cy="30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Outflow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6"/>
          <p:cNvSpPr/>
          <p:nvPr/>
        </p:nvSpPr>
        <p:spPr>
          <a:xfrm>
            <a:off x="152280" y="3581280"/>
            <a:ext cx="762012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8600" y="3581280"/>
            <a:ext cx="2057400" cy="182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Soil Water Stora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228600" y="4114800"/>
            <a:ext cx="2144880" cy="21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Groundwater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2438280" y="3352680"/>
            <a:ext cx="949320" cy="21348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ive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3657600" y="3352680"/>
            <a:ext cx="1328760" cy="26028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eservoi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Box 26"/>
          <p:cNvSpPr/>
          <p:nvPr/>
        </p:nvSpPr>
        <p:spPr>
          <a:xfrm>
            <a:off x="5410080" y="3352680"/>
            <a:ext cx="947880" cy="21348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Lak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Box 27"/>
          <p:cNvSpPr/>
          <p:nvPr/>
        </p:nvSpPr>
        <p:spPr>
          <a:xfrm>
            <a:off x="7772400" y="411480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Oceans and se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Rectangle 53"/>
          <p:cNvSpPr/>
          <p:nvPr/>
        </p:nvSpPr>
        <p:spPr>
          <a:xfrm>
            <a:off x="14479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agram3: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trix of Flows between Water Resour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U-Turn Arrow 46"/>
          <p:cNvSpPr/>
          <p:nvPr/>
        </p:nvSpPr>
        <p:spPr>
          <a:xfrm>
            <a:off x="1066680" y="3048120"/>
            <a:ext cx="1676520" cy="45720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3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U-Turn Arrow 56"/>
          <p:cNvSpPr/>
          <p:nvPr/>
        </p:nvSpPr>
        <p:spPr>
          <a:xfrm>
            <a:off x="1143000" y="2819520"/>
            <a:ext cx="3352680" cy="60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U-Turn Arrow 57"/>
          <p:cNvSpPr/>
          <p:nvPr/>
        </p:nvSpPr>
        <p:spPr>
          <a:xfrm>
            <a:off x="990720" y="2514600"/>
            <a:ext cx="4952880" cy="10666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U-Turn Arrow 61"/>
          <p:cNvSpPr/>
          <p:nvPr/>
        </p:nvSpPr>
        <p:spPr>
          <a:xfrm flipH="1" rot="10800000">
            <a:off x="2958120" y="3539880"/>
            <a:ext cx="1460520" cy="87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TextBox 62"/>
          <p:cNvSpPr/>
          <p:nvPr/>
        </p:nvSpPr>
        <p:spPr>
          <a:xfrm>
            <a:off x="3276720" y="4114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U-Turn Arrow 63"/>
          <p:cNvSpPr/>
          <p:nvPr/>
        </p:nvSpPr>
        <p:spPr>
          <a:xfrm flipH="1" rot="10800000">
            <a:off x="3276720" y="3504960"/>
            <a:ext cx="2666880" cy="60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Box 64"/>
          <p:cNvSpPr/>
          <p:nvPr/>
        </p:nvSpPr>
        <p:spPr>
          <a:xfrm>
            <a:off x="4572000" y="3886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9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Up Arrow 72"/>
          <p:cNvSpPr/>
          <p:nvPr/>
        </p:nvSpPr>
        <p:spPr>
          <a:xfrm rot="1519800">
            <a:off x="2246040" y="3465360"/>
            <a:ext cx="304560" cy="598680"/>
          </a:xfrm>
          <a:prstGeom prst="upArrow">
            <a:avLst>
              <a:gd name="adj1" fmla="val 50000"/>
              <a:gd name="adj2" fmla="val 50080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Up Arrow 74"/>
          <p:cNvSpPr/>
          <p:nvPr/>
        </p:nvSpPr>
        <p:spPr>
          <a:xfrm rot="12577200">
            <a:off x="2406240" y="3609720"/>
            <a:ext cx="379440" cy="709560"/>
          </a:xfrm>
          <a:prstGeom prst="upArrow">
            <a:avLst>
              <a:gd name="adj1" fmla="val 50000"/>
              <a:gd name="adj2" fmla="val 50248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pening Stocks and Increases in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Text Box 549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380880" y="990720"/>
          <a:ext cx="832032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203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s in Stocks and Closing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5" name="Object 2"/>
          <p:cNvGraphicFramePr/>
          <p:nvPr/>
        </p:nvGraphicFramePr>
        <p:xfrm>
          <a:off x="685800" y="1287360"/>
          <a:ext cx="79534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87360"/>
                    <a:ext cx="7953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2 Matrix of Flows between Water Resour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0" name="Object 2"/>
          <p:cNvGraphicFramePr/>
          <p:nvPr/>
        </p:nvGraphicFramePr>
        <p:xfrm>
          <a:off x="457200" y="703440"/>
          <a:ext cx="8158320" cy="55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3440"/>
                    <a:ext cx="8158320" cy="55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304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swers to Exercise on Asset Accou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8:50:43Z</dcterms:created>
  <dc:creator>aabsu1</dc:creator>
  <dc:description/>
  <dc:language>en-US</dc:language>
  <cp:lastModifiedBy>Wafa A. Hosn</cp:lastModifiedBy>
  <dcterms:modified xsi:type="dcterms:W3CDTF">2008-02-14T10:22:33Z</dcterms:modified>
  <cp:revision>532</cp:revision>
  <dc:subject/>
  <dc:title>Asset Accounts</dc:title>
</cp:coreProperties>
</file>