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jpeg" ContentType="image/jpeg"/>
  <Override PartName="/ppt/media/image10.wmf" ContentType="image/x-wm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50F-D9E6-473B-AD37-37646F8B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46F-7AB9-4AC9-92A8-C5D8B9F8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552-93B2-4147-A452-E7FA889A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B89-938A-4A71-9C11-FDB966D2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B69A-A37A-4AD0-839D-3485C413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4C35-E925-447A-A18D-0586563F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7A98-DBE1-4C7E-A96E-E94CE29F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E59-D914-4B97-9604-A1C906A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009B-696A-4B1E-93F2-03E88002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1703-4AA1-4163-8048-20CC5D5A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D190-565B-4A80-9589-96AED3A3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B78-21FC-43C3-8838-E5917386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CDE3-7037-4B8D-8A76-B4AD0345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4013-D3D2-4299-9312-2B10A493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DEA-618D-4BFA-90BC-49ADAF47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CEBA-F531-4DD7-8CE4-E0F5E580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5EFE-76BA-4457-BA7F-F99E6036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6FB-5FE1-490F-BDA3-9B3BDD97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895-8B40-4E18-B8B2-75C31A2E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49B-7CFA-458D-AD69-27716F54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89A-B194-4EF1-A759-68FE5479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9BA-D852-4494-AA94-F14739D1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2D1-2342-4A62-A646-815F51C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26E-BE1B-48EE-90E3-141158F7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86B5-1DD2-4BC8-9ED0-9925944F7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8080" cy="70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FE78-9363-46E2-81E2-45D96790F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9880" y="380880"/>
            <a:ext cx="1828800" cy="154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330099"/>
              </a:buClr>
              <a:buSzPct val="6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jpe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jpe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889308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Emissions Exercise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Capital Harbor 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MEDSTAT II / ESCWA / UNSD sub-regional training course on Water Accounting , Amman, 10-13 March 2008</a:t>
            </a:r>
            <a:br>
              <a:rPr sz="2400"/>
            </a:b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55897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Var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Nations Statistics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7B6A-D883-40B2-81D1-04527C1D01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apital Harbor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stream from Cow Town and Cola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phisticate scenic city with a ‘booming’ econo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 (ISIC 10-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supply (ISIC 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werage (ISIC 3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Transport (ISIC 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modation and food service (55-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programming (ISIC 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administration (ISIC 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9E7-6BA5-4CBF-85A6-7164D45153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H="1" rot="21558600">
            <a:off x="-1872720" y="3536640"/>
            <a:ext cx="9145440" cy="129708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rot="16083000">
            <a:off x="4264560" y="567000"/>
            <a:ext cx="9145440" cy="522000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1251000" cy="1218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08360" y="5638680"/>
            <a:ext cx="125100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99280" y="285264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98600" y="655308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ital Harbour 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4000" y="1268280"/>
            <a:ext cx="1752480" cy="914400"/>
            <a:chOff x="324000" y="1268280"/>
            <a:chExt cx="1752480" cy="914400"/>
          </a:xfrm>
        </p:grpSpPr>
        <p:sp>
          <p:nvSpPr>
            <p:cNvPr id="95" name=""/>
            <p:cNvSpPr/>
            <p:nvPr/>
          </p:nvSpPr>
          <p:spPr>
            <a:xfrm>
              <a:off x="324000" y="1268280"/>
              <a:ext cx="175248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Suppl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1466640" y="1268280"/>
              <a:ext cx="58248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179280" y="5300640"/>
            <a:ext cx="1752840" cy="914400"/>
            <a:chOff x="179280" y="5300640"/>
            <a:chExt cx="1752840" cy="914400"/>
          </a:xfrm>
        </p:grpSpPr>
        <p:sp>
          <p:nvSpPr>
            <p:cNvPr id="98" name=""/>
            <p:cNvSpPr/>
            <p:nvPr/>
          </p:nvSpPr>
          <p:spPr>
            <a:xfrm>
              <a:off x="179280" y="5300640"/>
              <a:ext cx="175284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Suppl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1322280" y="5300640"/>
              <a:ext cx="582840" cy="87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059280" y="0"/>
            <a:ext cx="607680" cy="673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771640" y="4365720"/>
            <a:ext cx="739800" cy="5922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6439320" y="736560"/>
            <a:ext cx="874080" cy="801360"/>
            <a:chOff x="6439320" y="736560"/>
            <a:chExt cx="874080" cy="801360"/>
          </a:xfrm>
        </p:grpSpPr>
        <p:sp>
          <p:nvSpPr>
            <p:cNvPr id="103" name=""/>
            <p:cNvSpPr/>
            <p:nvPr/>
          </p:nvSpPr>
          <p:spPr>
            <a:xfrm flipH="1">
              <a:off x="6685560" y="736560"/>
              <a:ext cx="420840" cy="6228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649920" y="790920"/>
              <a:ext cx="496440" cy="3528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552360" y="1061280"/>
              <a:ext cx="673920" cy="34416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45600" y="1069560"/>
              <a:ext cx="600840" cy="28512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00320" y="1007280"/>
              <a:ext cx="567360" cy="30672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82520" y="861480"/>
              <a:ext cx="256680" cy="22680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666840" y="888480"/>
              <a:ext cx="152640" cy="19980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552000" y="1094760"/>
              <a:ext cx="617400" cy="33372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456240" y="1123920"/>
              <a:ext cx="467280" cy="30672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509880" y="964440"/>
              <a:ext cx="129240" cy="19224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552360" y="1000800"/>
              <a:ext cx="57600" cy="6660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812640" y="1287000"/>
              <a:ext cx="156600" cy="5184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806880" y="1287000"/>
              <a:ext cx="162720" cy="5400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585480" y="1005120"/>
              <a:ext cx="27000" cy="640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639480" y="822240"/>
              <a:ext cx="663840" cy="27432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99880" y="1143360"/>
              <a:ext cx="16560" cy="11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739560" y="1051920"/>
              <a:ext cx="20520" cy="72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83560" y="1287000"/>
              <a:ext cx="123120" cy="4248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006320" y="1269360"/>
              <a:ext cx="50040" cy="5580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566400" y="1108440"/>
              <a:ext cx="373320" cy="32220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438960" y="958320"/>
              <a:ext cx="133560" cy="19836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68480" y="1148760"/>
              <a:ext cx="114120" cy="1116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93680" y="956520"/>
              <a:ext cx="8568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12400" y="967680"/>
              <a:ext cx="130680" cy="18936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36560" y="1265040"/>
              <a:ext cx="16560" cy="154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696000" y="983160"/>
              <a:ext cx="587880" cy="29952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643080" y="1074960"/>
              <a:ext cx="8604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556680" y="1092600"/>
              <a:ext cx="619920" cy="31536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846120" y="964440"/>
              <a:ext cx="450720" cy="27144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850080" y="855360"/>
              <a:ext cx="100080" cy="16128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879600" y="886680"/>
              <a:ext cx="53640" cy="270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906600" y="882360"/>
              <a:ext cx="29520" cy="10044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26040" y="878400"/>
              <a:ext cx="26640" cy="12456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873120" y="938520"/>
              <a:ext cx="433800" cy="24336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700320" y="924840"/>
              <a:ext cx="85680" cy="7164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569280" y="808560"/>
              <a:ext cx="323280" cy="20808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917040" y="1096560"/>
              <a:ext cx="216720" cy="8316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019640" y="880200"/>
              <a:ext cx="53640" cy="133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119720" y="866880"/>
              <a:ext cx="5652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63640" y="95436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852600" y="1112400"/>
              <a:ext cx="77040" cy="6336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074000" y="93852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967440" y="900360"/>
              <a:ext cx="56160" cy="133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119720" y="909360"/>
              <a:ext cx="5652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186320" y="996840"/>
              <a:ext cx="60120" cy="122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192800" y="1045800"/>
              <a:ext cx="53640" cy="111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752520" y="923040"/>
              <a:ext cx="41040" cy="73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662520" y="890640"/>
              <a:ext cx="160200" cy="19980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929640" y="1119600"/>
              <a:ext cx="83160" cy="529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99600" y="1007280"/>
              <a:ext cx="563400" cy="27540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829200" y="1007280"/>
              <a:ext cx="66600" cy="1116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875640" y="909360"/>
              <a:ext cx="437400" cy="21636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034040" y="1108440"/>
              <a:ext cx="85680" cy="46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969960" y="1108440"/>
              <a:ext cx="126720" cy="640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883920" y="935640"/>
              <a:ext cx="400320" cy="19728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890040" y="962640"/>
              <a:ext cx="396720" cy="22356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883920" y="904320"/>
              <a:ext cx="400320" cy="19224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883200" y="1283040"/>
              <a:ext cx="173160" cy="4896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046640" y="1280880"/>
              <a:ext cx="16560" cy="50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967080" y="1275840"/>
              <a:ext cx="69120" cy="540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869880" y="878400"/>
              <a:ext cx="56160" cy="1047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846120" y="851040"/>
              <a:ext cx="96120" cy="16560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700320" y="980280"/>
              <a:ext cx="567360" cy="26208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12920" y="1034280"/>
              <a:ext cx="520920" cy="2840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693480" y="919800"/>
              <a:ext cx="66960" cy="13932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579360" y="857520"/>
              <a:ext cx="177120" cy="4032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902640" y="929160"/>
              <a:ext cx="373320" cy="18072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902640" y="954360"/>
              <a:ext cx="360720" cy="19440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645960" y="804240"/>
              <a:ext cx="254160" cy="5688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919560" y="1022760"/>
              <a:ext cx="70200" cy="759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629400" y="828360"/>
              <a:ext cx="216720" cy="5580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100640" y="1175760"/>
              <a:ext cx="142560" cy="3528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545880" y="1056960"/>
              <a:ext cx="671400" cy="30168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006680" y="1199880"/>
              <a:ext cx="213120" cy="6012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96440" y="1119600"/>
              <a:ext cx="103680" cy="13212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545520" y="996840"/>
              <a:ext cx="50040" cy="14004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869160" y="1131120"/>
              <a:ext cx="50040" cy="3312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568560" y="888480"/>
              <a:ext cx="114120" cy="248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007040" y="843840"/>
              <a:ext cx="5616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900480" y="826200"/>
              <a:ext cx="5616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800400" y="820080"/>
              <a:ext cx="56160" cy="1224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063200" y="830520"/>
              <a:ext cx="54000" cy="115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593040" y="1166400"/>
              <a:ext cx="73080" cy="16092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953040" y="1349640"/>
              <a:ext cx="187200" cy="309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552000" y="1168560"/>
              <a:ext cx="30600" cy="8100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619320" y="1126080"/>
              <a:ext cx="339840" cy="27756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860880" y="1302840"/>
              <a:ext cx="15120" cy="136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073640" y="1117440"/>
              <a:ext cx="22680" cy="136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666840" y="1341000"/>
              <a:ext cx="116640" cy="914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666480" y="1339200"/>
              <a:ext cx="119160" cy="954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693480" y="1365120"/>
              <a:ext cx="19440" cy="133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618960" y="1454760"/>
              <a:ext cx="497880" cy="8316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579720" y="1423440"/>
              <a:ext cx="596880" cy="3816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5796000" y="2924280"/>
            <a:ext cx="849240" cy="74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5292720" y="4581360"/>
            <a:ext cx="1111320" cy="793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4500720" y="836640"/>
            <a:ext cx="63792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1042920" y="476280"/>
            <a:ext cx="2089080" cy="792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476280"/>
            <a:ext cx="2808360" cy="3603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40464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24000" y="1125360"/>
            <a:ext cx="2303640" cy="216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1700280"/>
            <a:ext cx="2881440" cy="2887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908000" y="5084640"/>
            <a:ext cx="3456000" cy="432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03280" y="4797360"/>
            <a:ext cx="1368360" cy="503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5877000"/>
            <a:ext cx="172872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1052640"/>
            <a:ext cx="1224000" cy="1443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659640" y="3428640"/>
            <a:ext cx="1081080" cy="4284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724360" y="1483920"/>
            <a:ext cx="719280" cy="54612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260280"/>
            <a:ext cx="446400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6308640"/>
            <a:ext cx="122400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5373720"/>
            <a:ext cx="576360" cy="5763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2000" y="6381720"/>
            <a:ext cx="223200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08720" y="1125360"/>
            <a:ext cx="10796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981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9810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61657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551664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28000" y="623736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1700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328464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189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11970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7650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2205000"/>
            <a:ext cx="4248360" cy="1295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2708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177336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0000" y="5661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51577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79640" y="4869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64000" y="4724280"/>
            <a:ext cx="3024000" cy="136872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46530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werage Trea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367680" y="6011640"/>
            <a:ext cx="874080" cy="801360"/>
            <a:chOff x="6367680" y="6011640"/>
            <a:chExt cx="874080" cy="801360"/>
          </a:xfrm>
        </p:grpSpPr>
        <p:sp>
          <p:nvSpPr>
            <p:cNvPr id="235" name=""/>
            <p:cNvSpPr/>
            <p:nvPr/>
          </p:nvSpPr>
          <p:spPr>
            <a:xfrm flipH="1">
              <a:off x="6613920" y="6011640"/>
              <a:ext cx="420840" cy="6228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578280" y="6066000"/>
              <a:ext cx="496440" cy="3528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80720" y="6336720"/>
              <a:ext cx="673920" cy="34452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573960" y="6345000"/>
              <a:ext cx="600840" cy="28512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628680" y="6282360"/>
              <a:ext cx="567360" cy="30672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410880" y="6136560"/>
              <a:ext cx="256680" cy="22680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595200" y="6163920"/>
              <a:ext cx="152640" cy="19980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480360" y="6369840"/>
              <a:ext cx="617400" cy="33408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384600" y="6399000"/>
              <a:ext cx="467280" cy="30672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438240" y="6239880"/>
              <a:ext cx="129240" cy="19224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80720" y="6276240"/>
              <a:ext cx="57600" cy="6660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741000" y="6562440"/>
              <a:ext cx="156600" cy="5184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735240" y="6562440"/>
              <a:ext cx="162720" cy="5400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513840" y="6280560"/>
              <a:ext cx="27000" cy="640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567840" y="6097320"/>
              <a:ext cx="663840" cy="27468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528240" y="6418800"/>
              <a:ext cx="16560" cy="11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667920" y="6327000"/>
              <a:ext cx="20520" cy="72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811920" y="6562440"/>
              <a:ext cx="123120" cy="4248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934680" y="6544800"/>
              <a:ext cx="50040" cy="5616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494760" y="6383520"/>
              <a:ext cx="373320" cy="32256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367320" y="6233760"/>
              <a:ext cx="133560" cy="19872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396840" y="6424200"/>
              <a:ext cx="114120" cy="1116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422040" y="6231600"/>
              <a:ext cx="8568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440760" y="6242760"/>
              <a:ext cx="130680" cy="18936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964920" y="6540480"/>
              <a:ext cx="16560" cy="154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624360" y="6258600"/>
              <a:ext cx="587880" cy="29952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571440" y="6350040"/>
              <a:ext cx="8604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485040" y="6367680"/>
              <a:ext cx="619920" cy="31536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774480" y="6239880"/>
              <a:ext cx="450720" cy="27144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78440" y="6130440"/>
              <a:ext cx="100080" cy="16128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07960" y="6161760"/>
              <a:ext cx="53640" cy="270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834960" y="6157800"/>
              <a:ext cx="29520" cy="10044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54400" y="6153480"/>
              <a:ext cx="26640" cy="12456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801480" y="6213960"/>
              <a:ext cx="433800" cy="24336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628680" y="6200280"/>
              <a:ext cx="85680" cy="7164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497640" y="6083640"/>
              <a:ext cx="323280" cy="20808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845400" y="6372000"/>
              <a:ext cx="216720" cy="8316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948000" y="6155640"/>
              <a:ext cx="53640" cy="133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48080" y="6141960"/>
              <a:ext cx="5652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92000" y="622944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780960" y="6387480"/>
              <a:ext cx="77040" cy="6336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002360" y="621396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95800" y="6175440"/>
              <a:ext cx="56160" cy="133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048080" y="6184440"/>
              <a:ext cx="5652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114680" y="6272280"/>
              <a:ext cx="60120" cy="122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121160" y="6320880"/>
              <a:ext cx="53640" cy="111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680880" y="6198120"/>
              <a:ext cx="41040" cy="73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590880" y="6166080"/>
              <a:ext cx="160200" cy="19980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8000" y="6395040"/>
              <a:ext cx="83160" cy="529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627960" y="6282360"/>
              <a:ext cx="563400" cy="27540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757560" y="6282360"/>
              <a:ext cx="66600" cy="1116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804000" y="6184440"/>
              <a:ext cx="437400" cy="21636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962400" y="6383520"/>
              <a:ext cx="85680" cy="46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898320" y="6383520"/>
              <a:ext cx="126720" cy="640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812280" y="6210720"/>
              <a:ext cx="400320" cy="19728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818400" y="6237720"/>
              <a:ext cx="396720" cy="22356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12280" y="6179400"/>
              <a:ext cx="400320" cy="19224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811560" y="6558120"/>
              <a:ext cx="173160" cy="4896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975000" y="6556320"/>
              <a:ext cx="16560" cy="50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895440" y="6551280"/>
              <a:ext cx="69120" cy="540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798240" y="6153480"/>
              <a:ext cx="56160" cy="1047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774480" y="6126120"/>
              <a:ext cx="96120" cy="16560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628680" y="6255360"/>
              <a:ext cx="567360" cy="26208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641280" y="6309360"/>
              <a:ext cx="520920" cy="2840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621840" y="6194880"/>
              <a:ext cx="66960" cy="13932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507720" y="6132600"/>
              <a:ext cx="177120" cy="4032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831000" y="6204240"/>
              <a:ext cx="373320" cy="18072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831000" y="6229440"/>
              <a:ext cx="360720" cy="19440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574320" y="6079680"/>
              <a:ext cx="254160" cy="5688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847920" y="6298200"/>
              <a:ext cx="70200" cy="759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57760" y="6103440"/>
              <a:ext cx="216720" cy="5616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029000" y="6451200"/>
              <a:ext cx="142560" cy="3528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474240" y="6332400"/>
              <a:ext cx="671400" cy="30168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935040" y="6474960"/>
              <a:ext cx="213120" cy="6012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724800" y="6395040"/>
              <a:ext cx="103680" cy="13212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473880" y="6272280"/>
              <a:ext cx="50040" cy="14040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797520" y="6406560"/>
              <a:ext cx="50040" cy="3312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496920" y="6163920"/>
              <a:ext cx="114120" cy="248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935400" y="6118920"/>
              <a:ext cx="5616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828840" y="6101640"/>
              <a:ext cx="5616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728760" y="6095160"/>
              <a:ext cx="56160" cy="1224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991560" y="6105600"/>
              <a:ext cx="54000" cy="115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521400" y="6441840"/>
              <a:ext cx="73080" cy="16092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881400" y="6625080"/>
              <a:ext cx="187200" cy="309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480360" y="6443640"/>
              <a:ext cx="30600" cy="8100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547680" y="6401160"/>
              <a:ext cx="339840" cy="27756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789240" y="6577920"/>
              <a:ext cx="15120" cy="136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002000" y="6392880"/>
              <a:ext cx="22680" cy="136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595200" y="6616440"/>
              <a:ext cx="116640" cy="914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594840" y="6614640"/>
              <a:ext cx="119160" cy="954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621840" y="6640560"/>
              <a:ext cx="19440" cy="133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547320" y="6729840"/>
              <a:ext cx="497880" cy="8316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508080" y="6698880"/>
              <a:ext cx="596880" cy="3816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010280" y="54936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werage Trea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189000"/>
            <a:ext cx="226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ufacturing ISIC 10-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43640" y="4508640"/>
            <a:ext cx="295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ommodation and food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55-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4292640"/>
            <a:ext cx="21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ublic Administ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32720" y="2781360"/>
            <a:ext cx="140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trans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1268280"/>
            <a:ext cx="237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uter program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6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79280" y="333360"/>
            <a:ext cx="2880000" cy="3589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692280"/>
            <a:ext cx="71640" cy="295272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08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4AF-58CA-4276-91FC-FAA1DC8C10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79680" y="929160"/>
            <a:ext cx="8087760" cy="5589720"/>
            <a:chOff x="679680" y="929160"/>
            <a:chExt cx="8087760" cy="5589720"/>
          </a:xfrm>
        </p:grpSpPr>
        <p:sp>
          <p:nvSpPr>
            <p:cNvPr id="338" name=""/>
            <p:cNvSpPr/>
            <p:nvPr/>
          </p:nvSpPr>
          <p:spPr>
            <a:xfrm flipH="1" rot="21558600">
              <a:off x="683640" y="3939480"/>
              <a:ext cx="5486400" cy="77760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16083000">
              <a:off x="4365360" y="2158200"/>
              <a:ext cx="5486400" cy="313164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464000" y="2838240"/>
              <a:ext cx="75060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4032720" y="5200560"/>
              <a:ext cx="7506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505760" y="3528720"/>
              <a:ext cx="59616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usehol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41320" y="5749920"/>
              <a:ext cx="12880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apital Harbour Househol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002320" y="2578680"/>
              <a:ext cx="1051200" cy="547920"/>
              <a:chOff x="2002320" y="2578680"/>
              <a:chExt cx="1051200" cy="547920"/>
            </a:xfrm>
          </p:grpSpPr>
          <p:sp>
            <p:nvSpPr>
              <p:cNvPr id="345" name=""/>
              <p:cNvSpPr/>
              <p:nvPr/>
            </p:nvSpPr>
            <p:spPr>
              <a:xfrm>
                <a:off x="2002320" y="2578680"/>
                <a:ext cx="1051200" cy="54792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720" rIns="54720" tIns="27360" bIns="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ater Supply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87760" y="2578680"/>
                <a:ext cx="349560" cy="524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7" name=""/>
            <p:cNvGrpSpPr/>
            <p:nvPr/>
          </p:nvGrpSpPr>
          <p:grpSpPr>
            <a:xfrm>
              <a:off x="1915200" y="4997880"/>
              <a:ext cx="1051560" cy="548640"/>
              <a:chOff x="1915200" y="4997880"/>
              <a:chExt cx="1051560" cy="548640"/>
            </a:xfrm>
          </p:grpSpPr>
          <p:sp>
            <p:nvSpPr>
              <p:cNvPr id="348" name=""/>
              <p:cNvSpPr/>
              <p:nvPr/>
            </p:nvSpPr>
            <p:spPr>
              <a:xfrm>
                <a:off x="1915200" y="4997880"/>
                <a:ext cx="1051560" cy="548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720" rIns="54720" tIns="27360" bIns="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ater Supply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01000" y="4997880"/>
                <a:ext cx="349560" cy="524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0" name="" descr=""/>
            <p:cNvPicPr/>
            <p:nvPr/>
          </p:nvPicPr>
          <p:blipFill>
            <a:blip r:embed="rId5"/>
            <a:stretch/>
          </p:blipFill>
          <p:spPr>
            <a:xfrm>
              <a:off x="3643200" y="1817640"/>
              <a:ext cx="36468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6"/>
            <a:stretch/>
          </p:blipFill>
          <p:spPr>
            <a:xfrm>
              <a:off x="3471120" y="4436640"/>
              <a:ext cx="443520" cy="3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2" name=""/>
            <p:cNvGrpSpPr/>
            <p:nvPr/>
          </p:nvGrpSpPr>
          <p:grpSpPr>
            <a:xfrm>
              <a:off x="5671440" y="2259720"/>
              <a:ext cx="523800" cy="479880"/>
              <a:chOff x="5671440" y="2259720"/>
              <a:chExt cx="523800" cy="47988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5818680" y="2259720"/>
                <a:ext cx="252360" cy="3744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797080" y="2292120"/>
                <a:ext cx="297720" cy="208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739120" y="2454120"/>
                <a:ext cx="403920" cy="20628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795280" y="2459160"/>
                <a:ext cx="360000" cy="17064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827680" y="2421720"/>
                <a:ext cx="339840" cy="18396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697000" y="2334600"/>
                <a:ext cx="153720" cy="13572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807520" y="2350800"/>
                <a:ext cx="91440" cy="11952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5738760" y="2474280"/>
                <a:ext cx="370080" cy="20016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681160" y="2491560"/>
                <a:ext cx="280080" cy="18396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713560" y="2396160"/>
                <a:ext cx="77400" cy="11520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5739120" y="2418120"/>
                <a:ext cx="34560" cy="3996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895360" y="2589480"/>
                <a:ext cx="93600" cy="3096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91040" y="2589480"/>
                <a:ext cx="97560" cy="3204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58560" y="242064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790960" y="2310840"/>
                <a:ext cx="397800" cy="1645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767200" y="250344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5851440" y="2448720"/>
                <a:ext cx="12240" cy="43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5937120" y="2589480"/>
                <a:ext cx="73800" cy="2556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010920" y="257904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5747400" y="2482200"/>
                <a:ext cx="223920" cy="19332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5671440" y="2392560"/>
                <a:ext cx="79920" cy="11880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689080" y="250668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703120" y="239112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715000" y="2397960"/>
                <a:ext cx="78120" cy="11340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6028920" y="2576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5824800" y="2407320"/>
                <a:ext cx="352440" cy="17928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5793120" y="246240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5741640" y="2472840"/>
                <a:ext cx="371520" cy="18900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5915160" y="2396160"/>
                <a:ext cx="270000" cy="16272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5917680" y="2330640"/>
                <a:ext cx="59760" cy="964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5934960" y="2349360"/>
                <a:ext cx="32040" cy="162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5951160" y="2347200"/>
                <a:ext cx="17640" cy="6012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5963040" y="234432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5931360" y="2380680"/>
                <a:ext cx="259920" cy="14580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826960" y="2372400"/>
                <a:ext cx="51480" cy="428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5749200" y="2302920"/>
                <a:ext cx="193680" cy="12456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5957280" y="2475360"/>
                <a:ext cx="129960" cy="4968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018840" y="2345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6079320" y="233784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6105240" y="239004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5919120" y="2484720"/>
                <a:ext cx="46080" cy="3780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051600" y="238068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5987520" y="235764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079320" y="236304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119280" y="2415600"/>
                <a:ext cx="36000" cy="720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122880" y="2444760"/>
                <a:ext cx="32040" cy="64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5859000" y="2371320"/>
                <a:ext cx="24480" cy="4392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5805000" y="2351880"/>
                <a:ext cx="96120" cy="11952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5965560" y="2489040"/>
                <a:ext cx="49680" cy="316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5827680" y="2421720"/>
                <a:ext cx="337680" cy="16488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5904720" y="2421720"/>
                <a:ext cx="39960" cy="648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5933160" y="2363040"/>
                <a:ext cx="262080" cy="12960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027120" y="2482200"/>
                <a:ext cx="51480" cy="2772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988960" y="2482200"/>
                <a:ext cx="75960" cy="3852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937120" y="2378880"/>
                <a:ext cx="240120" cy="1180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941440" y="2395080"/>
                <a:ext cx="237600" cy="13392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5937120" y="2360160"/>
                <a:ext cx="240120" cy="11520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937480" y="2586960"/>
                <a:ext cx="103680" cy="291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035040" y="258588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5987160" y="2582640"/>
                <a:ext cx="41400" cy="320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5929200" y="2344320"/>
                <a:ext cx="33840" cy="6264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5915160" y="2328120"/>
                <a:ext cx="57600" cy="9900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5827680" y="2405520"/>
                <a:ext cx="339840" cy="15696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5835240" y="2437920"/>
                <a:ext cx="312120" cy="16992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823360" y="2369520"/>
                <a:ext cx="39960" cy="835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5754600" y="2332080"/>
                <a:ext cx="106200" cy="241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949000" y="2374920"/>
                <a:ext cx="223920" cy="10836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5949360" y="2390040"/>
                <a:ext cx="216000" cy="11664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794920" y="2300040"/>
                <a:ext cx="152280" cy="3420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958720" y="24310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784840" y="2314440"/>
                <a:ext cx="129960" cy="3348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7440" y="2522880"/>
                <a:ext cx="85320" cy="208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735160" y="2451600"/>
                <a:ext cx="402480" cy="18072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011640" y="2537280"/>
                <a:ext cx="127440" cy="3600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884920" y="2489040"/>
                <a:ext cx="62280" cy="7884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734800" y="2415600"/>
                <a:ext cx="29880" cy="8388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5928840" y="2496240"/>
                <a:ext cx="29880" cy="1980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748840" y="2350800"/>
                <a:ext cx="68400" cy="1476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011280" y="232380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5947560" y="231336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5887440" y="2309400"/>
                <a:ext cx="33840" cy="720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045120" y="2315880"/>
                <a:ext cx="32400" cy="68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5763600" y="2517480"/>
                <a:ext cx="43560" cy="9648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5979240" y="2626920"/>
                <a:ext cx="112320" cy="183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5738760" y="251856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5779080" y="2493000"/>
                <a:ext cx="203760" cy="16632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923440" y="259884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051600" y="248796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5807520" y="2621880"/>
                <a:ext cx="69840" cy="5472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5807520" y="262080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5823720" y="263628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778720" y="2689920"/>
                <a:ext cx="298440" cy="4968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755320" y="2671200"/>
                <a:ext cx="357840" cy="2304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6" name="" descr=""/>
            <p:cNvPicPr/>
            <p:nvPr/>
          </p:nvPicPr>
          <p:blipFill>
            <a:blip r:embed="rId7"/>
            <a:stretch/>
          </p:blipFill>
          <p:spPr>
            <a:xfrm>
              <a:off x="5284800" y="3571920"/>
              <a:ext cx="509400" cy="4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8"/>
            <a:stretch/>
          </p:blipFill>
          <p:spPr>
            <a:xfrm>
              <a:off x="4983120" y="4566600"/>
              <a:ext cx="6663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9"/>
            <a:stretch/>
          </p:blipFill>
          <p:spPr>
            <a:xfrm>
              <a:off x="4507920" y="2319480"/>
              <a:ext cx="38232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 flipV="1">
              <a:off x="2434320" y="2103480"/>
              <a:ext cx="1252440" cy="4748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32720" y="2103840"/>
              <a:ext cx="1684800" cy="2152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91920" y="206064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082320" y="2492640"/>
              <a:ext cx="1381680" cy="129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79200" y="2838240"/>
              <a:ext cx="1728720" cy="1731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952720" y="4868280"/>
              <a:ext cx="2073600" cy="259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650320" y="4696200"/>
              <a:ext cx="820440" cy="301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95200" y="5343840"/>
              <a:ext cx="10371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6720" y="2449080"/>
              <a:ext cx="734400" cy="86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803200" y="3874680"/>
              <a:ext cx="648360" cy="25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242320" y="2707920"/>
              <a:ext cx="430920" cy="3272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32720" y="1973880"/>
              <a:ext cx="26780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09600" y="5602680"/>
              <a:ext cx="7344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01520" y="5042160"/>
              <a:ext cx="345600" cy="3452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54760" y="5646240"/>
              <a:ext cx="13388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92720" y="2492640"/>
              <a:ext cx="64728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68800" y="240588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4800" y="240588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96720" y="551664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01520" y="512748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24000" y="555948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28000" y="283824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76720" y="378828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44000" y="193140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50320" y="3141000"/>
              <a:ext cx="2548080" cy="776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46320" y="4652640"/>
              <a:ext cx="1813680" cy="820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75200" y="460944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2720" y="5214960"/>
              <a:ext cx="1279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werage Treat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5627880" y="5424480"/>
              <a:ext cx="524160" cy="480600"/>
              <a:chOff x="5627880" y="5424480"/>
              <a:chExt cx="524160" cy="48060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5775120" y="5424480"/>
                <a:ext cx="252360" cy="3744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5753880" y="5456880"/>
                <a:ext cx="297720" cy="2124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5694840" y="5619240"/>
                <a:ext cx="404280" cy="20664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751360" y="5624280"/>
                <a:ext cx="360360" cy="17100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5783760" y="5586840"/>
                <a:ext cx="340200" cy="18396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5653800" y="5499360"/>
                <a:ext cx="153720" cy="13608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5764320" y="5515560"/>
                <a:ext cx="91440" cy="11988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5695560" y="5639400"/>
                <a:ext cx="370080" cy="20052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5637960" y="5656680"/>
                <a:ext cx="280080" cy="18396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5670000" y="5561280"/>
                <a:ext cx="77400" cy="11520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695560" y="5582880"/>
                <a:ext cx="34560" cy="3996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852160" y="5754960"/>
                <a:ext cx="93600" cy="3096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5847840" y="5754960"/>
                <a:ext cx="97560" cy="324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715000" y="558576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747760" y="5475600"/>
                <a:ext cx="398160" cy="1645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5724000" y="566856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5807880" y="5613480"/>
                <a:ext cx="12240" cy="43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5893920" y="5754960"/>
                <a:ext cx="73800" cy="2556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5967720" y="574416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5704200" y="5647320"/>
                <a:ext cx="223920" cy="19332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5627880" y="5557680"/>
                <a:ext cx="79920" cy="11916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5645520" y="567180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5659560" y="555624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5671440" y="5563080"/>
                <a:ext cx="78120" cy="11340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5985720" y="5741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5781600" y="5572440"/>
                <a:ext cx="352440" cy="17964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5749920" y="562752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5697360" y="5637960"/>
                <a:ext cx="371880" cy="18900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5871960" y="5561280"/>
                <a:ext cx="270000" cy="16272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5874120" y="5495760"/>
                <a:ext cx="59760" cy="9684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5891760" y="5514480"/>
                <a:ext cx="32040" cy="162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5907600" y="5511960"/>
                <a:ext cx="17640" cy="6012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5919840" y="5509440"/>
                <a:ext cx="15840" cy="7488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888160" y="5545800"/>
                <a:ext cx="259920" cy="14580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5783760" y="5537520"/>
                <a:ext cx="51480" cy="428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5705640" y="5467680"/>
                <a:ext cx="193680" cy="12456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914080" y="5640480"/>
                <a:ext cx="129960" cy="4968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5975640" y="551052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035760" y="550260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062040" y="555516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5875920" y="5649840"/>
                <a:ext cx="46080" cy="3780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6008040" y="554580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5944320" y="552240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6035760" y="552816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6076080" y="5580720"/>
                <a:ext cx="36000" cy="720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6079680" y="5609880"/>
                <a:ext cx="32040" cy="64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5815440" y="5536440"/>
                <a:ext cx="24480" cy="4428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5761440" y="5517000"/>
                <a:ext cx="96120" cy="11988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5922000" y="5654160"/>
                <a:ext cx="49680" cy="316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5784120" y="5586840"/>
                <a:ext cx="337680" cy="16524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5861520" y="5586840"/>
                <a:ext cx="39960" cy="648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5889240" y="5528160"/>
                <a:ext cx="262440" cy="1299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5983920" y="5647320"/>
                <a:ext cx="51480" cy="2772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945400" y="5647320"/>
                <a:ext cx="75960" cy="3852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893920" y="5543640"/>
                <a:ext cx="240120" cy="11844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5897520" y="5559840"/>
                <a:ext cx="237960" cy="13392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893920" y="5524920"/>
                <a:ext cx="240120" cy="11520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5894280" y="5752440"/>
                <a:ext cx="103680" cy="291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991840" y="575100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5943960" y="5748120"/>
                <a:ext cx="41400" cy="324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885640" y="5509440"/>
                <a:ext cx="33840" cy="6300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871960" y="5493240"/>
                <a:ext cx="57600" cy="9936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5783760" y="5570640"/>
                <a:ext cx="340200" cy="15732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5791680" y="5603040"/>
                <a:ext cx="312480" cy="17028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779800" y="5534280"/>
                <a:ext cx="39960" cy="835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711400" y="5496840"/>
                <a:ext cx="106200" cy="241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5905800" y="5540040"/>
                <a:ext cx="223920" cy="10836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905080" y="5555160"/>
                <a:ext cx="216360" cy="11664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5751360" y="5465160"/>
                <a:ext cx="152280" cy="3420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5915520" y="559620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741280" y="5479200"/>
                <a:ext cx="129960" cy="3348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024240" y="5688000"/>
                <a:ext cx="85320" cy="2124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5691240" y="5616720"/>
                <a:ext cx="402840" cy="18108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967720" y="5702400"/>
                <a:ext cx="127800" cy="3600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841360" y="5654160"/>
                <a:ext cx="62280" cy="7920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5691240" y="5580720"/>
                <a:ext cx="29880" cy="8424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885640" y="5661360"/>
                <a:ext cx="29880" cy="1980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5705640" y="5515560"/>
                <a:ext cx="68400" cy="1476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5968080" y="548856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904000" y="547812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843880" y="5474520"/>
                <a:ext cx="33840" cy="720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001920" y="5480640"/>
                <a:ext cx="32400" cy="68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720040" y="5682600"/>
                <a:ext cx="43560" cy="9648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935680" y="5792400"/>
                <a:ext cx="112320" cy="183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5695200" y="568368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735880" y="5658120"/>
                <a:ext cx="203760" cy="16668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880240" y="576432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6008040" y="565308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5764320" y="5787360"/>
                <a:ext cx="69840" cy="5472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5764320" y="578628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5780160" y="580176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5735520" y="5855400"/>
                <a:ext cx="298800" cy="4968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5711760" y="5836680"/>
                <a:ext cx="357840" cy="2304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013800" y="2147400"/>
              <a:ext cx="12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werage Treat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60800" y="1931400"/>
              <a:ext cx="136044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nufacturing ISIC 10-3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73600" y="4522680"/>
              <a:ext cx="17719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commodation and foo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55-5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49600" y="4392360"/>
              <a:ext cx="12747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ublic Administr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8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47120" y="3485880"/>
              <a:ext cx="8424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ater transpor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21520" y="2579400"/>
              <a:ext cx="14256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mputer program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6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914840" y="2017440"/>
              <a:ext cx="1727640" cy="2152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15200" y="2233080"/>
              <a:ext cx="42840" cy="17712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08280" y="344304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E2A-597B-4233-9AE9-FB277BD60E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Table A.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Gross and net emissions 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276640"/>
          <a:ext cx="8064360" cy="21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80643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7DB-ADB9-43D7-831B-54B471DDE0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Table B.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Emission to water by the sewerage industry (ISIC 37)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042920" y="2637000"/>
          <a:ext cx="6985080" cy="263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37000"/>
                    <a:ext cx="6985080" cy="26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E1F-69DA-4749-88E6-AE841EC575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5:48:34Z</dcterms:created>
  <dc:creator>Juergen Schwaerzler</dc:creator>
  <dc:description/>
  <dc:language>en-US</dc:language>
  <cp:lastModifiedBy>nagy_m</cp:lastModifiedBy>
  <dcterms:modified xsi:type="dcterms:W3CDTF">2008-02-05T19:58:00Z</dcterms:modified>
  <cp:revision>215</cp:revision>
  <dc:subject/>
  <dc:title>Introduction to the International Family of Classific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02062025</vt:r8>
  </property>
  <property fmtid="{D5CDD505-2E9C-101B-9397-08002B2CF9AE}" pid="3" name="_AuthorEmail">
    <vt:lpwstr>michael.nagy@umweltbundesamt.at</vt:lpwstr>
  </property>
  <property fmtid="{D5CDD505-2E9C-101B-9397-08002B2CF9AE}" pid="4" name="_AuthorEmailDisplayName">
    <vt:lpwstr>Nagy Michael</vt:lpwstr>
  </property>
  <property fmtid="{D5CDD505-2E9C-101B-9397-08002B2CF9AE}" pid="5" name="_EmailSubject">
    <vt:lpwstr>WG: SEEAW versus NAMEA</vt:lpwstr>
  </property>
</Properties>
</file>