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09C-1B81-48E8-8F9E-C5746931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F50-537D-43B9-89EE-45A5D20D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DC1-5CFF-4F9C-BC8C-ACC222E5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67A-FBB5-4D7B-9134-DA88B1A3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D7CB-59AE-41E9-958C-F186303C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9DDD-7A9A-468A-89B5-F54194F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9C7-EDFA-4371-93E0-414313AC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ACA6-6C48-4770-BF12-C097C416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DBA-F860-4610-92B3-FA0164BA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E1B1-C86C-4A17-919B-123C38A5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B0A1-F85E-4726-B16C-246DD6E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837-48B5-4F4E-89B3-D00A7F3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85BF-1015-40FF-BF9C-59FEF3E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508-A24C-49B4-89D6-210581D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4ACD-0186-4291-B636-108D0F4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1AEB-5BC1-4861-A129-5597D3E1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FA6-AD86-4C25-B230-D749E95D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1FB-6C9A-439F-B95E-0B655CE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ED2-3343-42CB-91F1-9FC1C9B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9CD-F56D-4EF5-B431-EF81E94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BE8-00FA-438D-8E7A-66963394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7A3-AB92-45A2-A71C-68D8926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CF3-89B4-445E-8A26-7763887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B9E-F967-4D32-BF1D-D1394DA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35A7-C795-4E09-AF0D-8BFDBE946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8F9-9B77-401B-87FD-F34A03885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jpeg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 on recording flows in the Physical Supply-Use Tables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a City, Cow Town and Capital Harbor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ichael Vard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United Nations Statistics Divi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rdon@un.or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w Town – Physical use t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1898640"/>
          <a:ext cx="91440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8640"/>
                    <a:ext cx="91440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w Town – Physical supply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0" y="2157480"/>
          <a:ext cx="91440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9144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ital Harb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ownstream from Cow Town and Cola C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sophisticate scenic city with a ‘booming’ economy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nufacture (ISIC 10-3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 Transport (ISIC 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commodation and food service (55-56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mputer programming (ISIC 6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ublic administration (ISIC 8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-541440" y="-1483560"/>
            <a:ext cx="12143520" cy="9340560"/>
            <a:chOff x="-541440" y="-1483560"/>
            <a:chExt cx="12143520" cy="9340560"/>
          </a:xfrm>
        </p:grpSpPr>
        <p:sp>
          <p:nvSpPr>
            <p:cNvPr id="542" name=""/>
            <p:cNvSpPr/>
            <p:nvPr/>
          </p:nvSpPr>
          <p:spPr>
            <a:xfrm flipH="1" rot="21558600">
              <a:off x="-533520" y="3276360"/>
              <a:ext cx="7653600" cy="129672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16083000">
              <a:off x="4253400" y="576720"/>
              <a:ext cx="9168120" cy="521964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4427640" y="1700280"/>
              <a:ext cx="125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3708360" y="5638680"/>
              <a:ext cx="1251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4499280" y="2852640"/>
              <a:ext cx="102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useho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8960" y="6553080"/>
              <a:ext cx="214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pital Harbor Househo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24000" y="1268280"/>
              <a:ext cx="1752480" cy="914400"/>
              <a:chOff x="324000" y="1268280"/>
              <a:chExt cx="1752480" cy="914400"/>
            </a:xfrm>
          </p:grpSpPr>
          <p:sp>
            <p:nvSpPr>
              <p:cNvPr id="549" name=""/>
              <p:cNvSpPr/>
              <p:nvPr/>
            </p:nvSpPr>
            <p:spPr>
              <a:xfrm>
                <a:off x="324000" y="1268280"/>
                <a:ext cx="1752480" cy="9144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6640" y="1268280"/>
                <a:ext cx="58248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1" name=""/>
            <p:cNvGrpSpPr/>
            <p:nvPr/>
          </p:nvGrpSpPr>
          <p:grpSpPr>
            <a:xfrm>
              <a:off x="179280" y="5300640"/>
              <a:ext cx="1752840" cy="914400"/>
              <a:chOff x="179280" y="5300640"/>
              <a:chExt cx="1752840" cy="914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5300640"/>
                <a:ext cx="1752840" cy="9144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22280" y="5300640"/>
                <a:ext cx="582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3059280" y="0"/>
              <a:ext cx="60768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771640" y="4365720"/>
              <a:ext cx="73980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"/>
            <p:cNvGrpSpPr/>
            <p:nvPr/>
          </p:nvGrpSpPr>
          <p:grpSpPr>
            <a:xfrm>
              <a:off x="6439320" y="736560"/>
              <a:ext cx="874080" cy="801360"/>
              <a:chOff x="6439320" y="736560"/>
              <a:chExt cx="874080" cy="80136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6685560" y="73656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649920" y="79092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552360" y="1061280"/>
                <a:ext cx="67392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645600" y="1069560"/>
                <a:ext cx="60084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700320" y="1007280"/>
                <a:ext cx="56736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482520" y="86148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666840" y="88848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52000" y="1094760"/>
                <a:ext cx="61740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56240" y="1123920"/>
                <a:ext cx="46728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509880" y="96444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552360" y="100080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12640" y="1287000"/>
                <a:ext cx="15660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806880" y="128700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585480" y="100512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39480" y="822240"/>
                <a:ext cx="66384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99880" y="11433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739560" y="105192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883560" y="128700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006320" y="126936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566400" y="110844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438960" y="95832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6468480" y="114876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493680" y="95652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512400" y="96768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7036560" y="126504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696000" y="98316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643080" y="107496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556680" y="109260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846120" y="964440"/>
                <a:ext cx="45072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850080" y="85536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6879600" y="88668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906600" y="88236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6926040" y="87840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873120" y="938520"/>
                <a:ext cx="43380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00320" y="92484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569280" y="80856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917040" y="109656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019640" y="88020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119720" y="86688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7163640" y="95436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852600" y="111240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074000" y="93852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967440" y="90036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119720" y="90936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186320" y="99684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192800" y="10458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752520" y="92304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662520" y="89064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929640" y="111960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699600" y="1007280"/>
                <a:ext cx="56340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829200" y="10072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6875640" y="90936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034040" y="11084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969960" y="110844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883920" y="93564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890040" y="96264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883920" y="90432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6883200" y="128304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046640" y="128088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967080" y="127584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869880" y="87840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846120" y="85104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700320" y="980280"/>
                <a:ext cx="56736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712920" y="103428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693480" y="919800"/>
                <a:ext cx="6696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579360" y="85752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02640" y="92916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902640" y="954360"/>
                <a:ext cx="36072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645960" y="80424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6919560" y="102276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629400" y="82836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7100640" y="117576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545880" y="105696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7006680" y="1199880"/>
                <a:ext cx="21312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796440" y="111960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545520" y="99684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869160" y="113112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568560" y="888480"/>
                <a:ext cx="11412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007040" y="84384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900480" y="82620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800400" y="82008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063200" y="83052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6593040" y="1166400"/>
                <a:ext cx="7308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953040" y="134964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6552000" y="116856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619320" y="112608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860880" y="130284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7073640" y="111744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666840" y="134100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666480" y="133920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693480" y="136512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618960" y="145476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6579720" y="142344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5791320" y="2743200"/>
              <a:ext cx="8492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5292720" y="4581360"/>
              <a:ext cx="111132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4500720" y="836640"/>
              <a:ext cx="637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flipV="1">
              <a:off x="1042920" y="476280"/>
              <a:ext cx="2089080" cy="792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08360" y="476280"/>
              <a:ext cx="2808360" cy="360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72000" y="53352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24000" y="1125360"/>
              <a:ext cx="2303640" cy="216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3720" y="1752480"/>
              <a:ext cx="2367000" cy="236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908000" y="5084640"/>
              <a:ext cx="3456000" cy="432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403280" y="4797360"/>
              <a:ext cx="1368360" cy="503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79640" y="5877000"/>
              <a:ext cx="1728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48360" y="1052640"/>
              <a:ext cx="1224000" cy="144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3319560"/>
              <a:ext cx="1066680" cy="33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724360" y="1483920"/>
              <a:ext cx="719280" cy="546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57600" y="380880"/>
              <a:ext cx="4464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03640" y="6308640"/>
              <a:ext cx="1224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56360" y="5373720"/>
              <a:ext cx="576360" cy="576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12000" y="6381720"/>
              <a:ext cx="2232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08720" y="1125360"/>
              <a:ext cx="1079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35640" y="981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96360" y="981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8360" y="6165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56360" y="551664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28000" y="623736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67280" y="1700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4320" y="32004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16360" y="1197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35280" y="765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3880" y="2133720"/>
              <a:ext cx="4248360" cy="1295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87640" y="2708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03640" y="177336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40000" y="5661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03640" y="5157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79640" y="4869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64000" y="4724280"/>
              <a:ext cx="3024000" cy="1368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80000" y="4653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08720" y="5661000"/>
              <a:ext cx="2133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367680" y="6011640"/>
              <a:ext cx="874080" cy="801360"/>
              <a:chOff x="6367680" y="6011640"/>
              <a:chExt cx="874080" cy="801360"/>
            </a:xfrm>
          </p:grpSpPr>
          <p:sp>
            <p:nvSpPr>
              <p:cNvPr id="688" name=""/>
              <p:cNvSpPr/>
              <p:nvPr/>
            </p:nvSpPr>
            <p:spPr>
              <a:xfrm flipH="1">
                <a:off x="6613920" y="601164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578280" y="606600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6480720" y="6336720"/>
                <a:ext cx="673920" cy="34452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573960" y="6345000"/>
                <a:ext cx="60084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28680" y="6282360"/>
                <a:ext cx="56736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410880" y="613656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595200" y="616392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80360" y="6369840"/>
                <a:ext cx="617400" cy="33408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384600" y="6399000"/>
                <a:ext cx="46728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438240" y="623988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480720" y="627624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741000" y="6562440"/>
                <a:ext cx="15660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735240" y="656244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513840" y="628056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567840" y="6097320"/>
                <a:ext cx="663840" cy="27468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528240" y="641880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67920" y="632700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811920" y="656244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934680" y="6544800"/>
                <a:ext cx="50040" cy="5616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494760" y="6383520"/>
                <a:ext cx="373320" cy="32256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367320" y="6233760"/>
                <a:ext cx="133560" cy="19872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396840" y="642420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422040" y="623160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440760" y="624276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6964920" y="654048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624360" y="625860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71440" y="635004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485040" y="636768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6774480" y="6239880"/>
                <a:ext cx="45072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778440" y="613044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807960" y="616176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834960" y="615780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854400" y="615348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801480" y="6213960"/>
                <a:ext cx="43380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628680" y="620028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497640" y="608364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845400" y="637200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948000" y="615564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048080" y="614196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092000" y="622944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780960" y="638748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02360" y="621396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895800" y="61754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048080" y="618444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114680" y="627228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21160" y="632088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80880" y="619812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590880" y="616608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858000" y="639504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6627960" y="6282360"/>
                <a:ext cx="56340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757560" y="628236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804000" y="618444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6962400" y="63835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898320" y="638352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6812280" y="621072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818400" y="623772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12280" y="617940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11560" y="655812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975000" y="655632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95440" y="655128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798240" y="615348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774480" y="612612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628680" y="6255360"/>
                <a:ext cx="56736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1280" y="630936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6621840" y="6194880"/>
                <a:ext cx="6696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6507720" y="613260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831000" y="620424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831000" y="6229440"/>
                <a:ext cx="36072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574320" y="607968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847920" y="629820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557760" y="6103440"/>
                <a:ext cx="216720" cy="5616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9000" y="645120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474240" y="633240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935040" y="6474960"/>
                <a:ext cx="21312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724800" y="639504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473880" y="6272280"/>
                <a:ext cx="50040" cy="14040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797520" y="640656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496920" y="6163920"/>
                <a:ext cx="11412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935400" y="611892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6828840" y="610164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6728760" y="60951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991560" y="610560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521400" y="6441840"/>
                <a:ext cx="7308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881400" y="662508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480360" y="644364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6547680" y="640116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6789240" y="6577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02000" y="639288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595200" y="661644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594840" y="661464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621840" y="66405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547320" y="672984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508080" y="669888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010280" y="549360"/>
              <a:ext cx="2133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5640" y="189000"/>
              <a:ext cx="226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nufacturing ISIC 10-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3640" y="4508640"/>
              <a:ext cx="2952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ommodation and food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03280" y="4292640"/>
              <a:ext cx="212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blic Administ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05720" y="2666880"/>
              <a:ext cx="1403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ater 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56000" y="1268280"/>
              <a:ext cx="237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uter programm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79280" y="333360"/>
              <a:ext cx="2880000" cy="358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9280" y="692280"/>
              <a:ext cx="71640" cy="2952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2708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7200" y="4343400"/>
              <a:ext cx="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143000" y="2209680"/>
              <a:ext cx="0" cy="1371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4400" y="29718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" y="4572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657240" y="228600"/>
              <a:ext cx="3809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72200" y="30492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48320" y="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7800" y="0"/>
              <a:ext cx="2133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salinise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00400" y="640080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62485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81280" y="22096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86720" y="624852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4800" y="220968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Harbor – Physical use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0" y="1747800"/>
          <a:ext cx="91281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7800"/>
                    <a:ext cx="91281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Harbor – Physical supply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0" y="1909800"/>
          <a:ext cx="91551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9800"/>
                    <a:ext cx="91551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 c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la 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w T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pital Harbo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 Cola we have a diagram of flows as well as completed supply and use tab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 Cow Town and Capital Harbor we have a diagram and need to populate the supply and use tab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a 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 city with only one water source – the Soda Riv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 simple econom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ft drink manufacture (ISIC 11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lectricity (ISIC 35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ansport (ISIC 49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4920" y="52912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oda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2057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Supply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IC 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648320"/>
            <a:ext cx="0" cy="76176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4038120"/>
            <a:ext cx="0" cy="1676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80880"/>
            <a:ext cx="1218960" cy="761760"/>
            <a:chOff x="914400" y="380880"/>
            <a:chExt cx="1218960" cy="761760"/>
          </a:xfrm>
        </p:grpSpPr>
        <p:sp>
          <p:nvSpPr>
            <p:cNvPr id="96" name=""/>
            <p:cNvSpPr/>
            <p:nvPr/>
          </p:nvSpPr>
          <p:spPr>
            <a:xfrm>
              <a:off x="1190160" y="499680"/>
              <a:ext cx="383040" cy="48600"/>
            </a:xfrm>
            <a:custGeom>
              <a:avLst/>
              <a:gdLst/>
              <a:ahLst/>
              <a:rect l="l" t="t" r="r" b="b"/>
              <a:pathLst>
                <a:path w="189" h="41">
                  <a:moveTo>
                    <a:pt x="140" y="41"/>
                  </a:moveTo>
                  <a:lnTo>
                    <a:pt x="189" y="19"/>
                  </a:lnTo>
                  <a:lnTo>
                    <a:pt x="53" y="0"/>
                  </a:lnTo>
                  <a:lnTo>
                    <a:pt x="0" y="23"/>
                  </a:lnTo>
                  <a:lnTo>
                    <a:pt x="140" y="41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0680" y="427320"/>
              <a:ext cx="316440" cy="2376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10"/>
                  </a:moveTo>
                  <a:lnTo>
                    <a:pt x="122" y="20"/>
                  </a:lnTo>
                  <a:lnTo>
                    <a:pt x="156" y="11"/>
                  </a:lnTo>
                  <a:lnTo>
                    <a:pt x="3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8000" y="440280"/>
              <a:ext cx="70560" cy="986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9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8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8520" y="439200"/>
              <a:ext cx="249120" cy="9972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" y="0"/>
                  </a:moveTo>
                  <a:lnTo>
                    <a:pt x="123" y="10"/>
                  </a:lnTo>
                  <a:lnTo>
                    <a:pt x="123" y="84"/>
                  </a:lnTo>
                  <a:lnTo>
                    <a:pt x="0" y="6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4200" y="522360"/>
              <a:ext cx="99360" cy="246240"/>
            </a:xfrm>
            <a:custGeom>
              <a:avLst/>
              <a:gdLst/>
              <a:ahLst/>
              <a:rect l="l" t="t" r="r" b="b"/>
              <a:pathLst>
                <a:path w="49" h="207">
                  <a:moveTo>
                    <a:pt x="49" y="0"/>
                  </a:moveTo>
                  <a:lnTo>
                    <a:pt x="0" y="22"/>
                  </a:lnTo>
                  <a:lnTo>
                    <a:pt x="0" y="207"/>
                  </a:lnTo>
                  <a:lnTo>
                    <a:pt x="49" y="18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0160" y="525960"/>
              <a:ext cx="283680" cy="24264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0"/>
                  </a:moveTo>
                  <a:lnTo>
                    <a:pt x="140" y="19"/>
                  </a:lnTo>
                  <a:lnTo>
                    <a:pt x="140" y="204"/>
                  </a:lnTo>
                  <a:lnTo>
                    <a:pt x="0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42440"/>
              <a:ext cx="38520" cy="93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2"/>
                  </a:lnTo>
                  <a:lnTo>
                    <a:pt x="19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69360" y="45792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0120" y="447480"/>
              <a:ext cx="36720" cy="936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8" y="2"/>
                  </a:lnTo>
                  <a:lnTo>
                    <a:pt x="18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4840" y="45108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4840" y="46404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0120" y="4770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49392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23440" y="55224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5240" y="5796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8680" y="516600"/>
              <a:ext cx="468720" cy="92520"/>
            </a:xfrm>
            <a:custGeom>
              <a:avLst/>
              <a:gdLst/>
              <a:ahLst/>
              <a:rect l="l" t="t" r="r" b="b"/>
              <a:pathLst>
                <a:path w="231" h="78">
                  <a:moveTo>
                    <a:pt x="0" y="57"/>
                  </a:moveTo>
                  <a:lnTo>
                    <a:pt x="130" y="78"/>
                  </a:lnTo>
                  <a:lnTo>
                    <a:pt x="231" y="15"/>
                  </a:lnTo>
                  <a:lnTo>
                    <a:pt x="10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1680" y="439200"/>
              <a:ext cx="196560" cy="1558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97" y="7"/>
                  </a:lnTo>
                  <a:lnTo>
                    <a:pt x="97" y="131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4280" y="414000"/>
              <a:ext cx="168120" cy="17964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0" y="28"/>
                  </a:moveTo>
                  <a:lnTo>
                    <a:pt x="0" y="151"/>
                  </a:lnTo>
                  <a:lnTo>
                    <a:pt x="83" y="101"/>
                  </a:lnTo>
                  <a:lnTo>
                    <a:pt x="8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1680" y="406800"/>
              <a:ext cx="361080" cy="40320"/>
            </a:xfrm>
            <a:custGeom>
              <a:avLst/>
              <a:gdLst/>
              <a:ahLst/>
              <a:rect l="l" t="t" r="r" b="b"/>
              <a:pathLst>
                <a:path w="178" h="34">
                  <a:moveTo>
                    <a:pt x="0" y="27"/>
                  </a:moveTo>
                  <a:lnTo>
                    <a:pt x="95" y="34"/>
                  </a:lnTo>
                  <a:lnTo>
                    <a:pt x="178" y="6"/>
                  </a:lnTo>
                  <a:lnTo>
                    <a:pt x="9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8120" y="380880"/>
              <a:ext cx="263880" cy="23760"/>
            </a:xfrm>
            <a:custGeom>
              <a:avLst/>
              <a:gdLst/>
              <a:ahLst/>
              <a:rect l="l" t="t" r="r" b="b"/>
              <a:pathLst>
                <a:path w="130" h="20">
                  <a:moveTo>
                    <a:pt x="0" y="16"/>
                  </a:moveTo>
                  <a:lnTo>
                    <a:pt x="69" y="20"/>
                  </a:lnTo>
                  <a:lnTo>
                    <a:pt x="130" y="4"/>
                  </a:lnTo>
                  <a:lnTo>
                    <a:pt x="6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8120" y="399600"/>
              <a:ext cx="137880" cy="367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0" y="0"/>
                  </a:moveTo>
                  <a:lnTo>
                    <a:pt x="68" y="4"/>
                  </a:lnTo>
                  <a:lnTo>
                    <a:pt x="68" y="31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6000" y="385200"/>
              <a:ext cx="126000" cy="5112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16"/>
                  </a:moveTo>
                  <a:lnTo>
                    <a:pt x="0" y="4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0400" y="534240"/>
              <a:ext cx="207000" cy="323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102" y="0"/>
                  </a:moveTo>
                  <a:lnTo>
                    <a:pt x="1" y="63"/>
                  </a:lnTo>
                  <a:lnTo>
                    <a:pt x="0" y="272"/>
                  </a:lnTo>
                  <a:lnTo>
                    <a:pt x="102" y="19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4360" y="584280"/>
              <a:ext cx="268200" cy="27360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2" y="0"/>
                  </a:moveTo>
                  <a:lnTo>
                    <a:pt x="132" y="21"/>
                  </a:lnTo>
                  <a:lnTo>
                    <a:pt x="132" y="230"/>
                  </a:lnTo>
                  <a:lnTo>
                    <a:pt x="0" y="19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5720" y="44388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8200" y="446040"/>
              <a:ext cx="3240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61040" y="448560"/>
              <a:ext cx="32400" cy="378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0"/>
                  </a:moveTo>
                  <a:lnTo>
                    <a:pt x="16" y="1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450000"/>
              <a:ext cx="32040" cy="388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6" y="2"/>
                  </a:lnTo>
                  <a:lnTo>
                    <a:pt x="16" y="33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3560" y="4867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7" y="2"/>
                  </a:lnTo>
                  <a:lnTo>
                    <a:pt x="17" y="32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6400" y="4903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0"/>
                  </a:moveTo>
                  <a:lnTo>
                    <a:pt x="17" y="3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59240" y="493920"/>
              <a:ext cx="34200" cy="367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lnTo>
                    <a:pt x="17" y="2"/>
                  </a:lnTo>
                  <a:lnTo>
                    <a:pt x="16" y="31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3880" y="49752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2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5720" y="5986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30440" y="603360"/>
              <a:ext cx="4212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1" y="4"/>
                  </a:lnTo>
                  <a:lnTo>
                    <a:pt x="21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3360" y="60912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320" y="593640"/>
              <a:ext cx="44280" cy="165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0"/>
                  </a:moveTo>
                  <a:lnTo>
                    <a:pt x="22" y="3"/>
                  </a:lnTo>
                  <a:lnTo>
                    <a:pt x="22" y="1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5720" y="61740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0440" y="623520"/>
              <a:ext cx="42120" cy="18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21" y="3"/>
                  </a:lnTo>
                  <a:lnTo>
                    <a:pt x="2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3360" y="62928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320" y="6130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3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1920" y="566640"/>
              <a:ext cx="194400" cy="367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0" y="25"/>
                  </a:moveTo>
                  <a:lnTo>
                    <a:pt x="59" y="31"/>
                  </a:lnTo>
                  <a:lnTo>
                    <a:pt x="96" y="5"/>
                  </a:lnTo>
                  <a:lnTo>
                    <a:pt x="4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569880"/>
              <a:ext cx="83160" cy="2700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41" y="4"/>
                  </a:lnTo>
                  <a:lnTo>
                    <a:pt x="41" y="23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5680" y="555840"/>
              <a:ext cx="54720" cy="41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6"/>
                  </a:moveTo>
                  <a:lnTo>
                    <a:pt x="0" y="35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92520" y="552240"/>
              <a:ext cx="137880" cy="2268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0" y="15"/>
                  </a:moveTo>
                  <a:lnTo>
                    <a:pt x="41" y="19"/>
                  </a:lnTo>
                  <a:lnTo>
                    <a:pt x="68" y="3"/>
                  </a:lnTo>
                  <a:lnTo>
                    <a:pt x="2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1920" y="596160"/>
              <a:ext cx="119520" cy="148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6"/>
                  </a:lnTo>
                  <a:lnTo>
                    <a:pt x="59" y="125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440" y="572400"/>
              <a:ext cx="74880" cy="1724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26"/>
                  </a:moveTo>
                  <a:lnTo>
                    <a:pt x="37" y="0"/>
                  </a:lnTo>
                  <a:lnTo>
                    <a:pt x="37" y="111"/>
                  </a:lnTo>
                  <a:lnTo>
                    <a:pt x="0" y="14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9280" y="704520"/>
              <a:ext cx="154080" cy="12384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38" y="0"/>
                  </a:moveTo>
                  <a:lnTo>
                    <a:pt x="0" y="34"/>
                  </a:lnTo>
                  <a:lnTo>
                    <a:pt x="14" y="104"/>
                  </a:lnTo>
                  <a:lnTo>
                    <a:pt x="76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8920" y="730800"/>
              <a:ext cx="208800" cy="975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30" y="0"/>
                  </a:moveTo>
                  <a:lnTo>
                    <a:pt x="89" y="12"/>
                  </a:lnTo>
                  <a:lnTo>
                    <a:pt x="103" y="82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7720" y="749880"/>
              <a:ext cx="123480" cy="234360"/>
            </a:xfrm>
            <a:custGeom>
              <a:avLst/>
              <a:gdLst/>
              <a:ahLst/>
              <a:rect l="l" t="t" r="r" b="b"/>
              <a:pathLst>
                <a:path w="61" h="197">
                  <a:moveTo>
                    <a:pt x="0" y="66"/>
                  </a:moveTo>
                  <a:lnTo>
                    <a:pt x="61" y="0"/>
                  </a:lnTo>
                  <a:lnTo>
                    <a:pt x="61" y="107"/>
                  </a:lnTo>
                  <a:lnTo>
                    <a:pt x="0" y="19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8920" y="799920"/>
              <a:ext cx="208800" cy="1846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0" y="0"/>
                  </a:moveTo>
                  <a:lnTo>
                    <a:pt x="103" y="23"/>
                  </a:lnTo>
                  <a:lnTo>
                    <a:pt x="103" y="155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3800" y="60228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360" y="6044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4720" y="60804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800" y="6332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360" y="6368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4720" y="64044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800" y="66420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8360" y="66888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4720" y="67248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491400"/>
              <a:ext cx="498960" cy="58320"/>
            </a:xfrm>
            <a:custGeom>
              <a:avLst/>
              <a:gdLst/>
              <a:ahLst/>
              <a:rect l="l" t="t" r="r" b="b"/>
              <a:pathLst>
                <a:path w="246" h="49">
                  <a:moveTo>
                    <a:pt x="0" y="29"/>
                  </a:moveTo>
                  <a:lnTo>
                    <a:pt x="140" y="49"/>
                  </a:lnTo>
                  <a:lnTo>
                    <a:pt x="246" y="14"/>
                  </a:lnTo>
                  <a:lnTo>
                    <a:pt x="11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524520"/>
              <a:ext cx="284040" cy="4644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0"/>
                  </a:moveTo>
                  <a:lnTo>
                    <a:pt x="140" y="21"/>
                  </a:lnTo>
                  <a:lnTo>
                    <a:pt x="140" y="390"/>
                  </a:lnTo>
                  <a:lnTo>
                    <a:pt x="111" y="381"/>
                  </a:lnTo>
                  <a:lnTo>
                    <a:pt x="111" y="334"/>
                  </a:lnTo>
                  <a:lnTo>
                    <a:pt x="71" y="321"/>
                  </a:lnTo>
                  <a:lnTo>
                    <a:pt x="71" y="363"/>
                  </a:lnTo>
                  <a:lnTo>
                    <a:pt x="49" y="354"/>
                  </a:lnTo>
                  <a:lnTo>
                    <a:pt x="49" y="313"/>
                  </a:lnTo>
                  <a:lnTo>
                    <a:pt x="18" y="300"/>
                  </a:lnTo>
                  <a:lnTo>
                    <a:pt x="18" y="342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8440" y="508320"/>
              <a:ext cx="214560" cy="480960"/>
            </a:xfrm>
            <a:custGeom>
              <a:avLst/>
              <a:gdLst/>
              <a:ahLst/>
              <a:rect l="l" t="t" r="r" b="b"/>
              <a:pathLst>
                <a:path w="106" h="404">
                  <a:moveTo>
                    <a:pt x="0" y="34"/>
                  </a:moveTo>
                  <a:lnTo>
                    <a:pt x="105" y="0"/>
                  </a:lnTo>
                  <a:lnTo>
                    <a:pt x="106" y="312"/>
                  </a:lnTo>
                  <a:lnTo>
                    <a:pt x="0" y="40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0" y="9154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400" y="905760"/>
              <a:ext cx="48600" cy="51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43"/>
                  </a:lnTo>
                  <a:lnTo>
                    <a:pt x="24" y="30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7560" y="8902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8600" y="880920"/>
              <a:ext cx="486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0" y="44"/>
                  </a:lnTo>
                  <a:lnTo>
                    <a:pt x="24" y="31"/>
                  </a:lnTo>
                  <a:lnTo>
                    <a:pt x="2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34560" y="536400"/>
              <a:ext cx="231120" cy="36540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114" y="17"/>
                  </a:lnTo>
                  <a:lnTo>
                    <a:pt x="114" y="307"/>
                  </a:lnTo>
                  <a:lnTo>
                    <a:pt x="1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6640" y="810720"/>
              <a:ext cx="253440" cy="439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4480" y="764280"/>
              <a:ext cx="253800" cy="378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717840"/>
              <a:ext cx="249480" cy="331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6640" y="667800"/>
              <a:ext cx="249120" cy="30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2760" y="621360"/>
              <a:ext cx="243360" cy="248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4480" y="577080"/>
              <a:ext cx="249480" cy="21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3160" y="535320"/>
              <a:ext cx="0" cy="3344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200" y="541440"/>
              <a:ext cx="0" cy="3427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2680" y="547200"/>
              <a:ext cx="0" cy="34776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880" y="460440"/>
              <a:ext cx="298080" cy="29880"/>
            </a:xfrm>
            <a:custGeom>
              <a:avLst/>
              <a:gdLst/>
              <a:ahLst/>
              <a:rect l="l" t="t" r="r" b="b"/>
              <a:pathLst>
                <a:path w="147" h="25">
                  <a:moveTo>
                    <a:pt x="0" y="16"/>
                  </a:moveTo>
                  <a:lnTo>
                    <a:pt x="86" y="25"/>
                  </a:lnTo>
                  <a:lnTo>
                    <a:pt x="147" y="8"/>
                  </a:lnTo>
                  <a:lnTo>
                    <a:pt x="6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4480" y="470160"/>
              <a:ext cx="121320" cy="640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17"/>
                  </a:moveTo>
                  <a:lnTo>
                    <a:pt x="60" y="0"/>
                  </a:lnTo>
                  <a:lnTo>
                    <a:pt x="60" y="34"/>
                  </a:lnTo>
                  <a:lnTo>
                    <a:pt x="0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9880" y="479520"/>
              <a:ext cx="174240" cy="5472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9"/>
                  </a:moveTo>
                  <a:lnTo>
                    <a:pt x="86" y="4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4000" y="488880"/>
              <a:ext cx="99720" cy="1296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0"/>
                  </a:moveTo>
                  <a:lnTo>
                    <a:pt x="49" y="4"/>
                  </a:lnTo>
                  <a:lnTo>
                    <a:pt x="49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40920" y="634320"/>
              <a:ext cx="476640" cy="11556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0" y="71"/>
                  </a:moveTo>
                  <a:lnTo>
                    <a:pt x="113" y="97"/>
                  </a:lnTo>
                  <a:lnTo>
                    <a:pt x="235" y="18"/>
                  </a:lnTo>
                  <a:lnTo>
                    <a:pt x="137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40920" y="718920"/>
              <a:ext cx="229320" cy="331920"/>
            </a:xfrm>
            <a:custGeom>
              <a:avLst/>
              <a:gdLst/>
              <a:ahLst/>
              <a:rect l="l" t="t" r="r" b="b"/>
              <a:pathLst>
                <a:path w="113" h="279">
                  <a:moveTo>
                    <a:pt x="0" y="0"/>
                  </a:moveTo>
                  <a:lnTo>
                    <a:pt x="113" y="25"/>
                  </a:lnTo>
                  <a:lnTo>
                    <a:pt x="113" y="279"/>
                  </a:lnTo>
                  <a:lnTo>
                    <a:pt x="0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70600" y="655560"/>
              <a:ext cx="245160" cy="395280"/>
            </a:xfrm>
            <a:custGeom>
              <a:avLst/>
              <a:gdLst/>
              <a:ahLst/>
              <a:rect l="l" t="t" r="r" b="b"/>
              <a:pathLst>
                <a:path w="121" h="332">
                  <a:moveTo>
                    <a:pt x="0" y="79"/>
                  </a:moveTo>
                  <a:lnTo>
                    <a:pt x="0" y="332"/>
                  </a:lnTo>
                  <a:lnTo>
                    <a:pt x="121" y="212"/>
                  </a:lnTo>
                  <a:lnTo>
                    <a:pt x="121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627120"/>
              <a:ext cx="362880" cy="86760"/>
            </a:xfrm>
            <a:custGeom>
              <a:avLst/>
              <a:gdLst/>
              <a:ahLst/>
              <a:rect l="l" t="t" r="r" b="b"/>
              <a:pathLst>
                <a:path w="179" h="73">
                  <a:moveTo>
                    <a:pt x="0" y="55"/>
                  </a:moveTo>
                  <a:lnTo>
                    <a:pt x="82" y="73"/>
                  </a:lnTo>
                  <a:lnTo>
                    <a:pt x="179" y="12"/>
                  </a:lnTo>
                  <a:lnTo>
                    <a:pt x="10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4120" y="642600"/>
              <a:ext cx="198720" cy="903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6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0" y="7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9600" y="692640"/>
              <a:ext cx="164160" cy="3924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81" y="18"/>
                  </a:moveTo>
                  <a:lnTo>
                    <a:pt x="81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3160" y="729720"/>
              <a:ext cx="204480" cy="3070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0"/>
                  </a:moveTo>
                  <a:lnTo>
                    <a:pt x="101" y="23"/>
                  </a:lnTo>
                  <a:lnTo>
                    <a:pt x="101" y="258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240" y="733320"/>
              <a:ext cx="22320" cy="27252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225"/>
                  </a:lnTo>
                  <a:lnTo>
                    <a:pt x="11" y="229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8480" y="739080"/>
              <a:ext cx="21960" cy="277560"/>
            </a:xfrm>
            <a:custGeom>
              <a:avLst/>
              <a:gdLst/>
              <a:ahLst/>
              <a:rect l="l" t="t" r="r" b="b"/>
              <a:pathLst>
                <a:path w="11" h="233">
                  <a:moveTo>
                    <a:pt x="0" y="0"/>
                  </a:moveTo>
                  <a:lnTo>
                    <a:pt x="0" y="229"/>
                  </a:lnTo>
                  <a:lnTo>
                    <a:pt x="11" y="233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9320" y="748440"/>
              <a:ext cx="22320" cy="280080"/>
            </a:xfrm>
            <a:custGeom>
              <a:avLst/>
              <a:gdLst/>
              <a:ahLst/>
              <a:rect l="l" t="t" r="r" b="b"/>
              <a:pathLst>
                <a:path w="11" h="235">
                  <a:moveTo>
                    <a:pt x="0" y="0"/>
                  </a:moveTo>
                  <a:lnTo>
                    <a:pt x="0" y="230"/>
                  </a:lnTo>
                  <a:lnTo>
                    <a:pt x="11" y="23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360" y="1066680"/>
              <a:ext cx="220680" cy="759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0"/>
                  </a:moveTo>
                  <a:lnTo>
                    <a:pt x="0" y="19"/>
                  </a:lnTo>
                  <a:lnTo>
                    <a:pt x="109" y="64"/>
                  </a:lnTo>
                  <a:lnTo>
                    <a:pt x="10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1400" y="1021320"/>
              <a:ext cx="123480" cy="121320"/>
            </a:xfrm>
            <a:custGeom>
              <a:avLst/>
              <a:gdLst/>
              <a:ahLst/>
              <a:rect l="l" t="t" r="r" b="b"/>
              <a:pathLst>
                <a:path w="61" h="102">
                  <a:moveTo>
                    <a:pt x="0" y="82"/>
                  </a:moveTo>
                  <a:lnTo>
                    <a:pt x="0" y="102"/>
                  </a:lnTo>
                  <a:lnTo>
                    <a:pt x="61" y="16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1760" y="939240"/>
              <a:ext cx="442080" cy="186840"/>
            </a:xfrm>
            <a:custGeom>
              <a:avLst/>
              <a:gdLst/>
              <a:ahLst/>
              <a:rect l="l" t="t" r="r" b="b"/>
              <a:pathLst>
                <a:path w="218" h="157">
                  <a:moveTo>
                    <a:pt x="0" y="99"/>
                  </a:moveTo>
                  <a:lnTo>
                    <a:pt x="145" y="157"/>
                  </a:lnTo>
                  <a:lnTo>
                    <a:pt x="218" y="54"/>
                  </a:lnTo>
                  <a:lnTo>
                    <a:pt x="79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0280" y="823680"/>
              <a:ext cx="351000" cy="10584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14" y="89"/>
                  </a:moveTo>
                  <a:lnTo>
                    <a:pt x="173" y="3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14" y="89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6680" y="649800"/>
              <a:ext cx="121680" cy="1238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14" y="104"/>
                  </a:lnTo>
                  <a:lnTo>
                    <a:pt x="6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81200" y="648720"/>
              <a:ext cx="133560" cy="124920"/>
            </a:xfrm>
            <a:custGeom>
              <a:avLst/>
              <a:gdLst/>
              <a:ahLst/>
              <a:rect l="l" t="t" r="r" b="b"/>
              <a:pathLst>
                <a:path w="66" h="105">
                  <a:moveTo>
                    <a:pt x="52" y="0"/>
                  </a:moveTo>
                  <a:lnTo>
                    <a:pt x="66" y="105"/>
                  </a:lnTo>
                  <a:lnTo>
                    <a:pt x="0" y="9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1200" y="760680"/>
              <a:ext cx="133560" cy="151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0"/>
                  </a:moveTo>
                  <a:lnTo>
                    <a:pt x="66" y="11"/>
                  </a:lnTo>
                  <a:lnTo>
                    <a:pt x="66" y="127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15120" y="732240"/>
              <a:ext cx="91440" cy="18072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35"/>
                  </a:moveTo>
                  <a:lnTo>
                    <a:pt x="45" y="0"/>
                  </a:lnTo>
                  <a:lnTo>
                    <a:pt x="45" y="109"/>
                  </a:lnTo>
                  <a:lnTo>
                    <a:pt x="0" y="1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10280" y="891720"/>
              <a:ext cx="228960" cy="2034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0"/>
                  </a:moveTo>
                  <a:lnTo>
                    <a:pt x="113" y="32"/>
                  </a:lnTo>
                  <a:lnTo>
                    <a:pt x="113" y="171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9600" y="859680"/>
              <a:ext cx="121680" cy="235440"/>
            </a:xfrm>
            <a:custGeom>
              <a:avLst/>
              <a:gdLst/>
              <a:ahLst/>
              <a:rect l="l" t="t" r="r" b="b"/>
              <a:pathLst>
                <a:path w="60" h="198">
                  <a:moveTo>
                    <a:pt x="0" y="59"/>
                  </a:moveTo>
                  <a:lnTo>
                    <a:pt x="60" y="0"/>
                  </a:lnTo>
                  <a:lnTo>
                    <a:pt x="60" y="118"/>
                  </a:lnTo>
                  <a:lnTo>
                    <a:pt x="0" y="19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120" y="776160"/>
              <a:ext cx="18360" cy="4284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27" y="123"/>
                  </a:moveTo>
                  <a:cubicBezTo>
                    <a:pt x="27" y="120"/>
                    <a:pt x="28" y="117"/>
                    <a:pt x="28" y="114"/>
                  </a:cubicBezTo>
                  <a:cubicBezTo>
                    <a:pt x="28" y="53"/>
                    <a:pt x="16" y="3"/>
                    <a:pt x="2" y="0"/>
                  </a:cubicBezTo>
                  <a:lnTo>
                    <a:pt x="0" y="114"/>
                  </a:lnTo>
                  <a:lnTo>
                    <a:pt x="27" y="123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1520" y="774720"/>
              <a:ext cx="18360" cy="39240"/>
            </a:xfrm>
            <a:custGeom>
              <a:avLst/>
              <a:gdLst/>
              <a:ahLst/>
              <a:rect l="l" t="t" r="r" b="b"/>
              <a:pathLst>
                <a:path w="27" h="115">
                  <a:moveTo>
                    <a:pt x="27" y="1"/>
                  </a:moveTo>
                  <a:cubicBezTo>
                    <a:pt x="26" y="1"/>
                    <a:pt x="26" y="1"/>
                    <a:pt x="25" y="1"/>
                  </a:cubicBezTo>
                  <a:cubicBezTo>
                    <a:pt x="12" y="0"/>
                    <a:pt x="1" y="46"/>
                    <a:pt x="0" y="105"/>
                  </a:cubicBezTo>
                  <a:lnTo>
                    <a:pt x="25" y="115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24040" y="817560"/>
              <a:ext cx="15840" cy="356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0" y="0"/>
                  </a:moveTo>
                  <a:lnTo>
                    <a:pt x="0" y="27"/>
                  </a:lnTo>
                  <a:lnTo>
                    <a:pt x="8" y="30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4280" y="822600"/>
              <a:ext cx="14040" cy="356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0" y="27"/>
                  </a:lnTo>
                  <a:lnTo>
                    <a:pt x="7" y="3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4920" y="978480"/>
              <a:ext cx="139680" cy="820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0"/>
                  </a:moveTo>
                  <a:lnTo>
                    <a:pt x="0" y="43"/>
                  </a:lnTo>
                  <a:lnTo>
                    <a:pt x="69" y="69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56720" y="934560"/>
              <a:ext cx="131760" cy="619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0" y="0"/>
                  </a:moveTo>
                  <a:lnTo>
                    <a:pt x="0" y="30"/>
                  </a:lnTo>
                  <a:lnTo>
                    <a:pt x="65" y="52"/>
                  </a:lnTo>
                  <a:lnTo>
                    <a:pt x="65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990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a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1066320"/>
            <a:ext cx="0" cy="20574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733920"/>
            <a:ext cx="1676520" cy="0"/>
          </a:xfrm>
          <a:prstGeom prst="line">
            <a:avLst/>
          </a:prstGeom>
          <a:ln w="82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33920" y="129528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59092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ft Drink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5400000">
            <a:off x="2381760" y="1427400"/>
            <a:ext cx="1142280" cy="2248560"/>
          </a:xfrm>
          <a:prstGeom prst="bentConnector2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716040" cy="7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2362320" y="5028840"/>
            <a:ext cx="609480" cy="7621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029200"/>
            <a:ext cx="609840" cy="533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1148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dro-Electricit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590920"/>
            <a:ext cx="533520" cy="276480"/>
          </a:xfrm>
          <a:prstGeom prst="rect">
            <a:avLst/>
          </a:prstGeom>
          <a:solidFill>
            <a:srgbClr val="cce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038480"/>
            <a:ext cx="0" cy="160020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038480"/>
            <a:ext cx="60948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95680" y="1371240"/>
            <a:ext cx="1676520" cy="6094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68320" y="601560"/>
            <a:ext cx="1255680" cy="1222560"/>
            <a:chOff x="6268320" y="601560"/>
            <a:chExt cx="1255680" cy="1222560"/>
          </a:xfrm>
        </p:grpSpPr>
        <p:sp>
          <p:nvSpPr>
            <p:cNvPr id="227" name=""/>
            <p:cNvSpPr/>
            <p:nvPr/>
          </p:nvSpPr>
          <p:spPr>
            <a:xfrm>
              <a:off x="6565320" y="601560"/>
              <a:ext cx="604440" cy="9540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07720" y="684360"/>
              <a:ext cx="713160" cy="5400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3600" y="1096920"/>
              <a:ext cx="968040" cy="52560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080" y="1109520"/>
              <a:ext cx="862920" cy="43524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34200" y="1014480"/>
              <a:ext cx="815040" cy="46836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2360" y="792000"/>
              <a:ext cx="368640" cy="34632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77880" y="833400"/>
              <a:ext cx="219240" cy="3049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4960" y="1147680"/>
              <a:ext cx="886680" cy="50976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8480" y="1192320"/>
              <a:ext cx="671040" cy="46836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360" y="949320"/>
              <a:ext cx="1857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78480" y="1004760"/>
              <a:ext cx="83160" cy="1018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62240" y="1441440"/>
              <a:ext cx="224640" cy="795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240" y="1441440"/>
              <a:ext cx="234000" cy="824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74880" y="1011240"/>
              <a:ext cx="38880" cy="982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2720" y="731880"/>
              <a:ext cx="953280" cy="41904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9480" y="1222200"/>
              <a:ext cx="2376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2840" y="1082520"/>
              <a:ext cx="2952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8960" y="1441440"/>
              <a:ext cx="17676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6960" y="1414440"/>
              <a:ext cx="71640" cy="8568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720" y="1168560"/>
              <a:ext cx="536400" cy="49212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2120" y="939960"/>
              <a:ext cx="191880" cy="3031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7360" y="1230480"/>
              <a:ext cx="163800" cy="1728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23120" y="936720"/>
              <a:ext cx="12312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0960" y="954000"/>
              <a:ext cx="18756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42360" y="1407960"/>
              <a:ext cx="2376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440" y="977760"/>
              <a:ext cx="844560" cy="45720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07120" y="1117440"/>
              <a:ext cx="12348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5240" y="1144440"/>
              <a:ext cx="890640" cy="48132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92080" y="949320"/>
              <a:ext cx="647280" cy="41436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0320" y="782640"/>
              <a:ext cx="143640" cy="24624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4080" y="830160"/>
              <a:ext cx="7704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10120" y="824040"/>
              <a:ext cx="42480" cy="1537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6360" y="817560"/>
              <a:ext cx="38160" cy="19044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7320" y="909720"/>
              <a:ext cx="622800" cy="37152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888840"/>
              <a:ext cx="123120" cy="10980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3120" y="711360"/>
              <a:ext cx="464400" cy="3175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6080" y="1150920"/>
              <a:ext cx="3114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2840" y="820800"/>
              <a:ext cx="77040" cy="205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5240" y="800280"/>
              <a:ext cx="8136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2960" y="93348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9480" y="1174680"/>
              <a:ext cx="1105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31840" y="90972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4840" y="851040"/>
              <a:ext cx="81000" cy="205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5240" y="865080"/>
              <a:ext cx="8136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64080" y="998640"/>
              <a:ext cx="8640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4080" y="1073160"/>
              <a:ext cx="77040" cy="17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5320" y="885960"/>
              <a:ext cx="58680" cy="112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72480" y="836640"/>
              <a:ext cx="23040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960" y="1185840"/>
              <a:ext cx="1195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0320" y="1014480"/>
              <a:ext cx="808920" cy="4204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7360" y="1014480"/>
              <a:ext cx="95760" cy="172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68320" y="865080"/>
              <a:ext cx="628560" cy="3304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46600" y="1168560"/>
              <a:ext cx="1231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79720" y="1168560"/>
              <a:ext cx="182160" cy="982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0440" y="905040"/>
              <a:ext cx="575280" cy="30132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06840" y="946080"/>
              <a:ext cx="569880" cy="341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857160"/>
              <a:ext cx="575280" cy="29376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6960" y="1434960"/>
              <a:ext cx="248760" cy="748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7960" y="1432080"/>
              <a:ext cx="2376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6480" y="1424160"/>
              <a:ext cx="9936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24880" y="817560"/>
              <a:ext cx="8100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01120" y="776160"/>
              <a:ext cx="138240" cy="2527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34200" y="973080"/>
              <a:ext cx="815040" cy="39996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2440" y="1055520"/>
              <a:ext cx="748440" cy="4334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2840" y="880920"/>
              <a:ext cx="96120" cy="21276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8240" y="785880"/>
              <a:ext cx="254520" cy="619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1600" y="895320"/>
              <a:ext cx="536400" cy="2761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933480"/>
              <a:ext cx="518040" cy="2970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61960" y="704880"/>
              <a:ext cx="365040" cy="8712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2720" y="1038240"/>
              <a:ext cx="10116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9360" y="741240"/>
              <a:ext cx="311400" cy="8568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480" y="1271520"/>
              <a:ext cx="204840" cy="540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200" y="1090440"/>
              <a:ext cx="964800" cy="46044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2960" y="1308240"/>
              <a:ext cx="30600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61960" y="1185840"/>
              <a:ext cx="14904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9000" y="998640"/>
              <a:ext cx="7164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3880" y="1203480"/>
              <a:ext cx="7164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3720" y="833400"/>
              <a:ext cx="163800" cy="3816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7960" y="765000"/>
              <a:ext cx="8100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0960" y="738360"/>
              <a:ext cx="8100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24960" y="728640"/>
              <a:ext cx="8100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0200" y="744480"/>
              <a:ext cx="7776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7480" y="1257480"/>
              <a:ext cx="104760" cy="24588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7080" y="1536840"/>
              <a:ext cx="269280" cy="4752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7360" y="1260360"/>
              <a:ext cx="4428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7000" y="1195560"/>
              <a:ext cx="488160" cy="42372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6880" y="1465200"/>
              <a:ext cx="2196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79720" y="1182600"/>
              <a:ext cx="3276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720" y="1523880"/>
              <a:ext cx="16740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6120" y="1521000"/>
              <a:ext cx="17136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0880" y="1560600"/>
              <a:ext cx="277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0200" y="1697040"/>
              <a:ext cx="715320" cy="12708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240" y="1649520"/>
              <a:ext cx="857520" cy="5868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5638680" y="1828440"/>
            <a:ext cx="1067040" cy="10666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828800"/>
            <a:ext cx="0" cy="358128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838080"/>
            <a:ext cx="4114800" cy="0"/>
          </a:xfrm>
          <a:prstGeom prst="line">
            <a:avLst/>
          </a:prstGeom>
          <a:ln w="127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939960"/>
            <a:ext cx="635040" cy="4546440"/>
          </a:xfrm>
          <a:custGeom>
            <a:avLst/>
            <a:gdLst/>
            <a:ahLst/>
            <a:rect l="l" t="t" r="r" b="b"/>
            <a:pathLst>
              <a:path w="400" h="2864">
                <a:moveTo>
                  <a:pt x="16" y="2864"/>
                </a:moveTo>
                <a:lnTo>
                  <a:pt x="0" y="80"/>
                </a:lnTo>
                <a:lnTo>
                  <a:pt x="0" y="80"/>
                </a:lnTo>
                <a:lnTo>
                  <a:pt x="400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672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047760"/>
            <a:ext cx="0" cy="6858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19320" y="1905120"/>
            <a:ext cx="38088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7432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4382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 rot="10800000">
            <a:off x="457200" y="18280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1676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522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y households in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a City – Physical use 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28600" y="1328760"/>
          <a:ext cx="868680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2876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a City – Physical supply t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5360" y="1166760"/>
          <a:ext cx="870588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66760"/>
                    <a:ext cx="870588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a City – Physical supply-us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771560" y="838080"/>
          <a:ext cx="5540400" cy="59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838080"/>
                    <a:ext cx="554040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w Tow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stream of Cola Cit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city with two water 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e Soda River (Surface w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round wa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e econom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griculture (ISIC 0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od manufacturing (ISIC 10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lectricity (ISIC 35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ansport (ISIC 4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5228000">
            <a:off x="-1769040" y="33688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4190400">
            <a:off x="2010960" y="3854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oda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590920" y="609480"/>
            <a:ext cx="304776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620120" y="1600200"/>
            <a:ext cx="539640" cy="612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077320" y="160020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4680" y="472428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2286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ectricit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61722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914400" y="5486040"/>
            <a:ext cx="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800600"/>
            <a:ext cx="13716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728960" y="5162760"/>
            <a:ext cx="1057320" cy="1029600"/>
            <a:chOff x="4728960" y="5162760"/>
            <a:chExt cx="1057320" cy="1029600"/>
          </a:xfrm>
        </p:grpSpPr>
        <p:sp>
          <p:nvSpPr>
            <p:cNvPr id="362" name=""/>
            <p:cNvSpPr/>
            <p:nvPr/>
          </p:nvSpPr>
          <p:spPr>
            <a:xfrm>
              <a:off x="4979160" y="5162760"/>
              <a:ext cx="509040" cy="80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30920" y="5232240"/>
              <a:ext cx="600480" cy="4536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4800" y="5580000"/>
              <a:ext cx="815040" cy="44244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09600" y="5590440"/>
              <a:ext cx="726480" cy="36648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84760" y="5510520"/>
              <a:ext cx="686160" cy="39420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23040" y="5322960"/>
              <a:ext cx="310320" cy="2916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26560" y="5357880"/>
              <a:ext cx="184680" cy="25668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3200" y="5622840"/>
              <a:ext cx="746640" cy="4291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0920" y="5660280"/>
              <a:ext cx="564840" cy="39420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44360" y="5455440"/>
              <a:ext cx="156600" cy="24732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79640" y="5502240"/>
              <a:ext cx="69840" cy="856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5120" y="5870160"/>
              <a:ext cx="189360" cy="669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5120" y="5870160"/>
              <a:ext cx="196920" cy="6912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76760" y="5507640"/>
              <a:ext cx="32400" cy="824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41560" y="5272560"/>
              <a:ext cx="802440" cy="35280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2080" y="5685480"/>
              <a:ext cx="1980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98200" y="5567760"/>
              <a:ext cx="24840" cy="93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0120" y="5870160"/>
              <a:ext cx="148680" cy="547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39640" y="5847480"/>
              <a:ext cx="60480" cy="720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80760" y="5640120"/>
              <a:ext cx="451440" cy="4143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25000" y="5447880"/>
              <a:ext cx="161280" cy="25524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12400" y="5692320"/>
              <a:ext cx="137880" cy="1440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17080" y="5445000"/>
              <a:ext cx="10368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9680" y="5459400"/>
              <a:ext cx="158040" cy="243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44320" y="5842080"/>
              <a:ext cx="1980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4600" y="5479560"/>
              <a:ext cx="711000" cy="38484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35280" y="5597280"/>
              <a:ext cx="10404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94920" y="5619960"/>
              <a:ext cx="749880" cy="40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49120" y="5455440"/>
              <a:ext cx="545040" cy="3488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68520" y="5315040"/>
              <a:ext cx="120960" cy="20736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8680" y="5355360"/>
              <a:ext cx="64800" cy="34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5440" y="5349960"/>
              <a:ext cx="35640" cy="1292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5280" y="5344560"/>
              <a:ext cx="32040" cy="16020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36880" y="5422320"/>
              <a:ext cx="524520" cy="31284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7240" y="5404680"/>
              <a:ext cx="103680" cy="92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38360" y="5255280"/>
              <a:ext cx="390960" cy="2671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46400" y="5625360"/>
              <a:ext cx="262080" cy="10692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9120" y="5347440"/>
              <a:ext cx="64800" cy="1728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4920" y="5330160"/>
              <a:ext cx="6840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42360" y="54421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93360" y="5645520"/>
              <a:ext cx="93240" cy="81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1080" y="54223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9960" y="537264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94920" y="5384520"/>
              <a:ext cx="6840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9600" y="5497200"/>
              <a:ext cx="72720" cy="15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09600" y="5559840"/>
              <a:ext cx="64800" cy="144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57880" y="5402160"/>
              <a:ext cx="49320" cy="94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21880" y="5360760"/>
              <a:ext cx="193680" cy="25668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2560" y="5654880"/>
              <a:ext cx="100440" cy="6804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89800" y="5510520"/>
              <a:ext cx="681120" cy="3538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33680" y="5510520"/>
              <a:ext cx="80280" cy="1440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28960" y="5384520"/>
              <a:ext cx="529200" cy="2782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63680" y="5640120"/>
              <a:ext cx="103680" cy="597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1400" y="5640120"/>
              <a:ext cx="153360" cy="824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64600" y="5418360"/>
              <a:ext cx="484200" cy="25380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1360" y="5452920"/>
              <a:ext cx="479880" cy="287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64600" y="5378040"/>
              <a:ext cx="484200" cy="24732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9640" y="5864760"/>
              <a:ext cx="20916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2080" y="5862240"/>
              <a:ext cx="19800" cy="651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4480" y="5855760"/>
              <a:ext cx="83520" cy="6912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97680" y="5344560"/>
              <a:ext cx="68040" cy="13464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77520" y="5309640"/>
              <a:ext cx="116280" cy="2127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4760" y="5475600"/>
              <a:ext cx="686160" cy="33660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25080" y="5545080"/>
              <a:ext cx="630000" cy="365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8200" y="5397840"/>
              <a:ext cx="80640" cy="1789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02520" y="5317920"/>
              <a:ext cx="214200" cy="518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74320" y="5410080"/>
              <a:ext cx="451440" cy="23256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9800" y="5442120"/>
              <a:ext cx="435960" cy="24984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29000" y="5249520"/>
              <a:ext cx="307080" cy="730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0280" y="5530680"/>
              <a:ext cx="84960" cy="975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94160" y="5280480"/>
              <a:ext cx="262080" cy="720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14280" y="5726880"/>
              <a:ext cx="172440" cy="4536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45240" y="5574600"/>
              <a:ext cx="812160" cy="38772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42360" y="5757840"/>
              <a:ext cx="257400" cy="7704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29000" y="5654880"/>
              <a:ext cx="125640" cy="16956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96920" y="5497200"/>
              <a:ext cx="60480" cy="18036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5600" y="5669640"/>
              <a:ext cx="60480" cy="424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440" y="5357880"/>
              <a:ext cx="137880" cy="320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2080" y="530028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60960" y="5277960"/>
              <a:ext cx="6804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81920" y="5269680"/>
              <a:ext cx="68040" cy="158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66560" y="5283000"/>
              <a:ext cx="65160" cy="147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1600" y="5715360"/>
              <a:ext cx="88200" cy="2070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38480" y="5950440"/>
              <a:ext cx="226440" cy="39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12400" y="5717520"/>
              <a:ext cx="37080" cy="1040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7720" y="5663160"/>
              <a:ext cx="411120" cy="3567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8160" y="5890320"/>
              <a:ext cx="18360" cy="172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91400" y="5652000"/>
              <a:ext cx="27720" cy="172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70120" y="5939640"/>
              <a:ext cx="141120" cy="11736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240" y="5937120"/>
              <a:ext cx="144360" cy="1227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55440" y="5970600"/>
              <a:ext cx="23400" cy="17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66560" y="6085440"/>
              <a:ext cx="602280" cy="10692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920" y="6045480"/>
              <a:ext cx="721800" cy="4932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5638320" y="5943600"/>
            <a:ext cx="17528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1905120"/>
            <a:ext cx="0" cy="30456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3657600"/>
            <a:ext cx="76212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5562720"/>
            <a:ext cx="167616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2096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0720" y="3733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3124080"/>
            <a:ext cx="1067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w T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1251000" cy="1218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V="1">
            <a:off x="457200" y="1142640"/>
            <a:ext cx="0" cy="1143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4600" y="304920"/>
            <a:ext cx="327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0920" y="15238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4343400"/>
            <a:ext cx="0" cy="8380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666880" y="2057400"/>
            <a:ext cx="10670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3200400"/>
            <a:ext cx="6858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638680" y="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1219320" cy="8334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1467000" cy="1182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7391520" y="5029200"/>
            <a:ext cx="1171440" cy="113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facture of Fo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1905120"/>
            <a:ext cx="1752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9120" y="6094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3200400"/>
            <a:ext cx="0" cy="10666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066680"/>
            <a:ext cx="11430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676520"/>
            <a:ext cx="6858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505320" y="2819520"/>
            <a:ext cx="9144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04920" y="6172200"/>
            <a:ext cx="1295280" cy="685800"/>
            <a:chOff x="304920" y="6172200"/>
            <a:chExt cx="1295280" cy="685800"/>
          </a:xfrm>
        </p:grpSpPr>
        <p:sp>
          <p:nvSpPr>
            <p:cNvPr id="481" name=""/>
            <p:cNvSpPr/>
            <p:nvPr/>
          </p:nvSpPr>
          <p:spPr>
            <a:xfrm>
              <a:off x="304920" y="617220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10800000">
              <a:off x="380880" y="6400080"/>
              <a:ext cx="106704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ecff"/>
                  </a:solidFill>
                  <a:latin typeface="Arial"/>
                </a:rPr>
                <a:t>Groun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447920" y="518148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5715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1522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28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13716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00240" y="403848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54100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14800" y="243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14800" y="29718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57913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28800" y="4191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91320" y="3733920"/>
            <a:ext cx="1295280" cy="685800"/>
            <a:chOff x="5791320" y="3733920"/>
            <a:chExt cx="1295280" cy="685800"/>
          </a:xfrm>
        </p:grpSpPr>
        <p:sp>
          <p:nvSpPr>
            <p:cNvPr id="500" name=""/>
            <p:cNvSpPr/>
            <p:nvPr/>
          </p:nvSpPr>
          <p:spPr>
            <a:xfrm>
              <a:off x="5791320" y="373392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 rot="10800000">
              <a:off x="5943240" y="3961800"/>
              <a:ext cx="106668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ecff"/>
                  </a:solidFill>
                  <a:latin typeface="Arial"/>
                </a:rPr>
                <a:t>Groun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8001000" y="6095880"/>
            <a:ext cx="0" cy="5335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6629400"/>
            <a:ext cx="38098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8680" y="65739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295280" y="1523880"/>
            <a:ext cx="53352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524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533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1295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457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9144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18288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280" y="38098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0020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09880" y="1371600"/>
            <a:ext cx="1752840" cy="914400"/>
            <a:chOff x="3809880" y="1371600"/>
            <a:chExt cx="1752840" cy="914400"/>
          </a:xfrm>
        </p:grpSpPr>
        <p:sp>
          <p:nvSpPr>
            <p:cNvPr id="517" name=""/>
            <p:cNvSpPr/>
            <p:nvPr/>
          </p:nvSpPr>
          <p:spPr>
            <a:xfrm>
              <a:off x="3809880" y="1371600"/>
              <a:ext cx="17528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4952880" y="1371600"/>
              <a:ext cx="58284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0" y="2286000"/>
            <a:ext cx="1752480" cy="914400"/>
            <a:chOff x="0" y="2286000"/>
            <a:chExt cx="1752480" cy="914400"/>
          </a:xfrm>
        </p:grpSpPr>
        <p:sp>
          <p:nvSpPr>
            <p:cNvPr id="520" name=""/>
            <p:cNvSpPr/>
            <p:nvPr/>
          </p:nvSpPr>
          <p:spPr>
            <a:xfrm>
              <a:off x="0" y="2286000"/>
              <a:ext cx="175248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8"/>
            <a:stretch/>
          </p:blipFill>
          <p:spPr>
            <a:xfrm>
              <a:off x="1142640" y="2286000"/>
              <a:ext cx="58248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>
            <a:off x="7848720" y="2209680"/>
            <a:ext cx="0" cy="251460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562720" y="4724280"/>
            <a:ext cx="22860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886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733560" y="5562720"/>
            <a:ext cx="106668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54100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648320" y="761760"/>
            <a:ext cx="106668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9144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20120" y="2819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0720" y="1447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25909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6:06:15Z</dcterms:created>
  <dc:creator>CMS.Installer</dc:creator>
  <dc:description/>
  <dc:language>en-US</dc:language>
  <cp:lastModifiedBy>United Nations</cp:lastModifiedBy>
  <dcterms:modified xsi:type="dcterms:W3CDTF">2008-02-06T19:31:56Z</dcterms:modified>
  <cp:revision>218</cp:revision>
  <dc:subject/>
  <dc:title>Slide 1</dc:title>
</cp:coreProperties>
</file>