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5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rtl="1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DE724D4-DE2B-471B-B0FE-69BB1345D737}" type="datetime12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ص12:0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237A3E-213E-458D-8293-3DC226BAA6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34D547-408E-4152-BBD1-A4A52261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E05F82-DE65-4B3D-B9FC-58CCDCDAC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Date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4EA976-C303-465C-AECE-BDF1770E37FE}" type="datetime12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ص12:04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درت توصيات خاصة من منظمة الصحة العالمية من خلال مجموعة واشنطن لإحصاءات الاعاقة تقضي باستخدام معايير خاصة لقياس انتشار الاعاقة في المجتمعا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7FB0E5-22B0-472F-990C-6A86AE83D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Date Placeholder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A284E7-547C-4D0D-9BEA-282CE13DBDF4}" type="datetime12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ص12:04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لقد تلقى الجهاز عددا من المساهمات التي تفيد في تقييم التجربة وقد تم اخذها بعين الاعتبا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7D6BDE-A3B5-4D47-A7EC-CC38C600B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D0C140-1576-4830-BBA3-EF06286D57AE}" type="datetime12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ص12:04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E6E86D-B345-4C82-B66D-4621A9107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13791E-D879-4D08-9D65-DB35F338C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Simplified Arabic"/>
            </a:endParaRPr>
          </a:p>
        </p:txBody>
      </p:sp>
      <p:sp>
        <p:nvSpPr>
          <p:cNvPr id="222" name="Date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5A9EAF-1EEF-415B-98B5-56802F9D6C4D}" type="datetime12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ص12:04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054A41-EB4F-4378-AD52-972F25CEC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457200" indent="0" algn="r" rtl="1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مكين المستخدمين ومصادر البيانات </a:t>
            </a:r>
            <a:r>
              <a:rPr b="1" lang="ar-SA" sz="11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حوار المنتجين والمستخدمين، البيانات الخام للاستخدام العام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r" rtl="1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شبيك </a:t>
            </a:r>
            <a:r>
              <a:rPr b="1" lang="ar-SA" sz="11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اتفاقيات تعاون، اتفاقيات تفاهم، اتفاقيات توأمة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r" rtl="1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غذية الراجعة </a:t>
            </a:r>
            <a:r>
              <a:rPr b="1" lang="ar-SA" sz="11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مسح رضى المستخدمين، لقاءات مع المستخدمين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r" rtl="1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6DBD1C-C288-4AF2-85A6-FC08865F0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Date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A78EC2-0C2B-4B3D-A0F7-A4C30091AD97}" type="datetime12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ص12:04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من هنا انبثقت فكرة تنفيذ مسح اسري متخصص حول الأفراد ذوي الإعاقة وفق المعايير ألدولي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32FCE0-1BC1-491E-82D9-056C7328F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Date Placeholder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A27ECC-B9E4-4FD1-9801-677CA8ED81CB}" type="datetime12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ص12:04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AC6-5D1A-4E3C-B2B3-F001191B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43C-5967-413C-8E86-129EA422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188-A42A-4781-B987-D33C1277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477-D21B-4523-BF80-B227648B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5EC-F06F-46EB-9DBC-3B98D2B3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CE0-3460-4678-B136-EE93568E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EEC-2091-4AD8-B74A-E7C2C4FD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50E-99EC-43A1-98C3-5730FA09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AAD-F23C-4110-9E30-13646B6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FC6-8C04-4A8F-BA45-0A2C5AEF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DB2-53DB-4FA1-A737-F5ABFA82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318-A5ED-448A-8E44-21F958E7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32DFB-B084-4D88-95BA-4AFF34A9BD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732FC-5320-4E92-8193-A81C37995F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F2FD0-0D48-4F74-883B-5F73582E3D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78CC7-25AD-41E0-9289-EA2CF7D03C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D8FB4-F3D2-463A-A3C1-3EA445AE53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E1D5F-2D04-4287-9A3C-F0CB52F97B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9B650-F597-488B-AE50-ADBCE637D6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B37BB-9DC4-4544-84E0-693F12EF43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451A8-E210-4CEB-AD40-7593B12369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02A6F-E9B7-45F3-A38F-A57D1E7425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AF5E3-79D9-4C16-9130-177AF9F169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3F436-676D-420A-8B02-E7B40B295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101520"/>
            <a:ext cx="9144000" cy="5842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b3b3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380880" y="6627960"/>
            <a:ext cx="31244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304920" y="762120"/>
            <a:ext cx="3124080" cy="152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152280" y="152280"/>
            <a:ext cx="32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تحديات التي تواجه الإستراتيجيات الوطنية لتطوير الاحصاءات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" descr="C:\Documents and Settings\sufian\Desktop\eagle_yellow.gif"/>
          <p:cNvPicPr/>
          <p:nvPr/>
        </p:nvPicPr>
        <p:blipFill>
          <a:blip r:embed="rId2"/>
          <a:stretch/>
        </p:blipFill>
        <p:spPr>
          <a:xfrm>
            <a:off x="8344080" y="0"/>
            <a:ext cx="799920" cy="1009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1"/>
          <p:cNvSpPr/>
          <p:nvPr/>
        </p:nvSpPr>
        <p:spPr>
          <a:xfrm>
            <a:off x="2819520" y="15228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جهاز المركزي للإحصاء الفلسطيني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2"/>
          <p:cNvSpPr/>
          <p:nvPr/>
        </p:nvSpPr>
        <p:spPr>
          <a:xfrm>
            <a:off x="304920" y="1676520"/>
            <a:ext cx="861048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3"/>
          <p:cNvSpPr/>
          <p:nvPr/>
        </p:nvSpPr>
        <p:spPr>
          <a:xfrm>
            <a:off x="304920" y="1200240"/>
            <a:ext cx="8610480" cy="36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36F5-128C-4924-A6BC-56E8DC8819BA}" type="datetime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3D10-811F-4FA5-B7A3-BBB2E07C5E8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101520"/>
            <a:ext cx="9144000" cy="5842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b3b3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0880" y="6553080"/>
            <a:ext cx="31244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04920" y="762120"/>
            <a:ext cx="3124080" cy="152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52280" y="152280"/>
            <a:ext cx="32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استخدام الفعال للإحصاء في صنع السياسا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C:\Documents and Settings\sufian\Desktop\eagle_yellow.gif"/>
          <p:cNvPicPr/>
          <p:nvPr/>
        </p:nvPicPr>
        <p:blipFill>
          <a:blip r:embed="rId2"/>
          <a:stretch/>
        </p:blipFill>
        <p:spPr>
          <a:xfrm>
            <a:off x="8344080" y="0"/>
            <a:ext cx="79992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819520" y="1522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Arial"/>
              </a:rPr>
              <a:t>الجهاز المركزي للإحصاء الفلسطيني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04920" y="1676520"/>
            <a:ext cx="861048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4920" y="1200240"/>
            <a:ext cx="861048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Num" idx="4"/>
          </p:nvPr>
        </p:nvSpPr>
        <p:spPr>
          <a:xfrm>
            <a:off x="1676160" y="647676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AC84-73F5-405A-87F9-74EC4CB9E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447920" y="17524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Times New Roman"/>
                <a:cs typeface="Simplified Arabic"/>
              </a:rPr>
              <a:t>الاستخدام الفعال للإحصاء في صنع السياسا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Simplified Arabic"/>
              </a:rPr>
              <a:t>) </a:t>
            </a:r>
            <a:r>
              <a:rPr b="1" lang="ar-SA" sz="2000" spc="-1" strike="noStrike">
                <a:solidFill>
                  <a:srgbClr val="0033cc"/>
                </a:solidFill>
                <a:latin typeface="Times New Roman"/>
                <a:cs typeface="Simplified Arabic"/>
              </a:rPr>
              <a:t>تجربة فلسطين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Simplified Arabic"/>
              </a:rPr>
              <a:t>(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914400" y="3124080"/>
            <a:ext cx="7391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Times New Roman"/>
                <a:cs typeface="Simplified Arabic"/>
              </a:rPr>
              <a:t>ورشة العمل الاقليمية بشان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Times New Roman"/>
                <a:cs typeface="Simplified Arabic"/>
              </a:rPr>
              <a:t>الاستخدام الفعال للإحصاء في صنع السياسا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762120" y="4876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ff"/>
                </a:solidFill>
                <a:latin typeface="Times New Roman"/>
                <a:ea typeface="Simplified Arabic"/>
              </a:rPr>
              <a:t> (عمان - الاردن، </a:t>
            </a:r>
            <a:r>
              <a:rPr b="1" lang="ar-SA" sz="2000" spc="-1" strike="noStrike">
                <a:solidFill>
                  <a:srgbClr val="3333ff"/>
                </a:solidFill>
                <a:latin typeface="Times New Roman"/>
                <a:ea typeface="Simplified Arabic"/>
              </a:rPr>
              <a:t>26</a:t>
            </a:r>
            <a:r>
              <a:rPr b="1" lang="ar-SA" sz="2000" spc="-1" strike="noStrike">
                <a:solidFill>
                  <a:srgbClr val="3333ff"/>
                </a:solidFill>
                <a:latin typeface="Times New Roman"/>
                <a:ea typeface="Simplified Arabic"/>
              </a:rPr>
              <a:t>-</a:t>
            </a:r>
            <a:r>
              <a:rPr b="1" lang="ar-SA" sz="2000" spc="-1" strike="noStrike">
                <a:solidFill>
                  <a:srgbClr val="3333ff"/>
                </a:solidFill>
                <a:latin typeface="Times New Roman"/>
                <a:ea typeface="Simplified Arabic"/>
              </a:rPr>
              <a:t>2012/9/2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7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7744-1ABE-4BD6-8EFE-9F3D5C62ED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E527-3FD6-428C-A597-6D975DAE10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04920" y="1752480"/>
            <a:ext cx="845820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000" spc="-1" strike="noStrike" u="sng">
                <a:solidFill>
                  <a:srgbClr val="0000ff"/>
                </a:solidFill>
                <a:uFillTx/>
                <a:latin typeface="Times New Roman"/>
                <a:cs typeface="Simplified Arabic"/>
              </a:rPr>
              <a:t>عوامل النجاح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Aft>
                <a:spcPts val="119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كان لتبني مجلس الوزراء فكرة تنفيذ المشروع من خلال توفير الدعم المادي الاثر الكبير في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انجاح المشروع حيث ساهم المجلس بقيمة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120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الف دولار ضمن موازنة المشرو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Aft>
                <a:spcPts val="119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وحث جميع الاطراف ذات العلاقة على تقديم التسهيلات لعمل الجهاز لتنفيذ المسح بالشراكة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الحقيقة بين الجهاز والوزارة وبقية الشركاء المحليين والمؤسسات الدولية ذات العلاق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Aft>
                <a:spcPts val="119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لقد كان للجهاز المركزي للإحصاء الفلسطيني دورا هاما تمثل تطبيق التوصيات الدولية المستحدثة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في مجال احصاءات الإعاقة في سبيل تنفيذ ما دعت اليه الاستراتيجية الوطنية للإحصاءات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الرسمية في مجال توفير البيانات للمستخدمين في جميع القطاعات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5715-F564-47B8-83E1-275B8CA5A6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609480" y="1371600"/>
            <a:ext cx="807732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000" spc="-1" strike="noStrike" u="sng">
                <a:solidFill>
                  <a:srgbClr val="0000ff"/>
                </a:solidFill>
                <a:uFillTx/>
                <a:latin typeface="Times New Roman"/>
                <a:cs typeface="Simplified Arabic"/>
              </a:rPr>
              <a:t>التحديات والحلو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ستخدام المعايير الجديدة لقياس مدى انتشار الصعوبات والإعاقات في المجتمعات حيث تم استخدام هذا التعريف في الكشف عن نسب الانتشار الحقيقية للإعاقات في المجتمع الفلسطيني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تقبل المؤسسات العاملة في مجال الافراد ذوي الاعاقة للتعريف الجديد الذي صدر عن منظمة الصحة العالمية مجموعة واشنطن لإحصاءات الاعاقة كان احد التحديا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تم بذل جهود كبيرة مع المستخدمين من خلال عقد سلسلة اجتماعات ولقاءات معه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هناك تحد اخر تمثل في تقبل المستخدمين ومقدمي الخدمات لنتائج المسح (بسبب منهجية العمل والتعريفات التي استخدمت في تصنيف الصعوبات والإعاقة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125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بادرت وزارة الشؤون والجهاز المركزي للإحصاء في عقد ورش عمل في المحافظات من اجل عرض النتائج وتعريف المستخدمين بمنهجية العمل والتعريفات المستخدمه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2E4F-46C6-4561-B177-6BD9A04412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609480" y="1905120"/>
            <a:ext cx="80773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000" spc="-1" strike="noStrike" u="sng">
                <a:solidFill>
                  <a:srgbClr val="0000ff"/>
                </a:solidFill>
                <a:uFillTx/>
                <a:latin typeface="Times New Roman"/>
                <a:cs typeface="Simplified Arabic"/>
              </a:rPr>
              <a:t>التوصيات التي يمكن توجيهها للآخري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أي جهة ترغب في تكرار مثل هذه التجربة دراسة التصنيفات الجديدة لإحصاءات الاعاقة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ومدى ملاءمتها لخصوصية كل مجتمع، وهل التصنيفات تنطبق على هذا البلد ام لا؟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التعرف على واقع الحال الموجود في البلد من اجل التمكن من صياغة مؤشرات اضافية تخدم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مصلحة الخدمات المقدمة للأفراد ذوي الاعاقة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تعزيز فكرة الشراكة الوطنية لما لذلك من اهمية في تبني النتائج والترويج لها بالشكل الامثل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5038-AF84-48FA-A9E2-D3F085B733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609480" y="2057400"/>
            <a:ext cx="80773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000" spc="-1" strike="noStrike" u="sng">
                <a:solidFill>
                  <a:srgbClr val="0000ff"/>
                </a:solidFill>
                <a:uFillTx/>
                <a:latin typeface="Times New Roman"/>
                <a:cs typeface="Simplified Arabic"/>
              </a:rPr>
              <a:t>الخطط المستقبلية والاستدام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العمل على الاستفادة من هذه التجربة لتعزيزها مستقبلا من خلال مراجعة شاملة للتجربة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والبناء على نتائجها في تحسين الادوات وتطوير مؤشرات جديدة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ضمان الاستدامة المالية لمثل هذه المشاريع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تقييم مدى الاستفادة من الخدمات التي قدمت وتقدم للأفراد ذوي الاعاقة، من خلال تثبيت هذا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الملف على اجندة صناع القرار في الدولة كاستحقاق مستمر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416A-0525-446D-9B57-32747E41BF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9480" y="1676520"/>
            <a:ext cx="8077320" cy="49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000" spc="-1" strike="noStrike" u="sng">
                <a:solidFill>
                  <a:srgbClr val="0000ff"/>
                </a:solidFill>
                <a:uFillTx/>
                <a:latin typeface="Times New Roman"/>
                <a:cs typeface="Simplified Arabic"/>
              </a:rPr>
              <a:t>التغذية الراجعة من المستفيدي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اعادة النظر في استخدام اعاقة الصحة النفسية كنوع من انواع الصعوبات والإعاقات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والتعريف المستخدم لحصر هذه الاعاقة، وبالفعل قام الجهاز بدراسة الامر وتم الاتفاق على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استبعاد هذا التصنيف في المسوح المقبلة نظرا لضبابية التعريف، وعدم انطباقه بشكل كبير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في مجتمعنا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ضرورة اعادة النظر في بعض الاسئلة المرتبطة بالخدمات التي تقدم للأفراد ذوي الاعاقة، من حيث مدى مطابقتها على واقعنا، وخاصة فيما يتعلق بالبنية التحتية للبيئة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56B4-AD92-4F74-83F4-4D25FD1E1C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114"/>
          <p:cNvSpPr/>
          <p:nvPr/>
        </p:nvSpPr>
        <p:spPr>
          <a:xfrm>
            <a:off x="1219320" y="14479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84200" indent="-293760" algn="ctr" rtl="1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Simplified Arabic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Verdana"/>
                <a:cs typeface="Simplified Arabic"/>
              </a:rPr>
              <a:t>شكرا على حسن استماعك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7DDF-62AF-4390-AED8-A1BE186E3A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ontent Placeholder 2"/>
          <p:cNvSpPr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74%</a:t>
            </a:r>
            <a:r>
              <a:rPr b="1" lang="ar-SA" sz="16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من المؤسسات الحكومية التي يتوفر فيها وحدة احصائية تتشاور وتنسق اعمالها مع الجهاز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78%</a:t>
            </a:r>
            <a:r>
              <a:rPr b="1" lang="ar-SA" sz="16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من المؤسسات الحكومية التي يتوفر فيها وحدة احصائية تشارك في ورش عمل حوار المنتجين والمستخدمين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84%</a:t>
            </a:r>
            <a:r>
              <a:rPr b="1" lang="ar-SA" sz="16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من المؤسسات الحكومية التي لا يتوفر فيها وحدة احصائية انها تستخدم بيانات الجهاز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غرض من ألاستخدام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362320" y="1295280"/>
            <a:ext cx="5333760" cy="703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"/>
                <a:cs typeface="Simplified Arabic"/>
              </a:rPr>
              <a:t>اهم نتائج مسح اثر استخدام الاحصاء في القطاع العا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Chart 5" descr=""/>
          <p:cNvPicPr/>
          <p:nvPr/>
        </p:nvPicPr>
        <p:blipFill>
          <a:blip r:embed="rId4"/>
          <a:stretch/>
        </p:blipFill>
        <p:spPr>
          <a:xfrm>
            <a:off x="635040" y="2844720"/>
            <a:ext cx="7873920" cy="34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8C67-7E94-42F2-A2D9-916B4FBFA3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مجالات الاستخدام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380880" y="6096240"/>
            <a:ext cx="99072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رجو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362320" y="1295280"/>
            <a:ext cx="5333760" cy="703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"/>
                <a:cs typeface="Simplified Arabic"/>
              </a:rPr>
              <a:t>اهم نتائج مسح اثر استخدام الاحصاء في القطاع العا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Chart 5" descr=""/>
          <p:cNvPicPr/>
          <p:nvPr/>
        </p:nvPicPr>
        <p:blipFill>
          <a:blip r:embed="rId1"/>
          <a:stretch/>
        </p:blipFill>
        <p:spPr>
          <a:xfrm>
            <a:off x="939960" y="2387520"/>
            <a:ext cx="7569000" cy="34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9"/>
          <p:cNvSpPr/>
          <p:nvPr/>
        </p:nvSpPr>
        <p:spPr>
          <a:xfrm>
            <a:off x="2362320" y="1295280"/>
            <a:ext cx="53337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"/>
                <a:cs typeface="Simplified Arabic"/>
              </a:rPr>
              <a:t>اهم القرارا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C0D8-3E2B-409B-8331-E9DB855F43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380880" y="6096240"/>
            <a:ext cx="99072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رجو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Content Placeholder 2"/>
          <p:cNvSpPr/>
          <p:nvPr/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عداد الخطط القطاعية التنموية للمؤسسات الحكوم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زيادة رواتب موظفو القطاع العام استنادا الى مؤشر غلاء المعيشة الذي يصدره الجها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إعداد ألاستراتيجيه الوطنية لقطاع الثقاف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رفع العمر للزواج المبكر إلى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18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سنة فأكث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تحديد أولويات ومشاريع دعم صمود السكان في المناطق المتضررة من الجدا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اعتماد على أعداد السكان لفتح مراكز خدمات وصناديق بري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إعداد الموازنة السنوية لوزارة المالي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تحديد صدقة الفطر ونصاب الزكاة بناء على بيانات الأسعا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دراسة عدد حالات الزواج والطلاق في كل محافظة ومعرفة أسبابها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تقرير السنوي لسلطه النق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خطة ألاستراتيجيه للعنف ضد المرأ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إعداد خطة الإصلاح والتنمية الفلسطينية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2008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-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20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4"/>
          <p:cNvSpPr/>
          <p:nvPr/>
        </p:nvSpPr>
        <p:spPr>
          <a:xfrm>
            <a:off x="990720" y="1981080"/>
            <a:ext cx="74674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ea typeface="Simplified Arab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ea typeface="Simplified Arabic"/>
              </a:rPr>
              <a:t> </a:t>
            </a:r>
            <a:r>
              <a:rPr b="1" lang="ar-SA" sz="2000" spc="-1" strike="noStrike">
                <a:solidFill>
                  <a:srgbClr val="0033cc"/>
                </a:solidFill>
                <a:latin typeface="Times New Roman"/>
                <a:cs typeface="Simplified Arabic"/>
              </a:rPr>
              <a:t>الاستراتيجية الوطنية للإحصاءات الرسمي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Simplified Arabic"/>
              </a:rPr>
              <a:t> </a:t>
            </a:r>
            <a:r>
              <a:rPr b="1" lang="ar-SA" sz="2000" spc="-1" strike="noStrike">
                <a:solidFill>
                  <a:srgbClr val="0033cc"/>
                </a:solidFill>
                <a:latin typeface="Times New Roman"/>
                <a:cs typeface="Simplified Arabic"/>
              </a:rPr>
              <a:t>استخدام المعلومات الاحصائية من قبل المستخدمي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Times New Roman"/>
                <a:ea typeface="Simplified Arabic"/>
              </a:rPr>
              <a:t> الاستخدام الفعال في صنع السياسا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688F-0E4C-4910-8370-C1B69D0324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2362320" y="1295280"/>
            <a:ext cx="533376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محتويات العر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228600" y="3505320"/>
            <a:ext cx="838188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ff"/>
                </a:solidFill>
                <a:latin typeface="Verdana"/>
                <a:cs typeface="Simplified Arabic"/>
              </a:rPr>
              <a:t>الاهداف الاستراتيجية</a:t>
            </a:r>
            <a:r>
              <a:rPr b="1" lang="ar-SA" sz="2000" spc="-1" strike="noStrike">
                <a:solidFill>
                  <a:srgbClr val="0000ff"/>
                </a:solidFill>
                <a:latin typeface="Verdana"/>
                <a:ea typeface="Simplified Arabic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Verdana"/>
                <a:cs typeface="Simplified Arabic"/>
              </a:rPr>
              <a:t>تعزيز وتطوير النظام الاحصائي الوطني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Verdana"/>
                <a:cs typeface="Simplified Arabic"/>
              </a:rPr>
              <a:t>تطوير نشر البيانا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Verdana"/>
                <a:cs typeface="Simplified Arabic"/>
              </a:rPr>
              <a:t>تطوير مصادر بيانات السجلات الاداري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Verdana"/>
                <a:cs typeface="Simplified Arabic"/>
              </a:rPr>
              <a:t>تطوير الاحصاءات القطاعية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Verdana"/>
                <a:cs typeface="Simplified Arabic"/>
              </a:rPr>
              <a:t>تعزيز علاقات الشراكة مع مصادر البيانات والمستخدمين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Verdana"/>
                <a:cs typeface="Simplified Arabic"/>
              </a:rPr>
              <a:t>تطوير الجوانب الادارية والفني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76720" y="2286000"/>
            <a:ext cx="52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33cc"/>
                </a:solidFill>
                <a:latin typeface="Verdana"/>
                <a:cs typeface="Simplified Arabic"/>
              </a:rPr>
              <a:t>ا</a:t>
            </a:r>
            <a:r>
              <a:rPr b="1" lang="ar-JO" sz="1800" spc="-1" strike="noStrike">
                <a:solidFill>
                  <a:srgbClr val="0000ff"/>
                </a:solidFill>
                <a:latin typeface="Verdana"/>
                <a:cs typeface="Simplified Arabic"/>
              </a:rPr>
              <a:t>لرؤية: بناء نظام إحصائي فلسطيني كفؤ وفعا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990720" y="2743200"/>
            <a:ext cx="7623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Verdana"/>
                <a:cs typeface="Simplified Arabic"/>
              </a:rPr>
              <a:t>الرسالة: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إنتاج ونشر الإحصاءات الرسمية المتسقة، الموضوعية، ذات الجودة العالية وفي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      الوقت المناسب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Simplified Arabic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Verdana"/>
                <a:cs typeface="Simplified Arabic"/>
              </a:rPr>
              <a:t>لتلبية احتياجات المستخدمين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8F6-5CF9-4F9C-BD4F-89B2C2DB4D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362320" y="1295280"/>
            <a:ext cx="533376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3300"/>
                </a:solidFill>
                <a:latin typeface="Times New Roman"/>
                <a:cs typeface="Simplified Arabic"/>
              </a:rPr>
              <a:t>الاستراتيجية الوطنية للإحصاءات الرسمية </a:t>
            </a:r>
            <a:r>
              <a:rPr b="1" lang="ar-SA" sz="1800" spc="-1" strike="noStrike">
                <a:solidFill>
                  <a:srgbClr val="cc3300"/>
                </a:solidFill>
                <a:latin typeface="Times New Roman"/>
                <a:ea typeface="Simplified Arabic"/>
              </a:rPr>
              <a:t>2009</a:t>
            </a:r>
            <a:r>
              <a:rPr b="1" lang="ar-SA" sz="1800" spc="-1" strike="noStrike">
                <a:solidFill>
                  <a:srgbClr val="cc3300"/>
                </a:solidFill>
                <a:latin typeface="Times New Roman"/>
                <a:ea typeface="Simplified Arabic"/>
              </a:rPr>
              <a:t>-</a:t>
            </a:r>
            <a:r>
              <a:rPr b="1" lang="ar-SA" sz="1800" spc="-1" strike="noStrike">
                <a:solidFill>
                  <a:srgbClr val="cc3300"/>
                </a:solidFill>
                <a:latin typeface="Times New Roman"/>
                <a:ea typeface="Simplified Arabic"/>
              </a:rPr>
              <a:t>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19EE-9E5D-4398-B2B0-2C2F33DFE2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2362320" y="1295280"/>
            <a:ext cx="5333760" cy="703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"/>
                <a:cs typeface="Simplified Arabic"/>
              </a:rPr>
              <a:t>استخدام الاحصاء في التخطيط والسياسات واتخاذ القرارا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28600" y="2057400"/>
            <a:ext cx="8610480" cy="46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177840" indent="-177840" algn="just" rtl="1">
              <a:lnSpc>
                <a:spcPct val="100000"/>
              </a:lnSpc>
              <a:spcBef>
                <a:spcPts val="1250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33cc"/>
                </a:solidFill>
                <a:latin typeface="Verdana"/>
                <a:ea typeface="Simplified Arabic"/>
              </a:rPr>
              <a:t> </a:t>
            </a:r>
            <a:r>
              <a:rPr b="1" lang="ar-SA" sz="2000" spc="-1" strike="noStrike">
                <a:solidFill>
                  <a:srgbClr val="0033cc"/>
                </a:solidFill>
                <a:latin typeface="Verdana"/>
                <a:cs typeface="Simplified Arabic"/>
              </a:rPr>
              <a:t>قام الجهاز بتنفيذ مسح خلال العام </a:t>
            </a:r>
            <a:r>
              <a:rPr b="1" lang="ar-SA" sz="2000" spc="-1" strike="noStrike">
                <a:solidFill>
                  <a:srgbClr val="0033cc"/>
                </a:solidFill>
                <a:latin typeface="Verdana"/>
                <a:ea typeface="Simplified Arabic"/>
              </a:rPr>
              <a:t>2010</a:t>
            </a:r>
            <a:r>
              <a:rPr b="1" lang="ar-SA" sz="2000" spc="-1" strike="noStrike">
                <a:solidFill>
                  <a:srgbClr val="0033cc"/>
                </a:solidFill>
                <a:latin typeface="Verdana"/>
                <a:ea typeface="Simplified Arabic"/>
              </a:rPr>
              <a:t> لقياس اثر استخدام الاحصاء في القطاع العام يتم تنفيذ هذا المسح بصورة  دورية كل سنتي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 rtl="1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Verdana"/>
                <a:ea typeface="Simplified Arabic"/>
              </a:rPr>
              <a:t> كما بدء الجهاز عام </a:t>
            </a:r>
            <a:r>
              <a:rPr b="1" lang="ar-SA" sz="2000" spc="-1" strike="noStrike">
                <a:solidFill>
                  <a:srgbClr val="0033cc"/>
                </a:solidFill>
                <a:latin typeface="Verdana"/>
                <a:ea typeface="Simplified Arabic"/>
              </a:rPr>
              <a:t>2012</a:t>
            </a:r>
            <a:r>
              <a:rPr b="1" lang="ar-SA" sz="2000" spc="-1" strike="noStrike">
                <a:solidFill>
                  <a:srgbClr val="0033cc"/>
                </a:solidFill>
                <a:latin typeface="Verdana"/>
                <a:ea typeface="Simplified Arabic"/>
              </a:rPr>
              <a:t> بتنفيذ مسح مماثل لقياس اثر استخدام الاحصاء في القطاع الخاص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 rtl="1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Verdana"/>
                <a:ea typeface="Simplified Arabic"/>
              </a:rPr>
              <a:t> تهدف هذه المسوح الى توحيد المفاهيم والمؤشرات الإحصائية مع مصادر البيانات وتعزيز العلاقة مع مصادر البيانات بالإضافة الى تطوير قدرات المستخدمين لضمان استخدام البيانات في التخطيط التنموي والتخطيط الاستراتيجي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 rtl="1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Verdana"/>
                <a:ea typeface="Simplified Arabic"/>
              </a:rPr>
              <a:t> اهم المؤشرات: استخدام البيانات الاحصائية بشكل عام، نوع الاستخدام، مجال الاستخدام، القرارات التي تم اتخاذها ومستوى الاستخدام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 rtl="1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Verdana"/>
                <a:ea typeface="Simplified Arabic"/>
              </a:rPr>
              <a:t> شمل المسح </a:t>
            </a:r>
            <a:r>
              <a:rPr b="1" lang="ar-SA" sz="2000" spc="-1" strike="noStrike">
                <a:solidFill>
                  <a:srgbClr val="0033cc"/>
                </a:solidFill>
                <a:latin typeface="Verdana"/>
                <a:ea typeface="Simplified Arabic"/>
              </a:rPr>
              <a:t>46</a:t>
            </a:r>
            <a:r>
              <a:rPr b="1" lang="ar-SA" sz="2000" spc="-1" strike="noStrike">
                <a:solidFill>
                  <a:srgbClr val="0033cc"/>
                </a:solidFill>
                <a:latin typeface="Verdana"/>
                <a:ea typeface="Simplified Arabic"/>
              </a:rPr>
              <a:t> وزارة ومؤسسة حكومية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533520" y="5034960"/>
            <a:ext cx="1066680" cy="580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اهم النتائج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11040" y="5791680"/>
            <a:ext cx="141048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ff"/>
                </a:solidFill>
                <a:uFillTx/>
                <a:latin typeface="Times New Roman"/>
              </a:rPr>
              <a:t>اهم لقرارات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1821-1019-4406-9E6A-90036A80D0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09480" y="1371600"/>
            <a:ext cx="8077320" cy="72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ff"/>
                </a:solidFill>
                <a:uFillTx/>
                <a:latin typeface="Times New Roman"/>
                <a:cs typeface="Simplified Arabic"/>
              </a:rPr>
              <a:t>المشكلة/موضوع الممارسة (</a:t>
            </a:r>
            <a:r>
              <a:rPr b="1" lang="ar-SA" sz="1600" spc="-1" strike="noStrike">
                <a:solidFill>
                  <a:srgbClr val="0000ff"/>
                </a:solidFill>
                <a:latin typeface="Times New Roman"/>
              </a:rPr>
              <a:t>السياسات التنموية لذوي الاعاقة او لمن يواجهون صعوبات في تأدية واجباتهم اليومية واستخدام البيانات الإحصائية</a:t>
            </a:r>
            <a:r>
              <a:rPr b="1" lang="ar-SA" sz="1600" spc="-1" strike="noStrike" u="sng">
                <a:solidFill>
                  <a:srgbClr val="0000ff"/>
                </a:solidFill>
                <a:uFillTx/>
                <a:latin typeface="Times New Roman"/>
                <a:ea typeface="Simplified Arabic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عدم توفر بيانات حول الافراد ذوي الاعاقة في فلسطين لتسد الحاجة من حيث التعرف على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احتياجات هذه الشريحة ومدى اندماجها في المجتم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غياب البيانات التي تسهم في رسم السياسات اللازمة للنهوض بواقع الافراد ذوي الاعاقة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الذي شكل  عائقا في توفير سلة الخدمات الصحية والاجتماعية لهؤلاء الافرا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التعريف القديم المستخدم في تحديد من هم ذوي الاعاقة لم يأخذ بالحسبان ان الاعاقة هي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عملية مستمرة تبدأ من صعوبات بسيطة وتنتهي بإعاقات دائمة وكبيرة، لذا كان لا بد من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تطبيق معايير دولية جديدة خاصة بتصنيفات الاعاقة والتي تأخذ بالحسبان أن الاعاقة هي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مفهوم اجتماعي اكثر من كونه مفهوم طبي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362320" y="1295280"/>
            <a:ext cx="5333760" cy="703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"/>
                <a:cs typeface="Simplified Arabic"/>
              </a:rPr>
              <a:t>الاستخدام الفعال للإحصاءات في السياسا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1B78-2E9A-460B-90B4-B9381D1C17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3505320" y="1523880"/>
            <a:ext cx="525780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ff"/>
                </a:solidFill>
                <a:uFillTx/>
                <a:latin typeface="Times New Roman"/>
                <a:cs typeface="Simplified Arabic"/>
              </a:rPr>
              <a:t>النتائج التي تحققت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سد الفجوة المعلوماتية من خلال توفير بيانات حول العديد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من المؤشرات الهامة التي تساعد في التخطيط ورسم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السياسات وتحديد احتياجات الافراد ذوي الاعاقة التي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تمكنهم من الاندماج في المجتمع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التعرف عن كثب على احتياجات الافراد ذوي الاعاقة من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خلال النتائج التي حصلنا عليها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استثمار بيانات المسح لإطلاق بطاقة المعاق، والتي من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خلالها سيتم تحديد سلة احتياجات هؤلاء الافراد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ounded Rectangle 5"/>
          <p:cNvSpPr/>
          <p:nvPr/>
        </p:nvSpPr>
        <p:spPr>
          <a:xfrm>
            <a:off x="380880" y="388620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ff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توثيق التجربة وتبنيها من قبل المعهد العربي للتدريب والبحوث الاحصائية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ounded Rectangle 6"/>
          <p:cNvSpPr/>
          <p:nvPr/>
        </p:nvSpPr>
        <p:spPr>
          <a:xfrm>
            <a:off x="380880" y="220968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ffb3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ff"/>
                </a:solidFill>
                <a:latin typeface="Times New Roman"/>
                <a:cs typeface="Simplified Arabic"/>
              </a:rPr>
              <a:t>تبني النتائج على صعيد الحكومة الفلسطينية وتم مباشرة العمل بإعداد الإستراتيجية لتطوير واقع   ذوي الإعاقة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45AE-4D6F-4862-955A-845B42E414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457200" y="1600200"/>
            <a:ext cx="807732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 u="sng">
                <a:solidFill>
                  <a:srgbClr val="0000ff"/>
                </a:solidFill>
                <a:uFillTx/>
                <a:latin typeface="Times New Roman"/>
                <a:cs typeface="Simplified Arabic"/>
              </a:rPr>
              <a:t>تفاصيل التجربة او الممارسة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تم تنفيذ مسح الأفراد ذوي الإعاقة في الأراضي الفلسطينية في العام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2011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، على عينة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أسرية قدرها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15,572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أسر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الهدف توفير بيانات عن الخصائص العامة للأفراد ذوي الإعاقات/الصعوبات من خلال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استمارة خاصة تم تصميمها بناءً على أحدث التوصيات الصادرة عن منظمة الصحة العالمية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الخاصة بتصنيف الإعاقة وكذلك مجموعة واشنطن لإحصاءات الإعاقة مع الأخذ بعين الاعتبار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خصوصية المجتمع ألفلسطيني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تم قياس العديد من المؤشرات المرتبطة بالبيئة والبنية التحتية التي يعيشها الفرد من ذوي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الإعاقة والاحتياجات المستقبلية ومدى اندماج هؤلاء الأفراد في المجتم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FCF8-EDBC-4B77-B05C-4BC401CC68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33520" y="1523880"/>
            <a:ext cx="8076960" cy="69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(تابع) </a:t>
            </a:r>
            <a:r>
              <a:rPr b="1" lang="ar-QA" sz="2000" spc="-1" strike="noStrike" u="sng">
                <a:solidFill>
                  <a:srgbClr val="0000ff"/>
                </a:solidFill>
                <a:uFillTx/>
                <a:latin typeface="Times New Roman"/>
                <a:cs typeface="Simplified Arabic"/>
              </a:rPr>
              <a:t>تفاصيل التجربة او الممارسة</a:t>
            </a:r>
            <a:r>
              <a:rPr b="1" lang="ar-SA" sz="2000" spc="-1" strike="noStrike" u="sng">
                <a:solidFill>
                  <a:srgbClr val="0000ff"/>
                </a:solidFill>
                <a:uFillTx/>
                <a:latin typeface="Times New Roman"/>
                <a:ea typeface="Simplified Arabic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ستسهم بيانات هذا المسح في التخطيط اللازم لاستصدار بطاقة المعاق ضمن المشروع الذي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تعمل عليه السلطة الفلسطينية من خلال وزارة الشؤون الاجتماعية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المسح ينفذ لأول مرة في الأراضي الفلسطينية وفي المنطقة العربي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بدأ التخطيط لتنفيذ المسح في العام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2010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، من خلال تشكيل لجنة وطنية للمسح، مكونة من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الوزارات المعنية والمنظمات غير الحكومية المحلية العاملة في مجال الإعاقة والمؤسسات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البحثية والأكاديمية للاتفاق على مؤشرات المسح والمنهجية والأدوا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تم تنفيذ التجربة القبلية في اواخر العام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2010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، فيما نفذ المسح الرئيسي في الربع الأول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 من العام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2011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، حيث استمر جمع البيانات من الميدان قرابة الشه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16765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6479-1AE2-401B-B34B-4AD5D17E03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609480" y="1752480"/>
            <a:ext cx="807732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(تابع) </a:t>
            </a:r>
            <a:r>
              <a:rPr b="1" lang="ar-QA" sz="2000" spc="-1" strike="noStrike" u="sng">
                <a:solidFill>
                  <a:srgbClr val="0000ff"/>
                </a:solidFill>
                <a:uFillTx/>
                <a:latin typeface="Times New Roman"/>
                <a:cs typeface="Simplified Arabic"/>
              </a:rPr>
              <a:t>تفاصيل التجربة او الممارس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تم الاعلان عن النتائج الأولية للمسح في شهر حزيران من العام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201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صدر التقرير الرئيسي في شهر ديسمبر من نفس العا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بلغت موازنة المشروع حوالي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213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الف دولار، ساهم في تغطيتها كل من وزارة الشؤون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 الاجتماعية ومنظمة اليونيسف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8:58:38Z</dcterms:created>
  <dc:creator>PCBS</dc:creator>
  <dc:description/>
  <dc:language>en-US</dc:language>
  <cp:lastModifiedBy>nharb</cp:lastModifiedBy>
  <dcterms:modified xsi:type="dcterms:W3CDTF">2012-09-04T08:40:56Z</dcterms:modified>
  <cp:revision>330</cp:revision>
  <dc:subject/>
  <dc:title>PowerPoint Presentation</dc:title>
</cp:coreProperties>
</file>