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9720" y="4722480"/>
            <a:ext cx="4992480" cy="4473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E06C040-1A4B-4F15-B517-8D487BFDD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D403DBC-D2C1-4B27-AAF6-5F63B557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9720" y="4722480"/>
            <a:ext cx="4992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6BF3599-E5CF-4742-B301-E8A48E19B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104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 click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- one bullet point per clic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ffers lessons and recommendations collected through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GWP’s world-wide network of partners, an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rough a number of specially convened workshops, which brought together representatives engaged in preparing strategies from countries in Asia, Africa and Latin Americ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keholders and professionals representing a wide range of water and development expertise also contributed through an inclusive process of consultation and revi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cused on the initial steps needed to get countries moving towards more sustainable and efficient ways of managing their water re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imed at helping developing countries, but also useful for developed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98E48AF-91BE-4B2C-8E38-E8F925F57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4701C33-53C8-4E38-88B1-1ED5AE0D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E357667-EACF-4532-A211-6BB991C5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C758977-9DAF-4F37-A3B2-72649A16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D49-194A-4249-B82D-6BF0DDBF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F56-4707-406E-9423-ADF56858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A16-6BB1-494F-9BED-3595FBC3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5ED-92D4-473A-80D3-0F98E420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D623-805C-4E5A-8FA0-431A0106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FBAB-55FB-4721-BCFA-5635C7EF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B5AE-CB6C-4509-84FB-5F93BB0E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D88B-889F-4535-9F64-E90805C0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6851-7617-4B3A-8388-5D0CCF54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B725-CDA5-4BC9-A94C-64112873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8BFB-BAEF-40A4-AAFF-BCA838C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A48-1E9D-4249-8D0D-B238F82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DFF-721E-4779-8871-602D86C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7167-0155-4C53-AA12-7A02218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C038-470D-4434-AB74-81C40F4E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7442-D23C-426D-87CD-49C92ADB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8847-5E7D-4461-A099-B2121C8F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99D-6753-42B7-9664-F8B84643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3CE-8168-4DDD-A817-5D86D67F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B4E-DBB0-4498-95A9-823FFD2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770-350F-4FFB-8577-113A0E0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E0B-0476-460D-92BA-FF8585A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B69-66F8-4F3F-A7E3-478CFF2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4C8-42D6-4068-8609-4D3ED4B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rgen Schwarzler, UN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CFDF-166E-481D-9412-F53B47A09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UNlogo"/>
          <p:cNvPicPr/>
          <p:nvPr/>
        </p:nvPicPr>
        <p:blipFill>
          <a:blip r:embed="rId2"/>
          <a:stretch/>
        </p:blipFill>
        <p:spPr>
          <a:xfrm>
            <a:off x="457200" y="457200"/>
            <a:ext cx="838080" cy="70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63" descr="UNlogo"/>
          <p:cNvPicPr/>
          <p:nvPr/>
        </p:nvPicPr>
        <p:blipFill>
          <a:blip r:embed="rId2"/>
          <a:stretch/>
        </p:blipFill>
        <p:spPr>
          <a:xfrm>
            <a:off x="3809880" y="380880"/>
            <a:ext cx="1828800" cy="154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rgen Schwarzler, UN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110-ECA6-4FC3-8503-E84CDAE42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vardon@un.or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6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334E-B649-4AD3-B1B1-905756C03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The System of 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nvironmental-Economic Accounting for Water 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(SEEAW)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art 2 </a:t>
            </a:r>
            <a:br>
              <a:rPr sz="28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00cc"/>
                </a:solidFill>
                <a:latin typeface="Times New Roman"/>
              </a:rPr>
              <a:t>Training Session on the System of Environmental-Economic Accounting for Water (SEEAW) for the Arab Gulf Countries</a:t>
            </a:r>
            <a:br>
              <a:rPr sz="2200"/>
            </a:br>
            <a:r>
              <a:rPr b="0" lang="en-US" sz="2200" spc="-1" strike="noStrike">
                <a:solidFill>
                  <a:srgbClr val="6600cc"/>
                </a:solidFill>
                <a:latin typeface="Times New Roman"/>
              </a:rPr>
              <a:t>August 25-28, 2008</a:t>
            </a:r>
            <a:br>
              <a:rPr sz="2200"/>
            </a:br>
            <a:r>
              <a:rPr b="0" lang="en-US" sz="2200" spc="-1" strike="noStrike">
                <a:solidFill>
                  <a:srgbClr val="6600cc"/>
                </a:solidFill>
                <a:latin typeface="Times New Roman"/>
              </a:rPr>
              <a:t>UN House- Beirut-Lebanon</a:t>
            </a:r>
            <a:br>
              <a:rPr sz="2200"/>
            </a:br>
            <a:endParaRPr b="0" lang="en-US" sz="2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4920" y="522936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Var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Nations Statistic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9360-F5B3-4EB8-9915-03EB9603B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Integrated Water Resources Management: core features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olves developing efficient, equitable and sustainable solutions to water and development 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s aligning interests and activities that are traditionally seen as unrelated or not well coordinated (horizontally and vert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s knowledge from various disciplines as well as insights from divers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just water: involves integrating water in overall sustainable development processes. Also requires coordinating the management of wa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land and relate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FB4-1071-41F9-8B0C-F95FE20C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700280"/>
            <a:ext cx="450072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Arial"/>
              </a:rPr>
              <a:t>The challe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Arial"/>
              </a:rPr>
              <a:t>Monitoring and ass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Arial"/>
              </a:rPr>
              <a:t>water r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Arial"/>
              </a:rPr>
              <a:t>for the MD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Arial"/>
              </a:rPr>
              <a:t>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Arial"/>
              </a:rPr>
              <a:t>an IWRM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4211640" y="-747720"/>
            <a:ext cx="5255640" cy="7605000"/>
            <a:chOff x="4211640" y="-747720"/>
            <a:chExt cx="5255640" cy="7605000"/>
          </a:xfrm>
        </p:grpSpPr>
        <p:grpSp>
          <p:nvGrpSpPr>
            <p:cNvPr id="133" name="Group 4"/>
            <p:cNvGrpSpPr/>
            <p:nvPr/>
          </p:nvGrpSpPr>
          <p:grpSpPr>
            <a:xfrm>
              <a:off x="4211640" y="-747720"/>
              <a:ext cx="5255640" cy="7605000"/>
              <a:chOff x="4211640" y="-747720"/>
              <a:chExt cx="5255640" cy="7605000"/>
            </a:xfrm>
          </p:grpSpPr>
          <p:pic>
            <p:nvPicPr>
              <p:cNvPr id="134" name="Picture 5" descr="globe sea"/>
              <p:cNvPicPr/>
              <p:nvPr/>
            </p:nvPicPr>
            <p:blipFill>
              <a:blip r:embed="rId1"/>
              <a:stretch/>
            </p:blipFill>
            <p:spPr>
              <a:xfrm>
                <a:off x="4211640" y="-747720"/>
                <a:ext cx="5255640" cy="76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6"/>
              <p:cNvSpPr/>
              <p:nvPr/>
            </p:nvSpPr>
            <p:spPr>
              <a:xfrm>
                <a:off x="4243320" y="-747720"/>
                <a:ext cx="5191920" cy="687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Freeform 7"/>
            <p:cNvSpPr/>
            <p:nvPr/>
          </p:nvSpPr>
          <p:spPr>
            <a:xfrm>
              <a:off x="6140880" y="6039000"/>
              <a:ext cx="1304640" cy="486000"/>
            </a:xfrm>
            <a:prstGeom prst="pi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7472160" y="5928480"/>
              <a:ext cx="159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ccecff"/>
                  </a:solidFill>
                  <a:latin typeface="Arial"/>
                </a:rPr>
                <a:t>Global Wa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ccecff"/>
                  </a:solidFill>
                  <a:latin typeface="Arial"/>
                </a:rPr>
                <a:t>Partn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092-18C6-4FFE-9FF8-3770BB879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Development of SEEA Water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group on Water Accounting established at the 2003 meeting of the London Group (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2004 SEEA Water discussed at London Group Meeting (Copenha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5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aft SEEA Water discussed in by sub-group (New Y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6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aft discussed at the User-Producer Conference (Voorbu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 2006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aft discussed by London Group and UNCE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-Dec 2006 SEEA Water finalised by electronic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0 experts participated in the Sub-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D coordinated the group and prepared the various manu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B33-7953-493C-8E95-A31B0C96F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EEA Water – an interim international statistical standard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77240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 of SEEA Water was adopted by the United Nations Statistical Commission in March 2007 as an interim statistical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2 contains the elements of SEEA Water for which there is less country experience and there is still some de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A Water has been recognized as useful by the user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81D5-83B1-46EC-9AD1-55985599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3311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EEA Water</a:t>
            </a:r>
            <a:br>
              <a:rPr sz="4000"/>
            </a:b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3780000" y="476280"/>
          <a:ext cx="487512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76280"/>
                    <a:ext cx="48751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4"/>
          <p:cNvSpPr/>
          <p:nvPr/>
        </p:nvSpPr>
        <p:spPr>
          <a:xfrm>
            <a:off x="324000" y="2708280"/>
            <a:ext cx="354636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s and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y and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6323-17BE-4F94-9893-52F3DEBB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EEW - Structur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Chapters, 2 p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 1.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2 Water Accounting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3 Physical Supply and Use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4 Emission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5 Hybrid and Economic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6 Asset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7 Quality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8 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. 9 Policy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4DBE-DA94-406B-92C7-CDAB68A9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12 Standard Tabl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supp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 and net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ssions by ISIC 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(Monetary and Physical)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supply an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water supply and sewerage for ow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ment accounts for water related collective consumption services (Monet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expenditure for waste management (Monet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accounts for waste water management (Monet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t account (Phys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Supplementary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35E-1ADC-4A13-BE6E-C8E75BABE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Physical water use: Standard Table I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413000"/>
          <a:ext cx="8351640" cy="4846680"/>
        </p:xfrm>
        <a:graphic>
          <a:graphicData uri="http://schemas.openxmlformats.org/drawingml/2006/table">
            <a:tbl>
              <a:tblPr/>
              <a:tblGrid>
                <a:gridCol w="871560"/>
                <a:gridCol w="2941560"/>
                <a:gridCol w="452520"/>
                <a:gridCol w="453960"/>
                <a:gridCol w="453960"/>
                <a:gridCol w="453960"/>
                <a:gridCol w="455760"/>
                <a:gridCol w="453960"/>
                <a:gridCol w="453960"/>
                <a:gridCol w="452520"/>
                <a:gridCol w="453960"/>
                <a:gridCol w="453960"/>
              </a:tblGrid>
              <a:tr h="27648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es (by ISIC categor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the 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3, 41-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39, 45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 the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1 - Total abstraction (=a.1+a.2=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1+b.2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- Abstraction for own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2- Abstraction for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1- From water resourc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face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nd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2- From other sour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ection of precip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traction from the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the econo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2 - Use of water received from other economic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=U1+U2 -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se of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E35-B1D4-4E1C-BDF9-A74ED074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Physical water supply: Standard Table II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341360"/>
          <a:ext cx="8497800" cy="4740480"/>
        </p:xfrm>
        <a:graphic>
          <a:graphicData uri="http://schemas.openxmlformats.org/drawingml/2006/table">
            <a:tbl>
              <a:tblPr/>
              <a:tblGrid>
                <a:gridCol w="887400"/>
                <a:gridCol w="2992320"/>
                <a:gridCol w="462240"/>
                <a:gridCol w="460080"/>
                <a:gridCol w="463680"/>
                <a:gridCol w="460440"/>
                <a:gridCol w="461880"/>
                <a:gridCol w="463680"/>
                <a:gridCol w="460440"/>
                <a:gridCol w="460080"/>
                <a:gridCol w="465120"/>
                <a:gridCol w="460440"/>
              </a:tblGrid>
              <a:tr h="28440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es (by ISIC categor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the 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3, 41-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39, 45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the econo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 - Supply of water to other economic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whi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used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stewater to sew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he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 - Total returns (= d.1+d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1- To water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face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nd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2- To other sources (e.g. Sea wa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-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upply of water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= S1+S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p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U - 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1080-E405-4E54-8606-86A9B842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0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Water emissions: Standard Table III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628640"/>
          <a:ext cx="8353440" cy="4511880"/>
        </p:xfrm>
        <a:graphic>
          <a:graphicData uri="http://schemas.openxmlformats.org/drawingml/2006/table">
            <a:tbl>
              <a:tblPr/>
              <a:tblGrid>
                <a:gridCol w="3780000"/>
                <a:gridCol w="507960"/>
                <a:gridCol w="507960"/>
                <a:gridCol w="509760"/>
                <a:gridCol w="507960"/>
                <a:gridCol w="507960"/>
                <a:gridCol w="507960"/>
                <a:gridCol w="507960"/>
                <a:gridCol w="507960"/>
                <a:gridCol w="507960"/>
              </a:tblGrid>
              <a:tr h="307080">
                <a:tc gridSpan="10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lu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es (by ISIC catego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the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3, 41-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 45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emissions (= a + 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 Direct emissions to water  (= a1 + a2 = b1 + 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. Without trea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. After on-site trea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. To water resour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. To the 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 To Sewerage (ISIC 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Reallocation of emission by ISIC 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Net emissions (= a. + d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3179-968C-4D0C-B87A-126243DE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4616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have environmental accoun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Accounting and the Global Water Partnership and Integrated Water Resour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A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ors from SEEA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9FC-E0B3-4F7B-86A0-94C6588FE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Hybrid water use: Standard Table VI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557360"/>
          <a:ext cx="8964720" cy="4541760"/>
        </p:xfrm>
        <a:graphic>
          <a:graphicData uri="http://schemas.openxmlformats.org/drawingml/2006/table">
            <a:tbl>
              <a:tblPr/>
              <a:tblGrid>
                <a:gridCol w="2595600"/>
                <a:gridCol w="351000"/>
                <a:gridCol w="352440"/>
                <a:gridCol w="352440"/>
                <a:gridCol w="493560"/>
                <a:gridCol w="352440"/>
                <a:gridCol w="352440"/>
                <a:gridCol w="352440"/>
                <a:gridCol w="633240"/>
                <a:gridCol w="409680"/>
                <a:gridCol w="436680"/>
                <a:gridCol w="479520"/>
                <a:gridCol w="492120"/>
                <a:gridCol w="606240"/>
                <a:gridCol w="352440"/>
                <a:gridCol w="352440"/>
              </a:tblGrid>
              <a:tr h="246240">
                <a:tc gridSpan="16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and monetary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mediate consumption of industries (by ISIC categori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 final consum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for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ses at purchaser’s pr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3, 41-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39, 45-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dus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which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Hyd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transfers in kind from Government and NPIS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termediate consumption and us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onetary un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whi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Natural water (CPC 18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werage services (CPC 9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value adde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monetary un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se of wate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hysical un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1 - Total Abstra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which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1- Abstraction for own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2 - Use of water received from other economic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BCA-EEAB-4F86-A52F-DD191905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Physical water assets: Standard Table XII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484280"/>
          <a:ext cx="8497800" cy="5373720"/>
        </p:xfrm>
        <a:graphic>
          <a:graphicData uri="http://schemas.openxmlformats.org/drawingml/2006/table">
            <a:tbl>
              <a:tblPr/>
              <a:tblGrid>
                <a:gridCol w="338040"/>
                <a:gridCol w="2727360"/>
                <a:gridCol w="835200"/>
                <a:gridCol w="715680"/>
                <a:gridCol w="677880"/>
                <a:gridCol w="935280"/>
                <a:gridCol w="914400"/>
                <a:gridCol w="698400"/>
                <a:gridCol w="655560"/>
              </a:tblGrid>
              <a:tr h="25236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.131 Surface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.132 Ground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.133 Soil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.1311 Reservoi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.1312 Lak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.1313 Riv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.1314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ow, Ice and Gla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ing Sto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s in sto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from the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p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ow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 upstream territ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 other resources in the terri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s in sto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tr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whi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ustainable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poration/Actual evapotranspi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fl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downstream territ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he s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other resources in the terri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hanges in  volu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sing Sto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DB4A-0CC9-4366-A7EA-89E46EE2B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asic concepts and definition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traction from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ly and use within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turns to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5351400" y="1946160"/>
          <a:ext cx="3371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1400" y="1946160"/>
                    <a:ext cx="337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699E-6099-4CE5-83C7-7769A58D3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of pressure on water resourc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 trends in total water use, emissions, water use by natural source and purpose, etc. ‘Decoupling’ economic growth and water use, 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-level trends:  indicators used for environmental-economic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and driving forces: water intensity/productivity and total (domestic) water requirements to meet final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transport of water and 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892160" y="825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dicators from SEEA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2ABD-62C9-4B99-B2D2-E34093F6A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ndicators: economic growth and water pollution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39640" y="1541520"/>
            <a:ext cx="8353440" cy="5316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3203640" y="836640"/>
            <a:ext cx="36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herlands: water </a:t>
            </a: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pollu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d economic growth, 1999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6F3F-7A5B-4A45-8270-70E59A17C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ndicators: economic growth and water use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209080" cy="4926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204360" y="9079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tswana: </a:t>
            </a: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water u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d econo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wth, 1993-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C1C1-902B-423D-B13C-37D197EB9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03280" y="1365120"/>
            <a:ext cx="7056360" cy="5492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332000" y="58680"/>
            <a:ext cx="761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Environmental Economic Prof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Sweden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B87A-E4A6-4ABC-AABA-5C322C155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981000"/>
            <a:ext cx="74358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International transport of pollution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5181840" cy="38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816120" y="2060640"/>
            <a:ext cx="81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Share of pollution in rivers in the Netherlands originating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8568-7086-4309-A83A-D4E3ACF5F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Projecting future water demands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Australia 2050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489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D203-60FE-4B4A-AC14-6D6315B94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cc"/>
                </a:solidFill>
                <a:latin typeface="Times New Roman"/>
              </a:rPr>
              <a:t>Modelling Effects of Price Changes: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Murray-Darling River Basin</a:t>
            </a:r>
            <a:r>
              <a:rPr b="1" lang="en-GB" sz="3200" spc="-1" strike="noStrike">
                <a:solidFill>
                  <a:srgbClr val="6600cc"/>
                </a:solidFill>
                <a:latin typeface="Times New Roman"/>
              </a:rPr>
              <a:t> Australia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ased on historical water use &amp; price data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ed impact on GDP of doubling water price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and the expected increases in water use efficiency (WUE) of 1-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533520" y="3413160"/>
          <a:ext cx="7883280" cy="34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13160"/>
                    <a:ext cx="78832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AC7F-2FA0-4BCC-A327-FFC41D7A2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cc"/>
                </a:solidFill>
                <a:latin typeface="Times New Roman"/>
              </a:rPr>
              <a:t>Why an accounting approach?</a:t>
            </a:r>
            <a:endParaRPr b="0" lang="en-US" sz="4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45800"/>
            <a:ext cx="84852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ncourages the adoption of standard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roduces accounting concepts to environmental statist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mproves both economic and environmental statistics by encouraging consistenc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mplicitly defines ownership and hence responsibility for environmental impac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ncourages the development of comprehensive data se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Facilitates international comparis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A415-8F9A-4167-ADC5-3FE1D4C9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Key lessons from countries implementing SEEA Water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Build on existing statistical/scientific knowledge an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Cooperation ess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statistical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statistical offices, water departments, economic/planning departments and agricultural depar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the water supply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the scientific and research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users and producers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A phased approach i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issues of most importance. In water scarce countries it has been water supply and use. In industrialized countries it has been pol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lot or experimental accounts are very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ill appreciate the benefits more easily with concrete examples, even if they are small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2D45-653F-4136-A24F-1669BE59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ontact detail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Var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r on Environmental-Economic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Nations Statistics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York 10017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DC2 1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e: +1 917 367 53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x: +1 917 363 13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vardon@un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305F-2518-4125-BB8B-0ADFDEB65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trengths of the accounting approach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098440"/>
            <a:ext cx="8153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sed body of information facilitates integrated economic-environmental analysis (complements sustainable development indicators, modell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rehensive and consistent, routine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system into which monetary valuations of environmental costs can be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0C6B-5648-455A-99EC-EF187A5E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Environmental-Economic Accounting and Environment Statistic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08600" y="2438280"/>
            <a:ext cx="4983120" cy="3678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380880" y="22096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stat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developed to answer one particular question o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figure out if all information i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ways easy to see the whole picture, or how it relates to other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not integrated with economic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0" y="1916280"/>
            <a:ext cx="4392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parate piles o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1CB1-5517-474A-B4FE-0DE5A1459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nvironmental-Economic Accounting builds on Environment and Economic Statistic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80880" y="23623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accou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o make sense of the larger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o identify pieces that are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ake connections to other statistics, especially to economic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3191040" cy="4354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500720" y="1773360"/>
            <a:ext cx="4392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grat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F3FF-E85B-48C2-9CE8-0B6DE723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 is not always consistent among economists, environmental statisticians, scientists and policy m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Need to use a clear, agreed 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One of the SEEA main contribution is the standardisation of terms and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070-EB81-40AD-9225-52DBCFB3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Keys concepts of SEEA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47640" y="1844640"/>
          <a:ext cx="5400720" cy="4114800"/>
        </p:xfrm>
        <a:graphic>
          <a:graphicData uri="http://schemas.openxmlformats.org/drawingml/2006/table">
            <a:tbl>
              <a:tblPr/>
              <a:tblGrid>
                <a:gridCol w="2232360"/>
                <a:gridCol w="1614240"/>
                <a:gridCol w="1554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.g. tonnes, 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.g. $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, ¥, €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5CE8-CE62-4F3A-84A4-36BFC62D3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1557360"/>
            <a:ext cx="4176720" cy="411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The role and valu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Water Accou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AW provides the much-needed conceptual framework for monitoring and assess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o Lent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Water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4211640" y="-747720"/>
            <a:ext cx="5255640" cy="7605000"/>
            <a:chOff x="4211640" y="-747720"/>
            <a:chExt cx="5255640" cy="7605000"/>
          </a:xfrm>
        </p:grpSpPr>
        <p:grpSp>
          <p:nvGrpSpPr>
            <p:cNvPr id="122" name="Group 4"/>
            <p:cNvGrpSpPr/>
            <p:nvPr/>
          </p:nvGrpSpPr>
          <p:grpSpPr>
            <a:xfrm>
              <a:off x="4211640" y="-747720"/>
              <a:ext cx="5255640" cy="7605000"/>
              <a:chOff x="4211640" y="-747720"/>
              <a:chExt cx="5255640" cy="7605000"/>
            </a:xfrm>
          </p:grpSpPr>
          <p:pic>
            <p:nvPicPr>
              <p:cNvPr id="123" name="Picture 5" descr="globe sea"/>
              <p:cNvPicPr/>
              <p:nvPr/>
            </p:nvPicPr>
            <p:blipFill>
              <a:blip r:embed="rId1"/>
              <a:stretch/>
            </p:blipFill>
            <p:spPr>
              <a:xfrm>
                <a:off x="4211640" y="-747720"/>
                <a:ext cx="5255640" cy="76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Rectangle 6"/>
              <p:cNvSpPr/>
              <p:nvPr/>
            </p:nvSpPr>
            <p:spPr>
              <a:xfrm>
                <a:off x="4243320" y="-747720"/>
                <a:ext cx="5191920" cy="687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"/>
            <p:cNvSpPr/>
            <p:nvPr/>
          </p:nvSpPr>
          <p:spPr>
            <a:xfrm>
              <a:off x="6140880" y="6039000"/>
              <a:ext cx="1304640" cy="486000"/>
            </a:xfrm>
            <a:prstGeom prst="pi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7472160" y="5928480"/>
              <a:ext cx="159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ccecff"/>
                  </a:solidFill>
                  <a:latin typeface="Arial"/>
                </a:rPr>
                <a:t>Global Wa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ccecff"/>
                  </a:solidFill>
                  <a:latin typeface="Arial"/>
                </a:rPr>
                <a:t>Partn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5:48:34Z</dcterms:created>
  <dc:creator>Juergen Schwaerzler</dc:creator>
  <dc:description/>
  <dc:language>en-US</dc:language>
  <cp:lastModifiedBy> </cp:lastModifiedBy>
  <dcterms:modified xsi:type="dcterms:W3CDTF">2008-07-21T05:05:17Z</dcterms:modified>
  <cp:revision>212</cp:revision>
  <dc:subject/>
  <dc:title>Introduction to the International Family of Classification </dc:title>
</cp:coreProperties>
</file>