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8A2-C246-4A8D-BC46-9EB69984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46760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025-6EF2-4A5B-984C-55C3C11F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1B1-65BD-4E2D-A564-DACAC4AE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210348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210348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46760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46760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46760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B6D-3481-41C4-8196-13431499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62303-D40F-4283-B7E2-B84D432465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2103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0F0A6-D8E2-43B2-86BC-F6ED2CBF45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66F65-A7BA-45E3-BE3B-1046045512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763FD-B4D7-4155-8FEA-C096B8DAD2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05CC0-8A4F-4DE5-94F1-074E31E886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84D53-99F0-4712-A20D-16DF6DC0D4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0005E-6A73-4F8A-BBF5-1B3042CBB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103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964-D928-45BE-9BC2-DFD4A648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C045C-4A00-474E-8047-2C75F87E3A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46760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E4224-F8B2-4EF8-AFEF-0A20BBB6DA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46760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D201B-E816-433F-92C0-CF4B2B7F46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D5AF1-6B9A-4CDC-A8FC-F32930EC9B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210348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210348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46760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446760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446760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F4F0C-67F8-4F6D-AF62-238682E49D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099F7-CD03-4C08-8226-4AD84C5D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103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C2BFAC-C8D1-479A-B49B-FFB27E4E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E30D3-8E2B-414C-A6C6-165C35F9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9D35A-E4F1-4194-B5A6-555FF7A2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B78AB-1AEE-4682-AE7C-A3EFB88E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4D5-EF9D-4185-A16C-A2940797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3892F-578F-4035-8255-F3C5092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1A073-8E58-4807-B65C-87F1512F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1708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179E3-C507-4AF3-BBD5-9E07833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446760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BF15D6-E9BF-4B7F-804B-5B566E2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4920" y="446760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02B70-FAED-43FB-833F-BB736057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492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1708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71A4C-17AC-4DBB-82DD-D11284A7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6240" y="210348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560" y="210348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4920" y="446760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6240" y="446760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7560" y="446760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0BF3D-E9E3-4DEB-9E86-6EE82B51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9A8-E9B1-4130-9E1B-BA68FEAE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2B1-5BCA-4F43-8EF1-E95AB3E1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AF8-5ED8-4C28-AA47-3B69DA46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B0E-869F-4EEA-9E85-E23E4EFB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46760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D0A-2EDD-4F08-9D3D-08BCA30D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210348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46760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2DA-1B03-496F-AF6F-58ACB00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904760" y="2514240"/>
            <a:ext cx="6476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08480" indent="-141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91800" indent="-1414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75480" indent="-1414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75480" indent="-1414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8382-00AA-43B7-8514-D748EEB7F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103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B8D1-3E73-4F2B-9290-69944C292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131D-418F-458F-8485-2EEE96622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9047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CESSITY OF DATA FOR THE IMPLEMENTATION OF INTEGRATED WATER RESOURCES MANAGEMENT IN GCC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  <a:ea typeface="Times New Roman"/>
              </a:rPr>
              <a:t>Prepar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  <a:ea typeface="Times New Roman"/>
              </a:rPr>
              <a:t>HOSNY KHORDAGUI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  <a:ea typeface="Times New Roman"/>
              </a:rPr>
              <a:t>WATER &amp; ENVIRONMENT TEAM LEADER, UN-ESC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Arial"/>
                <a:ea typeface="Times New Roman"/>
              </a:rPr>
              <a:t>TRAINING SESSION ON THE SYSTEM OF ENVIRONMENTAL-ECONOMIC ACCOUNTING FOR WATER FOR THE ARAB GULF COUNTRIES. 25-28 AUGUST, 2008, UN-ESCWA BEIRUT, LEBANON</a:t>
            </a:r>
            <a:r>
              <a:rPr b="0" lang="en-US" sz="1400" spc="-1" strike="noStrike">
                <a:solidFill>
                  <a:srgbClr val="ccffff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681-5DEE-46E8-AEA9-6DDDDFA2FEB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Arial"/>
              </a:rPr>
              <a:t>I- Primary water data is simply not available in the region in the same abundance or quality as economic performance data due to: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he generation of primary water data is a </a:t>
            </a: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highly technical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process involving well-trained field &amp; laboratory technicians, scientists, engineers &amp; biologists.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institutions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needed to generate the primary water data in its acceptable form (quality and quantity) are </a:t>
            </a: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not regularly available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n all governorates or localities.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capital &amp; operation costs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for water testing laboratories as well as field automated monitoring stations are quite high.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he environmental </a:t>
            </a: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management systems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n some GCC Countries are </a:t>
            </a: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not well developed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yet to design &amp; implement proper IWRM monitoring programs.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he existing </a:t>
            </a: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environmental &amp; water legislations &amp; by-laws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regulating different aspects of monitoring of water &amp; environment are some cases either </a:t>
            </a: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inadequate or out-dated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inadequate enforcement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of water &amp; environmental legislation in some GCC Countries diminished the response of a number of relevant sectors to meet their monitoring &amp; reporting requirements.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13371-7D4E-460D-B9C8-6C5A6A34E41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Arial"/>
              </a:rPr>
              <a:t>OTHER CHALLENGES &amp; CONSTRAINTS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281E1-1650-4B17-9E7C-3BD0FE1B979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II- Water Data is Often of Questionable Quality: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 large portion of water &amp; environmental data suffer from significant quality uncertainty. Water &amp; environmental date from some GCC States is lacking reliability &amp; is unverifiable. This can be attributed to the lack of adequate QA/QC programs to cover sampling, analysis &amp; reporting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number of certified and/or accredited water testing &amp; environmental laboratories is limited in the GCC Region. National reference laboratories are also few in number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rimary water &amp; environmental data suffer from lack of comparability at the national, regional &amp; global levels. The disregard of recognized uniform standard methods for water &amp; environmental monitoring &amp; analysis by some institutions in GCC contributed to this problem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iscontinuous data monitoring, in terms of both temporal &amp; spatial distributions, provides mostly snap shots only for hot spot areas. This lack of time series data prevents the detection of trends &amp; patterns that can be used in environmental accounts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Water &amp; environmental monitoring programs are mostly designed to focus on the traditional aspects of environmental health rather than the general environmental aspects of socio-economic development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DD18F-C8E9-43EC-A8C9-60E0F7715A8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a50021"/>
                </a:solidFill>
                <a:latin typeface="Arial"/>
              </a:rPr>
              <a:t>III- Water &amp; Environment data is sometimes not disclosed, shared or reported: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Primary water &amp; environment data is usually generated in the GCC Countries by a number of national &amp; local </a:t>
            </a:r>
            <a:r>
              <a:rPr b="1" lang="en-GB" sz="2200" spc="-1" strike="noStrike" u="sng">
                <a:solidFill>
                  <a:srgbClr val="006600"/>
                </a:solidFill>
                <a:uFillTx/>
                <a:latin typeface="Arial"/>
              </a:rPr>
              <a:t>government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 institutions. The lack of coordination among these institutions evidently resulted into the duplication, scattering &amp; fragmentation of the generated primary water &amp; environment data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Few countries in the GCC Region also suffers from an underlying attitude &amp; reluctance not to disclose or share water &amp; environment data with other bodies or the public. This phenomenon is due to: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Political Reasons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nformation on water security &amp; environmental performance is considered as classified information not to be disclosed. This is attributed to the sensitivity of the data &amp; to avoid any public pressure that might alter the development agenda of governments. Also disclosure of some data on water quality deterioration might cause unnecessary public concern &amp; unrest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Personal Reasons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n few cases government officials controlling water &amp; environmental data feel that controlling information under their jurisdiction is giving them more leverage &amp; authority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D0475-4999-4838-B3CE-512CD39CDAE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IV- Other Issue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85280" indent="-48528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Often water &amp; environmental data is not properly reported, mostly raw data in thick volumes &amp; tables full of technical jargons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85280" indent="-48528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ost of the water &amp; environmental data is poorly disseminated. So far, no regular data is available on electronic networks in most GCC countries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85280" indent="-48528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ater &amp; environmental data is not properly interpreted. This is due to severe shortage in certain technical expertise such as (environmental epidemiologists, environmental economists, biostatisticians, etc…) who are capable of correlating water &amp; environmental data to health records, production, economic performance, social advancement, environmental valuation, etc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85280" indent="-48528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ost water &amp; environment data is sectoral in nature &amp; are not used for </a:t>
            </a:r>
            <a:r>
              <a:rPr b="1" lang="en-US" sz="2200" spc="-1" strike="noStrike" u="sng">
                <a:solidFill>
                  <a:srgbClr val="006600"/>
                </a:solidFill>
                <a:uFillTx/>
                <a:latin typeface="Arial"/>
              </a:rPr>
              <a:t>I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RM </a:t>
            </a:r>
            <a:r>
              <a:rPr b="1" lang="en-US" sz="2200" spc="-1" strike="noStrike" u="sng">
                <a:solidFill>
                  <a:srgbClr val="006600"/>
                </a:solidFill>
                <a:uFillTx/>
                <a:latin typeface="Arial"/>
              </a:rPr>
              <a:t>integrated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ecision making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D7002-E740-444C-8EF1-EB805715423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WHERE DOES THE DATA CHAIN BREAKS?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ater &amp; environment data might not be available in some GCC due to inadequate monitoring &amp; inspection systems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f available, it might not be continuous (Snap shots – no time series)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f adequate, its might not be reliable (no QA/QC)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f reliable, it might not be comparable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f comparable, it might not be properly reported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f reported, it might not be disclosed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f disclosed, it might be poorly disseminated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f disseminated, it might not be interpreted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f interpreted, it is not linked to health &amp; socio-economic data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f linked, it is not used for </a:t>
            </a:r>
            <a:r>
              <a:rPr b="1" lang="en-US" sz="2200" spc="-1" strike="noStrike" u="sng">
                <a:solidFill>
                  <a:srgbClr val="006600"/>
                </a:solidFill>
                <a:uFillTx/>
                <a:latin typeface="Arial"/>
              </a:rPr>
              <a:t>IWRM integrated decision making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2023F-21A5-47DA-B476-BB9DA00D6A1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RECOMMEND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A3D91-ED36-4069-A4D1-E0FD4168D24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dertake comprehensive regional knowledge mapping effort to assess water &amp; environment monitoring systems that generates primary data in terms of achievements, gaps, constraints, challenges, opportunities, lessons learned, best practices &amp; coordination instruments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dentify capacity building needs to obtain reliable, continuous &amp; harmonious primary water data. This entails capacity building needs for establishing &amp; operating water monitoring facilities, strengthening national statistical bureaus, adapting standard monitoring procedures, applying QA/QC program, human resources development etc. 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pport national efforts for establishing means of coordination among various sectors that generate primary data for water &amp; environment accounting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e technical support to GCC Countries on mechanisms for integrating components of environmental accounting (economic &amp; environmental)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D5DAC-BD93-499A-AA26-AEE1011044E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THANK YOU</a:t>
            </a:r>
            <a:endParaRPr b="1" lang="en-US" sz="6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9DF59-3F32-4604-BA0E-5953599BAB12}" type="slidenum">
              <a:t>18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ATER SITUATION IN GCC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GCC region is considered one of the most arid areas in the world relying mostly on non-conventional water resources (Desalination &amp; wastewater reuse) &amp; limited groundwater resources.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The severe water-related problems in the region have been compounded in recent years by a sharp increase in water demand due mainly to: 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st growing population,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sustainable patterns of consumption,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elerated economic development and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gh urbanization &amp; industrialization growth rat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38678-6172-496D-AD2A-86BC914F44A0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HAT IS IWRM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WRM is an approach to promote coordinated development &amp; management of water, land &amp; related resources in order to maximize the resultant economic &amp; social welfare in an equitable manner without compromising the sustainability of vital ecosystem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order to apply IWRM, it is fundamental to integrate not only water data but also information from social, economic, health &amp; environmental sectors. This integration challenge is rarely addressed by scientists in the GCC Region, yet it is a reality that decision makers &amp; politicians must deal with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69634-D106-4BF3-B45E-68557603486C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TATUS OF IWRM IN GCC COUNTRIE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Overall assessment indicated the following: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l GCC Countries (at various degrees) have initiated national water strategies in line with IWRM framework. Only few countries have completed these strategies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st GCC Countries are undertaking some institutional &amp; legislative measures to implement IWRM strategies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ry few GCC Countries have evaluated post-application of IWRM;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 few cases the bottom-up participatory approach was adopted &amp; the expected roles of water stakeholders &amp; the mechanisms of coordination among them remained blurred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conomic instruments for demand control was found inadequate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vironmental component in IWRM was inadequat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E7DE8-FCA3-42A6-AD50-B3FB62C915F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ain accomplishments &amp; challenges in applying IWRM in GCC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6600"/>
                </a:solidFill>
                <a:uFillTx/>
                <a:latin typeface="Arial"/>
              </a:rPr>
              <a:t>Major Accomplishments: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ramework for private sector participation; - Efficient consumer services; – Progress in institutional &amp;  Legal reform; Improved enforcement capacity ;- Improved water infrastructure &amp; efficiency; Improved water reus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6600"/>
                </a:solidFill>
                <a:uFillTx/>
                <a:latin typeface="Arial"/>
              </a:rPr>
              <a:t>Challenges: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minance of supply management policies &amp; lesser attention to demand management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eavy reliance on desalinated water without adequate considerations to associated externalities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ack of coordination &amp; inadequate information generation &amp; sharing among relevant sector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adequate public participation in water planning &amp;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6600"/>
                </a:solidFill>
                <a:uFillTx/>
                <a:latin typeface="Arial"/>
              </a:rPr>
              <a:t>Areas in need of improvement to enhance IWRM applic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ationalization of water use &amp; Water Demand management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duce subsidies &amp; apply more efficient cost recovery mechanisms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hance partnership with civil society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mprove water &amp; environment monitoring for better decision making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DB538-5645-48FC-A588-9AFC774CA39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NSTRAINTS IN IMPLEMENTING IWRM IN GCC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103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ragmentation of institutions concerned with water resources &amp; lack of horizontal coordination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effective stakeholders participation &amp; inadequate bottom-up approach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Arial"/>
              </a:rPr>
              <a:t>Inadequate monitoring, reporting, sharing &amp; dissemination of water quality &amp; quantity data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tdated water legis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&amp; ineffective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forcem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ocial &amp; political debate on water services cost recove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pply management orientation &amp; poor demand management policie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34562-BCB0-4BED-9047-77BC516508B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mplementation of IWRM requires the provision of </a:t>
            </a:r>
            <a:r>
              <a:rPr b="0" lang="en-GB" sz="2400" spc="-1" strike="noStrike" u="sng">
                <a:solidFill>
                  <a:srgbClr val="006600"/>
                </a:solidFill>
                <a:uFillTx/>
                <a:latin typeface="Arial"/>
              </a:rPr>
              <a:t>reliable &amp; continuous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source of </a:t>
            </a:r>
            <a:r>
              <a:rPr b="0" lang="en-GB" sz="2400" spc="-1" strike="noStrike" u="sng">
                <a:solidFill>
                  <a:srgbClr val="006600"/>
                </a:solidFill>
                <a:uFillTx/>
                <a:latin typeface="Arial"/>
              </a:rPr>
              <a:t>primary water &amp; environment data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derived from extensive monitoring &amp; reporting programs to initiate the sequential build-up of correlations between water sector management &amp; environmental-economic accounting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50021"/>
                </a:solidFill>
                <a:uFillTx/>
                <a:latin typeface="Arial"/>
              </a:rPr>
              <a:t>FACT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ost of the GCC countries have developed comprehensive environmental &amp; water monitoring systems &amp; improved their national statistical &amp; reporting capacities. However, coordination among relevant sectors is inadequat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E3372-ACE8-438F-A235-4948A34DA6A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AVAILABILITY OF WATER DATA IN GCC COUNTRIES: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In GCC Region there has been a </a:t>
            </a:r>
            <a:r>
              <a:rPr b="1" lang="en-GB" sz="2800" spc="-1" strike="noStrike" u="sng">
                <a:solidFill>
                  <a:srgbClr val="006600"/>
                </a:solidFill>
                <a:uFillTx/>
                <a:latin typeface="Arial"/>
              </a:rPr>
              <a:t>relatively</a:t>
            </a: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ple supply of data on social &amp; economic aspects of development. This can be attributed to the long tradition of monitoring &amp; reporting on these two aspects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 contrast,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environmental &amp; water indicator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n GCC countries are not adequately and/or routinely &amp; publicly reported by most governments of the region or even by most international &amp; regional development organizations.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A9BED-E320-44DC-A067-9339984327E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Arial"/>
              </a:rPr>
              <a:t>WHY ?</a:t>
            </a:r>
            <a:endParaRPr b="1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31AAE-23E3-4B66-81EE-936B6DC520D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27:11Z</dcterms:created>
  <dc:creator>User</dc:creator>
  <dc:description/>
  <dc:language>en-US</dc:language>
  <cp:lastModifiedBy>Wafa Aboul Hosn,Team Leader, Sectoral Statistics</cp:lastModifiedBy>
  <dcterms:modified xsi:type="dcterms:W3CDTF">2008-08-20T08:02:33Z</dcterms:modified>
  <cp:revision>41</cp:revision>
  <dc:subject/>
  <dc:title>Main Title</dc:title>
</cp:coreProperties>
</file>