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17F-753A-444F-9A81-C3077A34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E64-DCB8-4978-8061-C5EC8CD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B89-7B86-4D0C-B6C0-DAF1DFEE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588-1112-4C48-97C6-F08B811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399-C40F-4081-BEA5-872821F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E59-9F79-4131-8F52-E9BFF4F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949-C064-40CF-996C-8641E9E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8F6-5A50-43B1-92A8-254E7919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7CA-CE6D-4D39-8F6F-CB210005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A07-8B7F-4FE5-9D91-568ACAE6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BA2-ECFF-46C6-A818-DBF8956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2C9-33FD-491D-BD95-558129D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FE1-2479-4475-9F92-8E5A845CD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nstats.un.org/unsd/environment/questionnaire2008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webb@un.or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SD Water Data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remy Web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ted Nations Statistics Divi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457200"/>
            <a:ext cx="31240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 W2 Water Use Bal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295280"/>
          <a:ext cx="8381880" cy="5173920"/>
        </p:xfrm>
        <a:graphic>
          <a:graphicData uri="http://schemas.openxmlformats.org/drawingml/2006/table">
            <a:tbl>
              <a:tblPr/>
              <a:tblGrid>
                <a:gridCol w="609480"/>
                <a:gridCol w="3948120"/>
                <a:gridCol w="957240"/>
                <a:gridCol w="741240"/>
                <a:gridCol w="304920"/>
                <a:gridCol w="606600"/>
                <a:gridCol w="303120"/>
                <a:gridCol w="606240"/>
                <a:gridCol w="304920"/>
              </a:tblGrid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ss freshwater abstracted (=W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Water returned without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et freshwater abstracted (=1-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salinate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use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mports of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xports of wa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otal freshwater made available for use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(=3+4+5+6-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eakage during transport  (=W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Wastewater generated (=11+12+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: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ischarged to inland water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ischarged to marine water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used water (=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nsumptive water use (=8-9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Water consumption (=14+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3 Freshwater Abs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600200"/>
          <a:ext cx="8459640" cy="4859280"/>
        </p:xfrm>
        <a:graphic>
          <a:graphicData uri="http://schemas.openxmlformats.org/drawingml/2006/table">
            <a:tbl>
              <a:tblPr/>
              <a:tblGrid>
                <a:gridCol w="605160"/>
                <a:gridCol w="4505760"/>
                <a:gridCol w="863640"/>
                <a:gridCol w="578160"/>
                <a:gridCol w="249120"/>
                <a:gridCol w="609480"/>
                <a:gridCol w="216000"/>
                <a:gridCol w="617400"/>
                <a:gridCol w="216000"/>
              </a:tblGrid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Water abstra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ss </a:t>
                      </a:r>
                      <a:r>
                        <a:rPr b="1" lang="en-US" sz="1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freshwater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abstracted (=11+21) (=2+3+4+5+6+7+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Water abstraction by water supply industry (ISIC 36) (=12+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irect abstraction b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Households (=13+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griculture, forestry and fishing (ISIC 01-03) (=14+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ufacturing industries (ISIC 15-37) (10+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lectricity industry (ISIC 35) (16+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ther economic activities (=17+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3 Freshwater Abs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784760"/>
        </p:xfrm>
        <a:graphic>
          <a:graphicData uri="http://schemas.openxmlformats.org/drawingml/2006/table">
            <a:tbl>
              <a:tblPr/>
              <a:tblGrid>
                <a:gridCol w="680040"/>
                <a:gridCol w="4155480"/>
                <a:gridCol w="906840"/>
                <a:gridCol w="604440"/>
                <a:gridCol w="216000"/>
                <a:gridCol w="574920"/>
                <a:gridCol w="216000"/>
                <a:gridCol w="650160"/>
                <a:gridCol w="225720"/>
              </a:tblGrid>
              <a:tr h="104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rface water abstr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ss </a:t>
                      </a:r>
                      <a:r>
                        <a:rPr b="1" lang="en-US" sz="1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fresh surface water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abstracted (=12+13+14+15+16+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68120" indent="-168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rface water abstraction by water supply industry (ISIC 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irect surface water abstraction b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griculture, forestry and fishing  (ISIC 01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ufacturing industries  (ISIC 10-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lectricity industry (ISIC 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ther economic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3 Freshwater Abs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828800"/>
          <a:ext cx="8462880" cy="4545000"/>
        </p:xfrm>
        <a:graphic>
          <a:graphicData uri="http://schemas.openxmlformats.org/drawingml/2006/table">
            <a:tbl>
              <a:tblPr/>
              <a:tblGrid>
                <a:gridCol w="619200"/>
                <a:gridCol w="4246200"/>
                <a:gridCol w="1003320"/>
                <a:gridCol w="601920"/>
                <a:gridCol w="216000"/>
                <a:gridCol w="668160"/>
                <a:gridCol w="216000"/>
                <a:gridCol w="677160"/>
                <a:gridCol w="216000"/>
              </a:tblGrid>
              <a:tr h="93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undwater abstr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ss </a:t>
                      </a:r>
                      <a:r>
                        <a:rPr b="1" lang="en-US" sz="1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fresh groundwater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abstracted (=22+23+24+25+26+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68120" indent="-168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undwater abstraction by water supply industry  (ISIC 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irect groundwater abstraction b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griculture, forestry and fishing  (ISIC 01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ufacturing industries  (ISIC 10-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lectricity industry (ISIC 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ther economic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5 Water Supply Indus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433520"/>
          <a:ext cx="8686800" cy="5211720"/>
        </p:xfrm>
        <a:graphic>
          <a:graphicData uri="http://schemas.openxmlformats.org/drawingml/2006/table">
            <a:tbl>
              <a:tblPr/>
              <a:tblGrid>
                <a:gridCol w="579600"/>
                <a:gridCol w="4151160"/>
                <a:gridCol w="950760"/>
                <a:gridCol w="881280"/>
                <a:gridCol w="285840"/>
                <a:gridCol w="631800"/>
                <a:gridCol w="287280"/>
                <a:gridCol w="633240"/>
                <a:gridCol w="285840"/>
              </a:tblGrid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Gross freshwater delivered by water supply  industry  (ISIC 36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1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reshwater losses during transpo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: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osses by evap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osses by lea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et freshwater delivered by water supply industry (ISIC 41)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(=1-2)      (=6+7+8+9+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1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 delivered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griculture, forestry and fishing  (ISIC 01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ufacturing (ISIC 10-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lectricity industry (ISIC 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ther economic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supplied by water supply industry (ISIC 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supplied by water supply industry (ISIC 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 W5 Total Water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638280"/>
                <a:gridCol w="3612960"/>
                <a:gridCol w="997200"/>
                <a:gridCol w="769680"/>
                <a:gridCol w="317520"/>
                <a:gridCol w="630360"/>
                <a:gridCol w="315720"/>
                <a:gridCol w="631800"/>
                <a:gridCol w="316080"/>
              </a:tblGrid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reshwater use, total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(=2+3+5+6+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 used b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griculture, forestry and fishing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(ISIC 01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for irrigation in agri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ufacturing (ISIC 10-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Electricity industry (ISIC 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ther economic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6 Wastewater Treatment Fac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5246640"/>
        </p:xfrm>
        <a:graphic>
          <a:graphicData uri="http://schemas.openxmlformats.org/drawingml/2006/table">
            <a:tbl>
              <a:tblPr/>
              <a:tblGrid>
                <a:gridCol w="574560"/>
                <a:gridCol w="3540240"/>
                <a:gridCol w="1295280"/>
                <a:gridCol w="733680"/>
                <a:gridCol w="284040"/>
                <a:gridCol w="606240"/>
                <a:gridCol w="284400"/>
                <a:gridCol w="627120"/>
                <a:gridCol w="284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imary urban wastewater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ber of pl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sign capacity (Volu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m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sign capacity (BO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kg O</a:t>
                      </a:r>
                      <a:r>
                        <a:rPr b="0" lang="en-US" sz="14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occupation (Volu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m3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occupation (BO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kg O</a:t>
                      </a:r>
                      <a:r>
                        <a:rPr b="0" lang="en-US" sz="14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condary urban wastewater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ber of pl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sign capacity (Volu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m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sign capacity (BO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kg O</a:t>
                      </a:r>
                      <a:r>
                        <a:rPr b="0" lang="en-US" sz="14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occupation (Volu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m3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occupation (BO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kg O</a:t>
                      </a:r>
                      <a:r>
                        <a:rPr b="0" lang="en-US" sz="14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dependent wastewater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occupation (BO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kg O</a:t>
                      </a:r>
                      <a:r>
                        <a:rPr b="0" lang="en-US" sz="14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wage sludg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wage sludge production (dry mat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00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7 Population connected to Wastewater Trea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74560"/>
                <a:gridCol w="3729240"/>
                <a:gridCol w="963360"/>
                <a:gridCol w="873360"/>
                <a:gridCol w="284040"/>
                <a:gridCol w="608040"/>
                <a:gridCol w="284040"/>
                <a:gridCol w="627120"/>
                <a:gridCol w="285840"/>
              </a:tblGrid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connected to urban wastewater collect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9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connected to urban wastewater trea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85800" indent="-685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t least secondary trea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9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with independent wastewater treatment (e.g. septic tan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f which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t least secondary trea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opulation not connected to wastewater treatment (100% - (2) - (4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% of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naire is on the we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590920"/>
            <a:ext cx="861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nstats.un.org/unsd/environment/questionnaire2008.htm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1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 detail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0"/>
            <a:ext cx="6933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remy W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ted Nations Statistics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York 10017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om DC2 14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one: +1 917 363 85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x: +1 212 963 06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b@un.or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SD Water Data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ysical 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shwater resources, the abstraction and use of freshwater by economic activities and households and wastewater treat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iodic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2 years (2004, 2006, 2008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 recognized countries outside of OECD/Eurostat Joint Questionnaire data colle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collection metho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nd questionnaire to NSOs and Environment Mini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nual time series for all variables collected and long term annual averages also collected for freshwater resour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SD Water Questionna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llect reliable environmen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ign: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ified from OECD/Eurostat Joint Questionnai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plifi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cused on available 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riables consistent with the SEEA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naire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idanc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eps to Fol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cription of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version T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st of Defini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bles to be filled in by the count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Asset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7924680" cy="4869000"/>
        </p:xfrm>
        <a:graphic>
          <a:graphicData uri="http://schemas.openxmlformats.org/drawingml/2006/table">
            <a:tbl>
              <a:tblPr/>
              <a:tblGrid>
                <a:gridCol w="806400"/>
                <a:gridCol w="293760"/>
                <a:gridCol w="68245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 Opening St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creases in st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. Returns from the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. 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. Inflow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.a. from upstream terri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.b. from other resources in the 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ecreases in st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. Abst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. Evaporation/Actual evapotranspi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. Outfl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.a to downstream terri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.b to the 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.c to other resources in the 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 Other changes in  volu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. Closing St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295280" y="2514600"/>
            <a:ext cx="7620120" cy="368280"/>
            <a:chOff x="1295280" y="2514600"/>
            <a:chExt cx="7620120" cy="368280"/>
          </a:xfrm>
        </p:grpSpPr>
        <p:sp>
          <p:nvSpPr>
            <p:cNvPr id="53" name=""/>
            <p:cNvSpPr/>
            <p:nvPr/>
          </p:nvSpPr>
          <p:spPr>
            <a:xfrm>
              <a:off x="1295280" y="2514600"/>
              <a:ext cx="396252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81480" y="251460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1 Freshwater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95280" y="2819520"/>
            <a:ext cx="7696440" cy="609480"/>
            <a:chOff x="1295280" y="2819520"/>
            <a:chExt cx="7696440" cy="609480"/>
          </a:xfrm>
        </p:grpSpPr>
        <p:sp>
          <p:nvSpPr>
            <p:cNvPr id="56" name=""/>
            <p:cNvSpPr/>
            <p:nvPr/>
          </p:nvSpPr>
          <p:spPr>
            <a:xfrm>
              <a:off x="1295280" y="2819520"/>
              <a:ext cx="396252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81480" y="2971800"/>
              <a:ext cx="38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1 Freshwater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295280" y="2133720"/>
            <a:ext cx="7467840" cy="380880"/>
            <a:chOff x="1295280" y="2133720"/>
            <a:chExt cx="7467840" cy="380880"/>
          </a:xfrm>
        </p:grpSpPr>
        <p:sp>
          <p:nvSpPr>
            <p:cNvPr id="59" name=""/>
            <p:cNvSpPr/>
            <p:nvPr/>
          </p:nvSpPr>
          <p:spPr>
            <a:xfrm>
              <a:off x="1295280" y="2209680"/>
              <a:ext cx="396252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81480" y="213372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2 Water Use 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95280" y="3962520"/>
            <a:ext cx="7620120" cy="380880"/>
            <a:chOff x="1295280" y="3962520"/>
            <a:chExt cx="7620120" cy="380880"/>
          </a:xfrm>
        </p:grpSpPr>
        <p:sp>
          <p:nvSpPr>
            <p:cNvPr id="62" name=""/>
            <p:cNvSpPr/>
            <p:nvPr/>
          </p:nvSpPr>
          <p:spPr>
            <a:xfrm>
              <a:off x="1295280" y="4038480"/>
              <a:ext cx="388620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05520" y="396252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3 Freshwater 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4343400"/>
            <a:ext cx="7543800" cy="368280"/>
            <a:chOff x="1295280" y="4343400"/>
            <a:chExt cx="7543800" cy="368280"/>
          </a:xfrm>
        </p:grpSpPr>
        <p:sp>
          <p:nvSpPr>
            <p:cNvPr id="65" name=""/>
            <p:cNvSpPr/>
            <p:nvPr/>
          </p:nvSpPr>
          <p:spPr>
            <a:xfrm>
              <a:off x="1295280" y="4343400"/>
              <a:ext cx="388620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05520" y="4343400"/>
              <a:ext cx="37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1 Freshwater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4648320"/>
            <a:ext cx="7620120" cy="368280"/>
            <a:chOff x="1295280" y="4648320"/>
            <a:chExt cx="7620120" cy="368280"/>
          </a:xfrm>
        </p:grpSpPr>
        <p:sp>
          <p:nvSpPr>
            <p:cNvPr id="68" name=""/>
            <p:cNvSpPr/>
            <p:nvPr/>
          </p:nvSpPr>
          <p:spPr>
            <a:xfrm>
              <a:off x="1295280" y="4648320"/>
              <a:ext cx="3886200" cy="304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05520" y="464832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1 Freshwater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Use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153280" cy="4508640"/>
        </p:xfrm>
        <a:graphic>
          <a:graphicData uri="http://schemas.openxmlformats.org/drawingml/2006/table">
            <a:tbl>
              <a:tblPr/>
              <a:tblGrid>
                <a:gridCol w="1447920"/>
                <a:gridCol w="6705360"/>
              </a:tblGrid>
              <a:tr h="33732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rom the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 Total abstraction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=1.a+1.b=1.i+1.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a. Abstraction for ow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b. Abstraction for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. From water resour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.1 Surfac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.2 Ground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.3 Soil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i. From other sour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i.1 Collection of 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.ii.2 Abstraction from the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ithin the ec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. Use of water received from other economic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. Total use of water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=1 +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1981080" y="2743200"/>
            <a:ext cx="5867640" cy="1066680"/>
            <a:chOff x="1981080" y="2743200"/>
            <a:chExt cx="5867640" cy="1066680"/>
          </a:xfrm>
        </p:grpSpPr>
        <p:sp>
          <p:nvSpPr>
            <p:cNvPr id="73" name=""/>
            <p:cNvSpPr/>
            <p:nvPr/>
          </p:nvSpPr>
          <p:spPr>
            <a:xfrm>
              <a:off x="1981080" y="2743200"/>
              <a:ext cx="3124440" cy="1066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81480" y="289548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3 Freshwater 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5120" y="5181480"/>
            <a:ext cx="7010280" cy="642600"/>
            <a:chOff x="1905120" y="5181480"/>
            <a:chExt cx="7010280" cy="642600"/>
          </a:xfrm>
        </p:grpSpPr>
        <p:sp>
          <p:nvSpPr>
            <p:cNvPr id="76" name=""/>
            <p:cNvSpPr/>
            <p:nvPr/>
          </p:nvSpPr>
          <p:spPr>
            <a:xfrm>
              <a:off x="1905120" y="5410080"/>
              <a:ext cx="510516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10280" y="5181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5 Water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Supply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78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ithin the ec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. Supply of water to other economic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f which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.a. Reused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.b. Wastewater to sew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9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o the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 Total returns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=5.a+5.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a. To water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a.1. Surfac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a.2. Ground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a.3. Soil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b. To other sources (e.g. sea wa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Total supply of wat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=4+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 Consumption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(=3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981080" y="3200400"/>
            <a:ext cx="6629400" cy="1447920"/>
            <a:chOff x="1981080" y="3200400"/>
            <a:chExt cx="6629400" cy="1447920"/>
          </a:xfrm>
        </p:grpSpPr>
        <p:sp>
          <p:nvSpPr>
            <p:cNvPr id="81" name=""/>
            <p:cNvSpPr/>
            <p:nvPr/>
          </p:nvSpPr>
          <p:spPr>
            <a:xfrm>
              <a:off x="1981080" y="3200400"/>
              <a:ext cx="4343400" cy="1447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320040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2 Water Use 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981080" y="4724280"/>
            <a:ext cx="6477120" cy="642600"/>
            <a:chOff x="1981080" y="4724280"/>
            <a:chExt cx="6477120" cy="642600"/>
          </a:xfrm>
        </p:grpSpPr>
        <p:sp>
          <p:nvSpPr>
            <p:cNvPr id="84" name=""/>
            <p:cNvSpPr/>
            <p:nvPr/>
          </p:nvSpPr>
          <p:spPr>
            <a:xfrm>
              <a:off x="1981080" y="5029200"/>
              <a:ext cx="4343400" cy="304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47242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2 Water Use 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81080" y="1600200"/>
            <a:ext cx="6858000" cy="733320"/>
            <a:chOff x="1981080" y="1600200"/>
            <a:chExt cx="6858000" cy="733320"/>
          </a:xfrm>
        </p:grpSpPr>
        <p:sp>
          <p:nvSpPr>
            <p:cNvPr id="87" name=""/>
            <p:cNvSpPr/>
            <p:nvPr/>
          </p:nvSpPr>
          <p:spPr>
            <a:xfrm>
              <a:off x="1981080" y="1600200"/>
              <a:ext cx="4267440" cy="457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8520" y="16002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 W2 Water Use Balance &amp; Table W4 Water Supply Industry (ISIC 3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200" y="5638680"/>
            <a:ext cx="8077320" cy="642600"/>
            <a:chOff x="457200" y="5638680"/>
            <a:chExt cx="8077320" cy="642600"/>
          </a:xfrm>
        </p:grpSpPr>
        <p:sp>
          <p:nvSpPr>
            <p:cNvPr id="90" name=""/>
            <p:cNvSpPr/>
            <p:nvPr/>
          </p:nvSpPr>
          <p:spPr>
            <a:xfrm>
              <a:off x="457200" y="5791320"/>
              <a:ext cx="6019920" cy="304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77120" y="5638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ble W2 Water Use 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naire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Renewable Freshwater Resou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ater Use Bal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eshwater  Abst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ater Supply Industry (ISIC 36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tal Water U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astewater Treatment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Population connected to Wastewater Trea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W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Supplementary Information She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3962520"/>
            <a:ext cx="8153280" cy="2364480"/>
            <a:chOff x="457200" y="3962520"/>
            <a:chExt cx="8153280" cy="2364480"/>
          </a:xfrm>
        </p:grpSpPr>
        <p:sp>
          <p:nvSpPr>
            <p:cNvPr id="95" name=""/>
            <p:cNvSpPr/>
            <p:nvPr/>
          </p:nvSpPr>
          <p:spPr>
            <a:xfrm>
              <a:off x="457200" y="3962520"/>
              <a:ext cx="8153280" cy="19047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400" y="58672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sistent with supplementary t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0880" y="1219320"/>
            <a:ext cx="8229600" cy="2666880"/>
            <a:chOff x="380880" y="1219320"/>
            <a:chExt cx="8229600" cy="2666880"/>
          </a:xfrm>
        </p:grpSpPr>
        <p:sp>
          <p:nvSpPr>
            <p:cNvPr id="98" name=""/>
            <p:cNvSpPr/>
            <p:nvPr/>
          </p:nvSpPr>
          <p:spPr>
            <a:xfrm>
              <a:off x="457200" y="1600200"/>
              <a:ext cx="815328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1219320"/>
              <a:ext cx="56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sistent with SEEAW standard tab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W1 Freshwater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1600200"/>
          <a:ext cx="8381880" cy="4629240"/>
        </p:xfrm>
        <a:graphic>
          <a:graphicData uri="http://schemas.openxmlformats.org/drawingml/2006/table">
            <a:tbl>
              <a:tblPr/>
              <a:tblGrid>
                <a:gridCol w="685800"/>
                <a:gridCol w="2941560"/>
                <a:gridCol w="923760"/>
                <a:gridCol w="900360"/>
                <a:gridCol w="293400"/>
                <a:gridCol w="586080"/>
                <a:gridCol w="293400"/>
                <a:gridCol w="584280"/>
                <a:gridCol w="293760"/>
                <a:gridCol w="585720"/>
                <a:gridCol w="29376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Long term annual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cipitation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ctual evapotranspi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ternal flow (=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low of surface and ground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newable freshwater resources (=3+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utflow of surface and ground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gular freshwater resources 95% of th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io m</a:t>
                      </a:r>
                      <a:r>
                        <a:rPr b="0" lang="en-GB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9:56:39Z</dcterms:created>
  <dc:creator>CMS Installer</dc:creator>
  <dc:description/>
  <dc:language>en-US</dc:language>
  <cp:lastModifiedBy>Wafa Aboul Hosn,Team Leader, Sectoral Statistics</cp:lastModifiedBy>
  <dcterms:modified xsi:type="dcterms:W3CDTF">2008-08-20T07:06:49Z</dcterms:modified>
  <cp:revision>32</cp:revision>
  <dc:subject/>
  <dc:title>UNSD Water Data Collection</dc:title>
</cp:coreProperties>
</file>