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66FC6B-A89B-4832-9371-CA087255B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2D6648-6096-4AB1-A846-1397BA5CA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C4A6E4-7DAD-41F1-9A7C-599F19FC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064D36-F010-45C2-8AB4-372CBBB6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316472A-3B04-4DF1-9359-ED51574E0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048-6082-4967-B28E-8E84646D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A6A-29F4-42F9-B8BE-B54B36CB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516-41FA-4B5D-9DD5-BF7E9BC1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6C7-5E1D-4AFC-A426-C219D0AE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061B-335E-44A3-B899-6E25D593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4953-623A-4CD6-8823-4E6412EA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E22-6710-4F26-BB06-5A615C4A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300-D0C2-4474-834B-A63593A0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F36-3925-48B8-A7A3-E9286FA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EB75-F133-4627-A3D7-342BE0E0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86B4-AE9C-4075-AC21-379D821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032-3CFA-4633-B75C-A28E699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13C5-E4F2-41A6-B2F6-DD96C55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6C1F-99A5-49B0-9BBB-8238998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3A4E-90F0-4094-AAF9-93469DB5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79E-C97A-4F3A-9EA6-D9C0F16B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B69-05EC-47A6-8072-A6826DDA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051-FD1F-4D18-92F8-E84BD679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1A2-EAA5-402F-9662-58446BA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8C3-8B23-4148-9F32-3BA0901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8A6-1810-4AFD-B990-66B1B50C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704-FAF3-4815-8920-7279C59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B14-7F5F-4F4C-AF8E-22093C96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40F-7C86-4364-AD55-BE3DA53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370A-1796-4C4F-95C3-09994FF748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rgen Schwarzler, UN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F65D-E96A-47C7-A4A1-1FE815608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UNlogo"/>
          <p:cNvPicPr/>
          <p:nvPr/>
        </p:nvPicPr>
        <p:blipFill>
          <a:blip r:embed="rId2"/>
          <a:stretch/>
        </p:blipFill>
        <p:spPr>
          <a:xfrm>
            <a:off x="457200" y="457200"/>
            <a:ext cx="838080" cy="70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63" descr="UNlogo"/>
          <p:cNvPicPr/>
          <p:nvPr/>
        </p:nvPicPr>
        <p:blipFill>
          <a:blip r:embed="rId2"/>
          <a:stretch/>
        </p:blipFill>
        <p:spPr>
          <a:xfrm>
            <a:off x="3809880" y="380880"/>
            <a:ext cx="1828800" cy="154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9B91-C929-4933-8FA3-740C89D56E5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rgen Schwarzler, UN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70D-28ED-44EF-9C48-68C4323C7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600" y="1905120"/>
            <a:ext cx="8534160" cy="176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cc"/>
                </a:solidFill>
                <a:latin typeface="Times New Roman"/>
              </a:rPr>
              <a:t>التقييم العالمي </a:t>
            </a:r>
            <a:r>
              <a:rPr b="0" lang="ar-LB" sz="4400" spc="-1" strike="noStrike">
                <a:solidFill>
                  <a:srgbClr val="6600cc"/>
                </a:solidFill>
                <a:latin typeface="Times New Roman"/>
              </a:rPr>
              <a:t>لإحصاءات</a:t>
            </a:r>
            <a:r>
              <a:rPr b="0" lang="ar-SA" sz="4400" spc="-1" strike="noStrike">
                <a:solidFill>
                  <a:srgbClr val="6600cc"/>
                </a:solidFill>
                <a:latin typeface="Times New Roman"/>
              </a:rPr>
              <a:t> البيئة </a:t>
            </a:r>
            <a:r>
              <a:rPr b="0" lang="ar-LB" sz="4400" spc="-1" strike="noStrike">
                <a:solidFill>
                  <a:srgbClr val="6600cc"/>
                </a:solidFill>
                <a:latin typeface="Times New Roman"/>
              </a:rPr>
              <a:t>والمحاسبة البيئية-الإقتصادية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4760" y="3746160"/>
            <a:ext cx="853416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الدورة التدريبية حول نظام المحاسبة البيئية والإقتصادية المتكاملة للموارد المائية لدول الخليج </a:t>
            </a:r>
            <a:r>
              <a:rPr b="0" lang="ar" sz="32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لدول الخليج العربية</a:t>
            </a:r>
            <a:br>
              <a:rPr sz="3200"/>
            </a:br>
            <a:r>
              <a:rPr b="0" lang="ar-LB" sz="32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بيروت، </a:t>
            </a:r>
            <a:r>
              <a:rPr b="0" lang="ar-LB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25</a:t>
            </a:r>
            <a:r>
              <a:rPr b="0" lang="ar-LB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ar-LB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28</a:t>
            </a:r>
            <a:r>
              <a:rPr b="0" lang="ar-LB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آب/أغسطس </a:t>
            </a:r>
            <a:r>
              <a:rPr b="0" lang="ar-LB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181480"/>
            <a:ext cx="78868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ياسمينا عدر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اللجنة الإقتصادية والإجتماعية لغرب آسيا (الإسكوا</a:t>
            </a:r>
            <a:r>
              <a:rPr b="0" lang="ar-LB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Tel: 961 1 978430, Fax: 961 1 98151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Email: adra@un.org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C730-F199-4365-9F99-84FBFEA25E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التقييم العالمي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 ل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حصاءات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ا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لبيئة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المحاسب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ة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 البي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ئية و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الاقتصادية المرحلة 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: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حصاءات وحسابات المياه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تهدف المرحلة الثانية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تقييم العالمي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حصاءات وحسابات المياه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لى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حصول على معلومات مفصلة عن حالة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صاءات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سابات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ياه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البلدان.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وتهدف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سئل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تي وردت في التقييم العالمي المرحلة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ى تحديد الممارسات القطري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في النواحي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نهجي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محددة في تجميع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صاءات وحسابات المياه فضلا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ً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عن فهم العلاقات بين الوكالات العاملة في مجال جمع وتصنيف ونشر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ستخدام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صاءات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سابات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مياه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000-260E-46C8-BB25-6F993493FC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حصاءات المياه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30" name="Rectangle 6" descr=""/>
          <p:cNvPicPr/>
          <p:nvPr/>
        </p:nvPicPr>
        <p:blipFill>
          <a:blip r:embed="rId1"/>
          <a:stretch/>
        </p:blipFill>
        <p:spPr>
          <a:xfrm>
            <a:off x="2247840" y="939960"/>
            <a:ext cx="4930920" cy="59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0E5-4C9E-4203-B3B5-1221E87E31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التوصيات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مهم أن تشارك الدول العربية في الرد على هذا الإستبيان من أجل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ضع إحصاءات وحسابات المياه في البلد المع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جاد الفجو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متطلبات وكيفية العمل داخل البلد ومع المنظمات من أجل وضع برنامج متكامل وعلى المدى البعيد لتطوير نظام الحسابات الإقتصادية والبيئية المتكامل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324-81BF-4DFD-B8DA-8B53F1F0C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BE9-E1B7-4B06-A0EF-9153F0563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16292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محتويات 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98568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مقدمة للتقييم العالمي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Arial"/>
              </a:rPr>
              <a:t>ملخص حول ردود بلدان الإسكوا على التقييم العالمي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برامج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حصاءات البيئة في بلدان الإسكوا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المشاكل التي واجهتها بلدان ا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سكوا في تطوير وتجميع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حصاءات البيئة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ستنتاجات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Arial"/>
              </a:rPr>
              <a:t>حول التقييم العالمي (المرحلة الأولى) حسب ردود البلدان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متابعة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 حول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حصاءات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لمياه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المع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ادن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 و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حصاءات الطاقة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التقييم العالمي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حصاءات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لبيئة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المحاسب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 البي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ئية و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الاقتصادية المرحلة 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100" spc="-1" strike="noStrike">
                <a:solidFill>
                  <a:srgbClr val="000000"/>
                </a:solidFill>
                <a:latin typeface="Times New Roman"/>
              </a:rPr>
              <a:t>حصاءات وحسابات المياه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74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صي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D81-8384-48E3-9498-103B6F97A6DF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E7CD-7EED-4077-BD03-767750F5D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01400" y="622080"/>
            <a:ext cx="74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مقدمة للتقييم العالمي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طلب من قبل لجنة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براء ا</a:t>
            </a:r>
            <a:r>
              <a:rPr b="0" lang="ar-LB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م المتحدة المعنية بالمحاسب</a:t>
            </a:r>
            <a:r>
              <a:rPr b="0" lang="ar-LB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ة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ي</a:t>
            </a:r>
            <a:r>
              <a:rPr b="0" lang="ar-LB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ئية-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اقتصادية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EA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 العالمي مقسّم الى مرحلتي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حلة الأولى: جمع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 algn="r" rtl="1">
              <a:lnSpc>
                <a:spcPct val="90000"/>
              </a:lnSpc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زء(أ): الإحصاءات البي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 algn="r" rtl="1">
              <a:lnSpc>
                <a:spcPct val="90000"/>
              </a:lnSpc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زء (ب): المحاسبة البيئية-الإقتصاد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حلة الثانية: احصاءات وحسابات الميا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A38-6C39-4A75-A33F-02D530F41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851040" y="533520"/>
            <a:ext cx="8140680" cy="6771240"/>
            <a:chOff x="851040" y="533520"/>
            <a:chExt cx="8140680" cy="6771240"/>
          </a:xfrm>
        </p:grpSpPr>
        <p:sp>
          <p:nvSpPr>
            <p:cNvPr id="101" name=""/>
            <p:cNvSpPr/>
            <p:nvPr/>
          </p:nvSpPr>
          <p:spPr>
            <a:xfrm>
              <a:off x="952560" y="1320480"/>
              <a:ext cx="13971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رحلة الأول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5168880"/>
              <a:ext cx="13971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رحلة الثان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1040" y="3187440"/>
              <a:ext cx="16383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رحلة الأول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حزيران </a:t>
              </a:r>
              <a:r>
                <a:rPr b="0" lang="ar-L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1269720"/>
              <a:ext cx="3200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قييم العالمي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لإحصاءات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لبيئة 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حاسب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ة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البي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ئية و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اقتصاد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9080" y="3225600"/>
              <a:ext cx="318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قييم العالمي لإحصاءات وموازين الطاق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5016240"/>
              <a:ext cx="3211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قييم العالمي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لإحصاءات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لبيئة 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حاسب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ة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البي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ئية و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اقتصادية المرحلة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إ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حصاءات وحسابات الميا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83560" y="533520"/>
              <a:ext cx="1270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91600" y="685800"/>
              <a:ext cx="240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: الإحصاءات البيئ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80160" y="2222280"/>
              <a:ext cx="214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LB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ب: المحاسبة البيئ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803920" y="977760"/>
              <a:ext cx="90180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03920" y="1625400"/>
              <a:ext cx="92736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3720" y="21459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9280" y="4012920"/>
              <a:ext cx="0" cy="9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776-1BB9-4A4F-AC73-60F552563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AEA-D20D-4FB4-BD27-094D95D45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ملخص حول ردود بلدان الإسكوا على التقييم العالمي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45800"/>
            <a:ext cx="8256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ّ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من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أ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ل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 دول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من بلدان ا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كوا على التقييم العالمي،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ضافة الى المغرب وتونس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 من خارج بلدان الإسكو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r" rtl="1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كانت ردود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لدان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 الأعضاء م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البحرين، مصر، العراق، الاردن، لبنان، المملك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لعربية السعودية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يم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r" rtl="1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تواجدت لدى كل من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صر، العراق، الاردن، لبنان، المغرب وتونس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برامج حول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صاءات البيئة، و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خاص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في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مكاتب ا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صاء الوط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r" rtl="1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وجدت لدى جميع البلدان ال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طط لمواصلة وتوسيع نطاق تجميع ا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صاءات البي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ئ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، و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خاصة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إحصاءات المتعلق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هواء، والم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ياه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0" lang="ar-LB" sz="2800" spc="-1" strike="noStrike">
                <a:solidFill>
                  <a:srgbClr val="000000"/>
                </a:solidFill>
                <a:latin typeface="Times New Roman"/>
              </a:rPr>
              <a:t>والأراضي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، والتنوع البيولوجي، والغابات والط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245-CE4B-416C-9D4E-43A180BF8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برامج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حصاءات البيئة في بلدان الإسكوا تشمل: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ياه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الهو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الغاب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الأراض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الطا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الزر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99F-8D1F-42AB-9194-4CC3ACDC5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المشاكل التي واجهتها بلدان الاسكوا في تطوير وتجميع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حصاءات البيئة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174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أشارت كل من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صر و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دن والمغرب وتونس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لى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شاكل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ماثلة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 لتلك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تي تواجهها بلدان اخرى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فتقار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ى الموارد المالية والبشري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التنسيق/الشكل المؤسس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فتقار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ى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واد التدريبي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B36-912C-4CB9-838B-D7DD6CF09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ا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لإ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ستنتاجات</a:t>
            </a:r>
            <a:r>
              <a:rPr b="0" lang="en-US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حول التقييم العالمي (المرحلة الأولى) حسب ردود البلدان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17360" y="1946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ن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حصاءات البيئة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 والمحاسبة البيئية هي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أساس وامتداد لمكونات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برامج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حصا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ئية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وطن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على الرغم من أن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المحاسب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البي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ئية حديثة العهد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فإن ما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يق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رب نصف البلدان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ي استجابت للإستبيان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٪) ل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ديها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برنامج المحاسب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البي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ئية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وهناك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٪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من البلدان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تخطط لتجميع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علومات حول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الحسابات البي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ئ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تعتبر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حصاءات 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حسابات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المياه مجالات ذات أولو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إن قل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ّ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ة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الموارد البشري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والمالية تعرقل تنفيذ برامج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إ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حصاءات والمحاسب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ة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البي</a:t>
            </a:r>
            <a:r>
              <a:rPr b="0" lang="ar-LB" sz="3000" spc="-1" strike="noStrike">
                <a:solidFill>
                  <a:srgbClr val="000000"/>
                </a:solidFill>
                <a:latin typeface="Times New Roman"/>
              </a:rPr>
              <a:t>ئ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654-7900-432B-8ACC-3D692D122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0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متابعة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 حول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حصاءات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ا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لمياه 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المع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</a:rPr>
              <a:t>ادن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 و</a:t>
            </a:r>
            <a:r>
              <a:rPr b="0" lang="ar-LB" sz="4000" spc="-1" strike="noStrike">
                <a:solidFill>
                  <a:srgbClr val="6600cc"/>
                </a:solidFill>
                <a:latin typeface="Times New Roman"/>
                <a:cs typeface="Times New Roman"/>
              </a:rPr>
              <a:t>إ</a:t>
            </a:r>
            <a:r>
              <a:rPr b="0" lang="ar-SA" sz="4000" spc="-1" strike="noStrike">
                <a:solidFill>
                  <a:srgbClr val="6600cc"/>
                </a:solidFill>
                <a:latin typeface="Times New Roman"/>
              </a:rPr>
              <a:t>حصاءات الطاقة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1280" y="1946160"/>
            <a:ext cx="85107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طلقت شعبة الإحصاء بالأمم المتحدة هذا المسح في حزيران/يونيو 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r>
              <a:rPr b="0" lang="ar-L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لتعاون مع مجموعة أوسل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lo 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دف إلى تقييم وضع إحصاءات الطاقة في العال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تكون نتيجة التقييم مهمة بالنسبة لحسابات الطاقة ضمن مراجعة نظام الحسابات الإقتصادية والبيئية المتكاملة التي تتم حالي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7A5-4258-4354-B899-D50E48A61F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5:48:34Z</dcterms:created>
  <dc:creator>Juergen Schwaerzler</dc:creator>
  <dc:description/>
  <dc:language>en-US</dc:language>
  <cp:lastModifiedBy> </cp:lastModifiedBy>
  <dcterms:modified xsi:type="dcterms:W3CDTF">2008-07-21T05:18:02Z</dcterms:modified>
  <cp:revision>371</cp:revision>
  <dc:subject/>
  <dc:title>Introduction to the International Family of Classification </dc:title>
</cp:coreProperties>
</file>