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215-9A24-4AB9-99B1-BF0D88C9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6E6-CB04-4074-B72E-210F4F3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430-2C15-4C12-8C76-9DCF38E9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852-C776-4CC9-8D4F-1FE4F0F3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8188-3257-4EA4-BD21-4E8266AE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2DEC-DA86-47CE-A2D2-118236AE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3B28-C42A-4164-B9C2-81EDFEE4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595F-A5F3-4F53-A7F8-A4103BC7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9065-A8C7-4223-97F5-57118BB4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DA52-19FD-463F-9D4A-CE1F1F89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C316-E944-47E9-8C6E-99FFA81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7C4-FE1A-4592-BCCC-790654AB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38D9-4952-4754-97B9-C52DF3F6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8CE5-5313-4335-AF37-668AFF64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D89D-4377-473F-B67E-DE2032E3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DB8F-8DAB-4B5A-BAEA-02C21C9D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0163-110D-451E-AFAA-E379E9D8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E9F-601A-4373-98F5-164487FC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612-5CD9-4EDE-8553-2F684C5B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77B-89E2-490F-9A03-C5BB3A12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E0E-871E-44F3-AEBB-51D3B27D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5A3-BB8F-4120-B4F6-5F64B66A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8A9-D172-49B8-9B30-E13430ED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2A6-7DFF-4E3F-8EA1-E415E775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9942-3196-4658-8838-258D3C042740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2996-F9A3-4517-9DF7-034ABE004185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1828800" cy="1547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6.wmf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jpeg"/><Relationship Id="rId9" Type="http://schemas.openxmlformats.org/officeDocument/2006/relationships/image" Target="../media/image20.gi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مرين حول تسجيل التدفقات في جداول الاستخدام والعرض المادية</a:t>
            </a:r>
            <a:br>
              <a:rPr sz="3600"/>
            </a:br>
            <a:br>
              <a:rPr sz="3600"/>
            </a:br>
            <a:r>
              <a:rPr b="0" lang="ar-LB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ولا سيتي، كاو تاون وكابيتال هاربور</a:t>
            </a:r>
            <a:br>
              <a:rPr sz="3600"/>
            </a:br>
            <a:br>
              <a:rPr sz="3600"/>
            </a:br>
            <a:r>
              <a:rPr b="1" lang="ar-LB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دورة التدريبية حول نظام المحاسبة البيئية والإقتصادية المتكاملة للموارد المائية لدول الخليج</a:t>
            </a:r>
            <a:r>
              <a:rPr b="0" lang="ar-L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دول الخليج العربية</a:t>
            </a:r>
            <a:br>
              <a:rPr sz="2000"/>
            </a:br>
            <a:r>
              <a:rPr b="1" lang="ar-LB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يروت، </a:t>
            </a:r>
            <a:r>
              <a:rPr b="1" lang="ar-L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r>
              <a:rPr b="1" lang="ar-L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L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0" lang="ar-L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LB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آب/أغسطس </a:t>
            </a:r>
            <a:r>
              <a:rPr b="1" lang="ar-L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8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5486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ايكل فاردن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شعبة الإحصاءات في الأمم المتحدة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ardon@un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و تاون – جدول الاستخدام المادي</a:t>
            </a:r>
            <a:r>
              <a:rPr b="0" lang="ar-LB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609480" y="1620720"/>
            <a:ext cx="7848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و تاون – جدول العرض المادي</a:t>
            </a:r>
            <a:r>
              <a:rPr b="0" lang="ar-L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41911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200400" y="5867280"/>
            <a:ext cx="2895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فقاً للأمم المتحدة تعود كل الخسائر إلى موارد المياه السطح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4495680"/>
            <a:ext cx="1143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ابيتال هاربو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تتفرّع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من مجرى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كاو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تاون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وكولا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سيت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هي مدينة ذات اقتصاد مزدهر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يعتمد على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صناع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تحويلي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أيزيك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0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2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تجميع ومعالجة وعرض المياه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36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صرف الصحي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37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نقل المائي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صناعة 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خدمات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الخدمات 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غذائية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(الأيزيك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5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6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برمج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حاسوبي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62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إ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دار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ة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عامة 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الأيزيك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84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</a:rPr>
              <a:t>ال</a:t>
            </a:r>
            <a:r>
              <a:rPr b="0" lang="ar-LB" sz="2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ساك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-464760" y="-1458000"/>
            <a:ext cx="12141720" cy="9340200"/>
            <a:chOff x="-464760" y="-1458000"/>
            <a:chExt cx="12141720" cy="9340200"/>
          </a:xfrm>
        </p:grpSpPr>
        <p:sp>
          <p:nvSpPr>
            <p:cNvPr id="541" name=""/>
            <p:cNvSpPr/>
            <p:nvPr/>
          </p:nvSpPr>
          <p:spPr>
            <a:xfrm flipH="1" rot="21558600">
              <a:off x="-457200" y="3301560"/>
              <a:ext cx="7653240" cy="129636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6083000">
              <a:off x="4328280" y="602280"/>
              <a:ext cx="9167760" cy="521928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03600" y="1725480"/>
              <a:ext cx="1250640" cy="12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2"/>
            <a:stretch/>
          </p:blipFill>
          <p:spPr>
            <a:xfrm>
              <a:off x="3784320" y="5663880"/>
              <a:ext cx="1250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4035960" y="287784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ساك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77800" y="657828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399960" y="1293480"/>
              <a:ext cx="1752120" cy="914040"/>
              <a:chOff x="399960" y="1293480"/>
              <a:chExt cx="1752120" cy="914040"/>
            </a:xfrm>
          </p:grpSpPr>
          <p:sp>
            <p:nvSpPr>
              <p:cNvPr id="548" name=""/>
              <p:cNvSpPr/>
              <p:nvPr/>
            </p:nvSpPr>
            <p:spPr>
              <a:xfrm>
                <a:off x="399960" y="1293480"/>
                <a:ext cx="1752120" cy="9140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0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تجميع ومعالجة وعرض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المياه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2240" y="1293480"/>
                <a:ext cx="582480" cy="87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"/>
            <p:cNvGrpSpPr/>
            <p:nvPr/>
          </p:nvGrpSpPr>
          <p:grpSpPr>
            <a:xfrm>
              <a:off x="255240" y="5325840"/>
              <a:ext cx="1752480" cy="914040"/>
              <a:chOff x="255240" y="5325840"/>
              <a:chExt cx="1752480" cy="914040"/>
            </a:xfrm>
          </p:grpSpPr>
          <p:sp>
            <p:nvSpPr>
              <p:cNvPr id="551" name=""/>
              <p:cNvSpPr/>
              <p:nvPr/>
            </p:nvSpPr>
            <p:spPr>
              <a:xfrm>
                <a:off x="255240" y="5325840"/>
                <a:ext cx="1752480" cy="9140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0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تجميع ومعالجة وعرض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LB" sz="10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المياه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397880" y="5325840"/>
                <a:ext cx="582480" cy="874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3" name="" descr=""/>
            <p:cNvPicPr/>
            <p:nvPr/>
          </p:nvPicPr>
          <p:blipFill>
            <a:blip r:embed="rId5"/>
            <a:stretch/>
          </p:blipFill>
          <p:spPr>
            <a:xfrm>
              <a:off x="3135240" y="25200"/>
              <a:ext cx="6073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6"/>
            <a:stretch/>
          </p:blipFill>
          <p:spPr>
            <a:xfrm>
              <a:off x="2847600" y="4390920"/>
              <a:ext cx="739440" cy="59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"/>
            <p:cNvGrpSpPr/>
            <p:nvPr/>
          </p:nvGrpSpPr>
          <p:grpSpPr>
            <a:xfrm>
              <a:off x="6514920" y="761760"/>
              <a:ext cx="874080" cy="801000"/>
              <a:chOff x="6514920" y="761760"/>
              <a:chExt cx="874080" cy="80100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6760800" y="761760"/>
                <a:ext cx="420840" cy="6228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6725160" y="816120"/>
                <a:ext cx="496440" cy="352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627600" y="1086480"/>
                <a:ext cx="673560" cy="34416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721560" y="1094760"/>
                <a:ext cx="600480" cy="28512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775560" y="1032480"/>
                <a:ext cx="567000" cy="30672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558120" y="886680"/>
                <a:ext cx="256680" cy="22680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742080" y="913680"/>
                <a:ext cx="152640" cy="19944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627960" y="1119600"/>
                <a:ext cx="617040" cy="33372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531480" y="1148760"/>
                <a:ext cx="466920" cy="30672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585480" y="989640"/>
                <a:ext cx="129240" cy="19224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627960" y="1026000"/>
                <a:ext cx="57600" cy="666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6888960" y="1312200"/>
                <a:ext cx="156240" cy="5184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82480" y="1312200"/>
                <a:ext cx="162720" cy="540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660720" y="1030320"/>
                <a:ext cx="27000" cy="640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714720" y="847080"/>
                <a:ext cx="663480" cy="2743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675480" y="116856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814800" y="1077120"/>
                <a:ext cx="20520" cy="72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958800" y="1312200"/>
                <a:ext cx="123120" cy="4248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081560" y="1294560"/>
                <a:ext cx="50040" cy="5580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6641640" y="1133280"/>
                <a:ext cx="373320" cy="32220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6514560" y="983520"/>
                <a:ext cx="133560" cy="19836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544800" y="1173960"/>
                <a:ext cx="113760" cy="1116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6568920" y="981360"/>
                <a:ext cx="8568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6587640" y="992880"/>
                <a:ext cx="130680" cy="18936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7111800" y="129024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6771240" y="1008360"/>
                <a:ext cx="587880" cy="29916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718680" y="1099800"/>
                <a:ext cx="8604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631920" y="1117440"/>
                <a:ext cx="619920" cy="31500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921360" y="989640"/>
                <a:ext cx="450360" cy="27144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6925320" y="880560"/>
                <a:ext cx="100080" cy="1612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6954840" y="91152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6982200" y="907560"/>
                <a:ext cx="29520" cy="10044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7001640" y="903240"/>
                <a:ext cx="26640" cy="12456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6949080" y="963720"/>
                <a:ext cx="433440" cy="24336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775560" y="950040"/>
                <a:ext cx="85680" cy="716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644520" y="833760"/>
                <a:ext cx="323280" cy="20772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992640" y="1121760"/>
                <a:ext cx="216720" cy="8316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094880" y="905400"/>
                <a:ext cx="53640" cy="133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194960" y="89208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38880" y="97920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6928200" y="1137240"/>
                <a:ext cx="77040" cy="6336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7149240" y="96372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042680" y="92520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7194960" y="934560"/>
                <a:ext cx="5652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261560" y="1022040"/>
                <a:ext cx="60120" cy="1224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268040" y="107064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6827760" y="948240"/>
                <a:ext cx="41040" cy="738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738120" y="915840"/>
                <a:ext cx="160200" cy="19944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7004880" y="114480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6775560" y="1032480"/>
                <a:ext cx="563040" cy="27540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6904800" y="103248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6951240" y="934560"/>
                <a:ext cx="437400" cy="2163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109280" y="113328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045200" y="1133280"/>
                <a:ext cx="126720" cy="6408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6959160" y="960840"/>
                <a:ext cx="400320" cy="1972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965280" y="987480"/>
                <a:ext cx="396720" cy="22356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959160" y="929160"/>
                <a:ext cx="400320" cy="19224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6958440" y="1307880"/>
                <a:ext cx="173160" cy="489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7121880" y="1306080"/>
                <a:ext cx="16560" cy="50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7042680" y="1300680"/>
                <a:ext cx="69120" cy="540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6945120" y="903240"/>
                <a:ext cx="56160" cy="1047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921360" y="876240"/>
                <a:ext cx="96120" cy="16524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775560" y="1005120"/>
                <a:ext cx="567000" cy="26172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788160" y="1059120"/>
                <a:ext cx="520920" cy="28368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768720" y="945000"/>
                <a:ext cx="66600" cy="1393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654960" y="88272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6977880" y="954360"/>
                <a:ext cx="373320" cy="18072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6977880" y="979200"/>
                <a:ext cx="360360" cy="19440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721200" y="829440"/>
                <a:ext cx="253800" cy="5688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994800" y="1047960"/>
                <a:ext cx="70200" cy="7560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6705000" y="853200"/>
                <a:ext cx="216720" cy="5580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175880" y="1200600"/>
                <a:ext cx="142560" cy="352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621120" y="1082160"/>
                <a:ext cx="671400" cy="30132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081920" y="1224720"/>
                <a:ext cx="212760" cy="6012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6871680" y="1144800"/>
                <a:ext cx="103680" cy="13176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6620760" y="1022040"/>
                <a:ext cx="50040" cy="14004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6944760" y="1156320"/>
                <a:ext cx="50040" cy="3312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6644880" y="913680"/>
                <a:ext cx="113760" cy="2484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7082280" y="86904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975720" y="85140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875640" y="84528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7138800" y="855360"/>
                <a:ext cx="54000" cy="1152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6669360" y="1191600"/>
                <a:ext cx="72720" cy="16092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7028280" y="1374480"/>
                <a:ext cx="187200" cy="309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627600" y="1193400"/>
                <a:ext cx="30600" cy="810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6694920" y="1150920"/>
                <a:ext cx="339840" cy="27756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936120" y="1327680"/>
                <a:ext cx="15120" cy="13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148880" y="1142640"/>
                <a:ext cx="22680" cy="133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6742080" y="136620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741720" y="1364040"/>
                <a:ext cx="119160" cy="954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769080" y="138996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6694560" y="1479600"/>
                <a:ext cx="497880" cy="8316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6654960" y="1448280"/>
                <a:ext cx="596880" cy="3816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9" name="" descr=""/>
            <p:cNvPicPr/>
            <p:nvPr/>
          </p:nvPicPr>
          <p:blipFill>
            <a:blip r:embed="rId7"/>
            <a:stretch/>
          </p:blipFill>
          <p:spPr>
            <a:xfrm>
              <a:off x="5867280" y="2768400"/>
              <a:ext cx="848880" cy="7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8"/>
            <a:stretch/>
          </p:blipFill>
          <p:spPr>
            <a:xfrm>
              <a:off x="5368680" y="4606560"/>
              <a:ext cx="1110960" cy="79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9"/>
            <a:stretch/>
          </p:blipFill>
          <p:spPr>
            <a:xfrm>
              <a:off x="4576680" y="861840"/>
              <a:ext cx="637560" cy="5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 flipV="1">
              <a:off x="1118880" y="501120"/>
              <a:ext cx="2088720" cy="7916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84320" y="501480"/>
              <a:ext cx="2808000" cy="360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47960" y="5587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199960" y="1150200"/>
              <a:ext cx="2303280" cy="2156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09680" y="1777680"/>
              <a:ext cx="2366640" cy="2361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983960" y="5109480"/>
              <a:ext cx="3455640" cy="4316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479240" y="4822200"/>
              <a:ext cx="1368000" cy="502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55600" y="5902200"/>
              <a:ext cx="17283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24320" y="1077840"/>
              <a:ext cx="1223640" cy="144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81680" y="3344760"/>
              <a:ext cx="1066320" cy="32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00320" y="1509480"/>
              <a:ext cx="718920" cy="545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33560" y="406080"/>
              <a:ext cx="44636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79600" y="6333840"/>
              <a:ext cx="12236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32320" y="5398920"/>
              <a:ext cx="576000" cy="576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87960" y="6406920"/>
              <a:ext cx="22316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384680" y="1150560"/>
              <a:ext cx="107928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11600" y="10062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672320" y="1006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24320" y="619092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32320" y="554184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03960" y="626256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43240" y="172548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10280" y="32256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92320" y="1222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11240" y="790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99840" y="2158920"/>
              <a:ext cx="4248000" cy="1294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63600" y="273348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79600" y="179856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15960" y="56862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9600" y="518292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55600" y="48942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39960" y="4749480"/>
              <a:ext cx="3023640" cy="1368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55960" y="4678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4680" y="5686200"/>
              <a:ext cx="2133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عالجة مياه الصرف الصحي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6443280" y="6036840"/>
              <a:ext cx="874080" cy="801360"/>
              <a:chOff x="6443280" y="6036840"/>
              <a:chExt cx="874080" cy="801360"/>
            </a:xfrm>
          </p:grpSpPr>
          <p:sp>
            <p:nvSpPr>
              <p:cNvPr id="687" name=""/>
              <p:cNvSpPr/>
              <p:nvPr/>
            </p:nvSpPr>
            <p:spPr>
              <a:xfrm flipH="1">
                <a:off x="6689160" y="6036840"/>
                <a:ext cx="420840" cy="6228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653520" y="6091200"/>
                <a:ext cx="496440" cy="352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6555960" y="6361560"/>
                <a:ext cx="673560" cy="34416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6649920" y="6369840"/>
                <a:ext cx="600480" cy="28512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6703920" y="6307560"/>
                <a:ext cx="567000" cy="30672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486480" y="6161760"/>
                <a:ext cx="256680" cy="22680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6670440" y="6188760"/>
                <a:ext cx="152640" cy="19980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556320" y="6395040"/>
                <a:ext cx="617040" cy="33372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59840" y="6424200"/>
                <a:ext cx="466920" cy="30672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513840" y="6264720"/>
                <a:ext cx="129240" cy="19224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556320" y="6301080"/>
                <a:ext cx="57600" cy="666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817320" y="6587280"/>
                <a:ext cx="156240" cy="5184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810840" y="6587280"/>
                <a:ext cx="162720" cy="540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6589080" y="6305400"/>
                <a:ext cx="27000" cy="640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643080" y="6122520"/>
                <a:ext cx="663480" cy="2743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6603840" y="644364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743160" y="6352200"/>
                <a:ext cx="20520" cy="72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887160" y="6587280"/>
                <a:ext cx="123120" cy="4248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09920" y="6569640"/>
                <a:ext cx="50040" cy="5580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570000" y="6408720"/>
                <a:ext cx="373320" cy="32220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442920" y="6258600"/>
                <a:ext cx="133560" cy="19836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6473160" y="6449040"/>
                <a:ext cx="113760" cy="1116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6497280" y="6256800"/>
                <a:ext cx="8568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516000" y="6267960"/>
                <a:ext cx="130680" cy="18936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7040160" y="656532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6699600" y="6283440"/>
                <a:ext cx="587880" cy="29952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6647040" y="6375240"/>
                <a:ext cx="86040" cy="17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560280" y="6392880"/>
                <a:ext cx="619920" cy="31536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6849720" y="6264720"/>
                <a:ext cx="450360" cy="27144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6853680" y="6155640"/>
                <a:ext cx="100080" cy="1612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883200" y="618696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6910560" y="6182640"/>
                <a:ext cx="29520" cy="10044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6930000" y="6178680"/>
                <a:ext cx="26640" cy="12456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6877440" y="6238800"/>
                <a:ext cx="433440" cy="24336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6703920" y="6225120"/>
                <a:ext cx="85680" cy="716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6572880" y="6108840"/>
                <a:ext cx="323280" cy="20808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921000" y="6396840"/>
                <a:ext cx="216720" cy="8316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023240" y="6180480"/>
                <a:ext cx="53640" cy="133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7123320" y="616716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167240" y="625464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6856560" y="6412680"/>
                <a:ext cx="77040" cy="6336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077600" y="6238800"/>
                <a:ext cx="56160" cy="10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971040" y="6200640"/>
                <a:ext cx="56160" cy="133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123320" y="6209640"/>
                <a:ext cx="5652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89920" y="6297120"/>
                <a:ext cx="60120" cy="1224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196400" y="634608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6756120" y="6223320"/>
                <a:ext cx="41040" cy="738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666480" y="6190920"/>
                <a:ext cx="160200" cy="19980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933240" y="641988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6703920" y="6307560"/>
                <a:ext cx="563040" cy="27540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6833160" y="630756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879600" y="6209640"/>
                <a:ext cx="437400" cy="2163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037640" y="640872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6973560" y="6408720"/>
                <a:ext cx="126720" cy="6408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887520" y="6235920"/>
                <a:ext cx="400320" cy="1972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6893640" y="6262920"/>
                <a:ext cx="396720" cy="22356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6887520" y="6204600"/>
                <a:ext cx="400320" cy="19224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86800" y="6583320"/>
                <a:ext cx="173160" cy="489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050240" y="6581160"/>
                <a:ext cx="16560" cy="50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6971040" y="6576120"/>
                <a:ext cx="69120" cy="540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6873480" y="6178680"/>
                <a:ext cx="56160" cy="1047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849720" y="6151320"/>
                <a:ext cx="96120" cy="16560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703920" y="6280560"/>
                <a:ext cx="567000" cy="26208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6716520" y="6334560"/>
                <a:ext cx="520920" cy="28404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697080" y="6220080"/>
                <a:ext cx="66600" cy="1393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6583320" y="615780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6906240" y="6229440"/>
                <a:ext cx="373320" cy="18072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906240" y="6254640"/>
                <a:ext cx="360360" cy="19440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649560" y="6104520"/>
                <a:ext cx="253800" cy="5688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923160" y="6323040"/>
                <a:ext cx="70200" cy="759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633360" y="6128640"/>
                <a:ext cx="216720" cy="5580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104240" y="6476040"/>
                <a:ext cx="142560" cy="352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6549480" y="6357240"/>
                <a:ext cx="671400" cy="30168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10280" y="6500160"/>
                <a:ext cx="212760" cy="6012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00040" y="6419880"/>
                <a:ext cx="103680" cy="13212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549120" y="6297120"/>
                <a:ext cx="50040" cy="14004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873120" y="6431400"/>
                <a:ext cx="50040" cy="3312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573240" y="6188760"/>
                <a:ext cx="113760" cy="2484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10640" y="6144120"/>
                <a:ext cx="56160" cy="1368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6904080" y="612648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6804000" y="612036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067160" y="6130800"/>
                <a:ext cx="54000" cy="1152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597720" y="6466680"/>
                <a:ext cx="72720" cy="16092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956640" y="6649920"/>
                <a:ext cx="187200" cy="309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555960" y="6468840"/>
                <a:ext cx="30600" cy="810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6623280" y="6426360"/>
                <a:ext cx="339840" cy="27756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6864480" y="66031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077240" y="6417720"/>
                <a:ext cx="22680" cy="136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6670440" y="664128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670080" y="6639480"/>
                <a:ext cx="119160" cy="954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6697440" y="666540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622920" y="6755040"/>
                <a:ext cx="497880" cy="8316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6583320" y="6723720"/>
                <a:ext cx="596880" cy="3816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7086240" y="574560"/>
              <a:ext cx="2133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عالجة مياه الصرف الصحي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31600" y="214200"/>
              <a:ext cx="2266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الصناعة التحويلية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10-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9600" y="4533840"/>
              <a:ext cx="2952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صناعة الخدمات والخدمات الغذائي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55-5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79240" y="4317840"/>
              <a:ext cx="2123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إدارة العام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8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81680" y="2692080"/>
              <a:ext cx="1402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نقل المائي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31960" y="1293480"/>
              <a:ext cx="2376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برمجة الحاسوبي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IC 6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54880" y="358560"/>
              <a:ext cx="2879640" cy="358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5240" y="717480"/>
              <a:ext cx="71280" cy="2952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960" y="273348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160" y="4368600"/>
              <a:ext cx="0" cy="914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1218960" y="2234520"/>
              <a:ext cx="0" cy="1371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90360" y="29970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04560" y="459720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3733560" y="253800"/>
              <a:ext cx="38095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48160" y="33012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24280" y="2520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33760" y="25200"/>
              <a:ext cx="213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مياه المحلا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38480" y="2387520"/>
              <a:ext cx="532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76360" y="6426000"/>
              <a:ext cx="4568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95480" y="6273720"/>
              <a:ext cx="532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57240" y="2234880"/>
              <a:ext cx="533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582560" y="6273720"/>
              <a:ext cx="105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ياه الأمطا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65520" y="2234880"/>
              <a:ext cx="105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ياه الأمطا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752480" y="6629400"/>
            <a:ext cx="236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اكن في كابيتال هاربو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بيتال هاربور – جدول الاستخدام الماد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380880" y="1666800"/>
            <a:ext cx="8763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بيتال هاربور – جدول</a:t>
            </a:r>
            <a:r>
              <a:rPr b="0" lang="ar-L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LB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ماد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657600" y="5943600"/>
            <a:ext cx="2362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فقاً للأمم المتحدة تعود كل الخسائر إلى الموارد المائية السطحية</a:t>
            </a:r>
            <a:r>
              <a:rPr b="1" lang="ar-LB" sz="1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86200" y="46483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خطط ع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ثلاث مدن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كولا سيتي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كاو تاون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كابيتال هاربور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دينا رسم بياني لكولا سيتي يشمل كافة التدفقات بالإضافة إلى جداول كاملة للاستخدام والعرض 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بالنسبة لكاو تاون وكابيتال هاربور لدينا رسم بياني ونحن بحاجة لتزويد الجداول ببيانات الاستخدام والعرض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ولا سيت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هي مدينة ذات مورد مائي وحيد وهو نهر صودا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قتصادها بسيط يعتمد على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صناعة المشروبات الغازية (الأيزيك 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1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كهرباء (الأيزيك 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5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تجميع ومعالجة وعرض المياه (الأيزيك 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6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نقل (الأيزيك 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49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مساكن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4920" y="5291280"/>
            <a:ext cx="9829800" cy="156672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ccecff"/>
                </a:solidFill>
                <a:latin typeface="Arial"/>
                <a:cs typeface="Arial"/>
              </a:rPr>
              <a:t>نهر صود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124080"/>
            <a:ext cx="2057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000" spc="-1" strike="noStrike">
                <a:solidFill>
                  <a:srgbClr val="000000"/>
                </a:solidFill>
                <a:latin typeface="Arial"/>
                <a:cs typeface="Arial"/>
              </a:rPr>
              <a:t>تجميع ومعالجة وعرض الميا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IC 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4648320"/>
            <a:ext cx="0" cy="76176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19320" y="4038120"/>
            <a:ext cx="0" cy="16765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80880"/>
            <a:ext cx="1218960" cy="761760"/>
            <a:chOff x="914400" y="380880"/>
            <a:chExt cx="1218960" cy="761760"/>
          </a:xfrm>
        </p:grpSpPr>
        <p:sp>
          <p:nvSpPr>
            <p:cNvPr id="96" name=""/>
            <p:cNvSpPr/>
            <p:nvPr/>
          </p:nvSpPr>
          <p:spPr>
            <a:xfrm>
              <a:off x="1190160" y="499680"/>
              <a:ext cx="383040" cy="48600"/>
            </a:xfrm>
            <a:custGeom>
              <a:avLst/>
              <a:gdLst/>
              <a:ahLst/>
              <a:rect l="l" t="t" r="r" b="b"/>
              <a:pathLst>
                <a:path w="189" h="41">
                  <a:moveTo>
                    <a:pt x="140" y="41"/>
                  </a:moveTo>
                  <a:lnTo>
                    <a:pt x="189" y="19"/>
                  </a:lnTo>
                  <a:lnTo>
                    <a:pt x="53" y="0"/>
                  </a:lnTo>
                  <a:lnTo>
                    <a:pt x="0" y="23"/>
                  </a:lnTo>
                  <a:lnTo>
                    <a:pt x="140" y="41"/>
                  </a:lnTo>
                  <a:close/>
                </a:path>
              </a:pathLst>
            </a:custGeom>
            <a:solidFill>
              <a:srgbClr val="5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0680" y="427320"/>
              <a:ext cx="316440" cy="2376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10"/>
                  </a:moveTo>
                  <a:lnTo>
                    <a:pt x="122" y="20"/>
                  </a:lnTo>
                  <a:lnTo>
                    <a:pt x="156" y="11"/>
                  </a:lnTo>
                  <a:lnTo>
                    <a:pt x="3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58000" y="440280"/>
              <a:ext cx="70560" cy="9864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0" y="9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8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8520" y="439200"/>
              <a:ext cx="249120" cy="9972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" y="0"/>
                  </a:moveTo>
                  <a:lnTo>
                    <a:pt x="123" y="10"/>
                  </a:lnTo>
                  <a:lnTo>
                    <a:pt x="123" y="84"/>
                  </a:lnTo>
                  <a:lnTo>
                    <a:pt x="0" y="6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4200" y="522360"/>
              <a:ext cx="99360" cy="246240"/>
            </a:xfrm>
            <a:custGeom>
              <a:avLst/>
              <a:gdLst/>
              <a:ahLst/>
              <a:rect l="l" t="t" r="r" b="b"/>
              <a:pathLst>
                <a:path w="49" h="207">
                  <a:moveTo>
                    <a:pt x="49" y="0"/>
                  </a:moveTo>
                  <a:lnTo>
                    <a:pt x="0" y="22"/>
                  </a:lnTo>
                  <a:lnTo>
                    <a:pt x="0" y="207"/>
                  </a:lnTo>
                  <a:lnTo>
                    <a:pt x="49" y="18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90160" y="525960"/>
              <a:ext cx="283680" cy="242640"/>
            </a:xfrm>
            <a:custGeom>
              <a:avLst/>
              <a:gdLst/>
              <a:ahLst/>
              <a:rect l="l" t="t" r="r" b="b"/>
              <a:pathLst>
                <a:path w="140" h="204">
                  <a:moveTo>
                    <a:pt x="0" y="0"/>
                  </a:moveTo>
                  <a:lnTo>
                    <a:pt x="140" y="19"/>
                  </a:lnTo>
                  <a:lnTo>
                    <a:pt x="140" y="204"/>
                  </a:lnTo>
                  <a:lnTo>
                    <a:pt x="0" y="1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442440"/>
              <a:ext cx="38520" cy="93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2"/>
                  </a:lnTo>
                  <a:lnTo>
                    <a:pt x="19" y="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69360" y="457920"/>
              <a:ext cx="3600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0120" y="447480"/>
              <a:ext cx="36720" cy="936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0"/>
                  </a:moveTo>
                  <a:lnTo>
                    <a:pt x="18" y="2"/>
                  </a:lnTo>
                  <a:lnTo>
                    <a:pt x="18" y="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4840" y="45108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4840" y="46404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20120" y="47700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4840" y="49392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23440" y="552240"/>
              <a:ext cx="3600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2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25240" y="579600"/>
              <a:ext cx="36720" cy="82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8" y="1"/>
                  </a:lnTo>
                  <a:lnTo>
                    <a:pt x="18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8680" y="516600"/>
              <a:ext cx="468720" cy="92520"/>
            </a:xfrm>
            <a:custGeom>
              <a:avLst/>
              <a:gdLst/>
              <a:ahLst/>
              <a:rect l="l" t="t" r="r" b="b"/>
              <a:pathLst>
                <a:path w="231" h="78">
                  <a:moveTo>
                    <a:pt x="0" y="57"/>
                  </a:moveTo>
                  <a:lnTo>
                    <a:pt x="130" y="78"/>
                  </a:lnTo>
                  <a:lnTo>
                    <a:pt x="231" y="15"/>
                  </a:lnTo>
                  <a:lnTo>
                    <a:pt x="10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1680" y="439200"/>
              <a:ext cx="196560" cy="1558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97" y="7"/>
                  </a:lnTo>
                  <a:lnTo>
                    <a:pt x="97" y="131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4280" y="414000"/>
              <a:ext cx="168120" cy="17964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0" y="28"/>
                  </a:moveTo>
                  <a:lnTo>
                    <a:pt x="0" y="151"/>
                  </a:lnTo>
                  <a:lnTo>
                    <a:pt x="83" y="101"/>
                  </a:lnTo>
                  <a:lnTo>
                    <a:pt x="8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61680" y="406800"/>
              <a:ext cx="361080" cy="40320"/>
            </a:xfrm>
            <a:custGeom>
              <a:avLst/>
              <a:gdLst/>
              <a:ahLst/>
              <a:rect l="l" t="t" r="r" b="b"/>
              <a:pathLst>
                <a:path w="178" h="34">
                  <a:moveTo>
                    <a:pt x="0" y="27"/>
                  </a:moveTo>
                  <a:lnTo>
                    <a:pt x="95" y="34"/>
                  </a:lnTo>
                  <a:lnTo>
                    <a:pt x="178" y="6"/>
                  </a:lnTo>
                  <a:lnTo>
                    <a:pt x="95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8120" y="380880"/>
              <a:ext cx="263880" cy="23760"/>
            </a:xfrm>
            <a:custGeom>
              <a:avLst/>
              <a:gdLst/>
              <a:ahLst/>
              <a:rect l="l" t="t" r="r" b="b"/>
              <a:pathLst>
                <a:path w="130" h="20">
                  <a:moveTo>
                    <a:pt x="0" y="16"/>
                  </a:moveTo>
                  <a:lnTo>
                    <a:pt x="69" y="20"/>
                  </a:lnTo>
                  <a:lnTo>
                    <a:pt x="130" y="4"/>
                  </a:lnTo>
                  <a:lnTo>
                    <a:pt x="6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8120" y="399600"/>
              <a:ext cx="137880" cy="3672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0" y="0"/>
                  </a:moveTo>
                  <a:lnTo>
                    <a:pt x="68" y="4"/>
                  </a:lnTo>
                  <a:lnTo>
                    <a:pt x="68" y="31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6000" y="385200"/>
              <a:ext cx="126000" cy="5112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0" y="16"/>
                  </a:moveTo>
                  <a:lnTo>
                    <a:pt x="0" y="4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60400" y="534240"/>
              <a:ext cx="207000" cy="32364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102" y="0"/>
                  </a:moveTo>
                  <a:lnTo>
                    <a:pt x="1" y="63"/>
                  </a:lnTo>
                  <a:lnTo>
                    <a:pt x="0" y="272"/>
                  </a:lnTo>
                  <a:lnTo>
                    <a:pt x="102" y="19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4360" y="584280"/>
              <a:ext cx="268200" cy="273600"/>
            </a:xfrm>
            <a:custGeom>
              <a:avLst/>
              <a:gdLst/>
              <a:ahLst/>
              <a:rect l="l" t="t" r="r" b="b"/>
              <a:pathLst>
                <a:path w="132" h="230">
                  <a:moveTo>
                    <a:pt x="2" y="0"/>
                  </a:moveTo>
                  <a:lnTo>
                    <a:pt x="132" y="21"/>
                  </a:lnTo>
                  <a:lnTo>
                    <a:pt x="132" y="230"/>
                  </a:lnTo>
                  <a:lnTo>
                    <a:pt x="0" y="19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5720" y="443880"/>
              <a:ext cx="3204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1"/>
                  </a:lnTo>
                  <a:lnTo>
                    <a:pt x="16" y="3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8200" y="446040"/>
              <a:ext cx="3240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1"/>
                  </a:lnTo>
                  <a:lnTo>
                    <a:pt x="16" y="31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61040" y="448560"/>
              <a:ext cx="32400" cy="378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0" y="0"/>
                  </a:moveTo>
                  <a:lnTo>
                    <a:pt x="16" y="1"/>
                  </a:lnTo>
                  <a:lnTo>
                    <a:pt x="16" y="32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3880" y="450000"/>
              <a:ext cx="32040" cy="388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6" y="2"/>
                  </a:lnTo>
                  <a:lnTo>
                    <a:pt x="16" y="33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73560" y="486720"/>
              <a:ext cx="34200" cy="378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7" y="2"/>
                  </a:lnTo>
                  <a:lnTo>
                    <a:pt x="17" y="32"/>
                  </a:lnTo>
                  <a:lnTo>
                    <a:pt x="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16400" y="490320"/>
              <a:ext cx="34200" cy="378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0"/>
                  </a:moveTo>
                  <a:lnTo>
                    <a:pt x="17" y="3"/>
                  </a:lnTo>
                  <a:lnTo>
                    <a:pt x="16" y="32"/>
                  </a:lnTo>
                  <a:lnTo>
                    <a:pt x="0" y="3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59240" y="493920"/>
              <a:ext cx="34200" cy="367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lnTo>
                    <a:pt x="17" y="2"/>
                  </a:lnTo>
                  <a:lnTo>
                    <a:pt x="16" y="31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03880" y="497520"/>
              <a:ext cx="32040" cy="367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lnTo>
                    <a:pt x="16" y="2"/>
                  </a:lnTo>
                  <a:lnTo>
                    <a:pt x="16" y="31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75720" y="59868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30440" y="603360"/>
              <a:ext cx="4212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1" y="4"/>
                  </a:lnTo>
                  <a:lnTo>
                    <a:pt x="21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3360" y="609120"/>
              <a:ext cx="44280" cy="18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5320" y="593640"/>
              <a:ext cx="44280" cy="165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0"/>
                  </a:moveTo>
                  <a:lnTo>
                    <a:pt x="22" y="3"/>
                  </a:lnTo>
                  <a:lnTo>
                    <a:pt x="22" y="1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75720" y="61740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0440" y="623520"/>
              <a:ext cx="42120" cy="18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21" y="3"/>
                  </a:lnTo>
                  <a:lnTo>
                    <a:pt x="2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3360" y="629280"/>
              <a:ext cx="44280" cy="18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4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5320" y="613080"/>
              <a:ext cx="4428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22" y="3"/>
                  </a:lnTo>
                  <a:lnTo>
                    <a:pt x="22" y="1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1920" y="566640"/>
              <a:ext cx="194400" cy="367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0" y="25"/>
                  </a:moveTo>
                  <a:lnTo>
                    <a:pt x="59" y="31"/>
                  </a:lnTo>
                  <a:lnTo>
                    <a:pt x="96" y="5"/>
                  </a:lnTo>
                  <a:lnTo>
                    <a:pt x="4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2520" y="569880"/>
              <a:ext cx="83160" cy="2700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0"/>
                  </a:moveTo>
                  <a:lnTo>
                    <a:pt x="41" y="4"/>
                  </a:lnTo>
                  <a:lnTo>
                    <a:pt x="41" y="23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5680" y="555840"/>
              <a:ext cx="54720" cy="41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16"/>
                  </a:moveTo>
                  <a:lnTo>
                    <a:pt x="0" y="35"/>
                  </a:lnTo>
                  <a:lnTo>
                    <a:pt x="27" y="16"/>
                  </a:lnTo>
                  <a:lnTo>
                    <a:pt x="2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92520" y="552240"/>
              <a:ext cx="137880" cy="22680"/>
            </a:xfrm>
            <a:custGeom>
              <a:avLst/>
              <a:gdLst/>
              <a:ahLst/>
              <a:rect l="l" t="t" r="r" b="b"/>
              <a:pathLst>
                <a:path w="68" h="19">
                  <a:moveTo>
                    <a:pt x="0" y="15"/>
                  </a:moveTo>
                  <a:lnTo>
                    <a:pt x="41" y="19"/>
                  </a:lnTo>
                  <a:lnTo>
                    <a:pt x="68" y="3"/>
                  </a:lnTo>
                  <a:lnTo>
                    <a:pt x="2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1920" y="596160"/>
              <a:ext cx="119520" cy="14868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0"/>
                  </a:moveTo>
                  <a:lnTo>
                    <a:pt x="59" y="6"/>
                  </a:lnTo>
                  <a:lnTo>
                    <a:pt x="59" y="125"/>
                  </a:lnTo>
                  <a:lnTo>
                    <a:pt x="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440" y="572400"/>
              <a:ext cx="74880" cy="1724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26"/>
                  </a:moveTo>
                  <a:lnTo>
                    <a:pt x="37" y="0"/>
                  </a:lnTo>
                  <a:lnTo>
                    <a:pt x="37" y="111"/>
                  </a:lnTo>
                  <a:lnTo>
                    <a:pt x="0" y="14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79280" y="704520"/>
              <a:ext cx="154080" cy="12384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38" y="0"/>
                  </a:moveTo>
                  <a:lnTo>
                    <a:pt x="0" y="34"/>
                  </a:lnTo>
                  <a:lnTo>
                    <a:pt x="14" y="104"/>
                  </a:lnTo>
                  <a:lnTo>
                    <a:pt x="76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98920" y="730800"/>
              <a:ext cx="208800" cy="9756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30" y="0"/>
                  </a:moveTo>
                  <a:lnTo>
                    <a:pt x="89" y="12"/>
                  </a:lnTo>
                  <a:lnTo>
                    <a:pt x="103" y="82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07720" y="749880"/>
              <a:ext cx="123480" cy="234360"/>
            </a:xfrm>
            <a:custGeom>
              <a:avLst/>
              <a:gdLst/>
              <a:ahLst/>
              <a:rect l="l" t="t" r="r" b="b"/>
              <a:pathLst>
                <a:path w="61" h="197">
                  <a:moveTo>
                    <a:pt x="0" y="66"/>
                  </a:moveTo>
                  <a:lnTo>
                    <a:pt x="61" y="0"/>
                  </a:lnTo>
                  <a:lnTo>
                    <a:pt x="61" y="107"/>
                  </a:lnTo>
                  <a:lnTo>
                    <a:pt x="0" y="19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8920" y="799920"/>
              <a:ext cx="208800" cy="1846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0" y="0"/>
                  </a:moveTo>
                  <a:lnTo>
                    <a:pt x="103" y="23"/>
                  </a:lnTo>
                  <a:lnTo>
                    <a:pt x="103" y="155"/>
                  </a:lnTo>
                  <a:lnTo>
                    <a:pt x="0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3800" y="602280"/>
              <a:ext cx="18360" cy="25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1"/>
                  </a:lnTo>
                  <a:lnTo>
                    <a:pt x="9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8360" y="6044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1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44720" y="608040"/>
              <a:ext cx="18360" cy="25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1"/>
                  </a:lnTo>
                  <a:lnTo>
                    <a:pt x="9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3800" y="6332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8360" y="63684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4720" y="64044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73800" y="66420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8360" y="668880"/>
              <a:ext cx="18360" cy="2700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1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44720" y="672480"/>
              <a:ext cx="18360" cy="27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lnTo>
                    <a:pt x="9" y="2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491400"/>
              <a:ext cx="498960" cy="58320"/>
            </a:xfrm>
            <a:custGeom>
              <a:avLst/>
              <a:gdLst/>
              <a:ahLst/>
              <a:rect l="l" t="t" r="r" b="b"/>
              <a:pathLst>
                <a:path w="246" h="49">
                  <a:moveTo>
                    <a:pt x="0" y="29"/>
                  </a:moveTo>
                  <a:lnTo>
                    <a:pt x="140" y="49"/>
                  </a:lnTo>
                  <a:lnTo>
                    <a:pt x="246" y="14"/>
                  </a:lnTo>
                  <a:lnTo>
                    <a:pt x="117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4400" y="524520"/>
              <a:ext cx="284040" cy="464400"/>
            </a:xfrm>
            <a:custGeom>
              <a:avLst/>
              <a:gdLst/>
              <a:ahLst/>
              <a:rect l="l" t="t" r="r" b="b"/>
              <a:pathLst>
                <a:path w="140" h="390">
                  <a:moveTo>
                    <a:pt x="0" y="0"/>
                  </a:moveTo>
                  <a:lnTo>
                    <a:pt x="140" y="21"/>
                  </a:lnTo>
                  <a:lnTo>
                    <a:pt x="140" y="390"/>
                  </a:lnTo>
                  <a:lnTo>
                    <a:pt x="111" y="381"/>
                  </a:lnTo>
                  <a:lnTo>
                    <a:pt x="111" y="334"/>
                  </a:lnTo>
                  <a:lnTo>
                    <a:pt x="71" y="321"/>
                  </a:lnTo>
                  <a:lnTo>
                    <a:pt x="71" y="363"/>
                  </a:lnTo>
                  <a:lnTo>
                    <a:pt x="49" y="354"/>
                  </a:lnTo>
                  <a:lnTo>
                    <a:pt x="49" y="313"/>
                  </a:lnTo>
                  <a:lnTo>
                    <a:pt x="18" y="300"/>
                  </a:lnTo>
                  <a:lnTo>
                    <a:pt x="18" y="342"/>
                  </a:lnTo>
                  <a:lnTo>
                    <a:pt x="0" y="3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98440" y="508320"/>
              <a:ext cx="214560" cy="480960"/>
            </a:xfrm>
            <a:custGeom>
              <a:avLst/>
              <a:gdLst/>
              <a:ahLst/>
              <a:rect l="l" t="t" r="r" b="b"/>
              <a:pathLst>
                <a:path w="106" h="404">
                  <a:moveTo>
                    <a:pt x="0" y="34"/>
                  </a:moveTo>
                  <a:lnTo>
                    <a:pt x="105" y="0"/>
                  </a:lnTo>
                  <a:lnTo>
                    <a:pt x="106" y="312"/>
                  </a:lnTo>
                  <a:lnTo>
                    <a:pt x="0" y="40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5200" y="915480"/>
              <a:ext cx="36000" cy="35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0" y="23"/>
                  </a:lnTo>
                  <a:lnTo>
                    <a:pt x="18" y="30"/>
                  </a:lnTo>
                  <a:lnTo>
                    <a:pt x="18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58400" y="905760"/>
              <a:ext cx="48600" cy="511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0" y="43"/>
                  </a:lnTo>
                  <a:lnTo>
                    <a:pt x="24" y="30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7560" y="890280"/>
              <a:ext cx="36000" cy="35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0" y="23"/>
                  </a:lnTo>
                  <a:lnTo>
                    <a:pt x="18" y="30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48600" y="880920"/>
              <a:ext cx="486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0"/>
                  </a:moveTo>
                  <a:lnTo>
                    <a:pt x="0" y="44"/>
                  </a:lnTo>
                  <a:lnTo>
                    <a:pt x="24" y="31"/>
                  </a:lnTo>
                  <a:lnTo>
                    <a:pt x="2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34560" y="536400"/>
              <a:ext cx="231120" cy="365400"/>
            </a:xfrm>
            <a:custGeom>
              <a:avLst/>
              <a:gdLst/>
              <a:ahLst/>
              <a:rect l="l" t="t" r="r" b="b"/>
              <a:pathLst>
                <a:path w="114" h="307">
                  <a:moveTo>
                    <a:pt x="0" y="0"/>
                  </a:moveTo>
                  <a:lnTo>
                    <a:pt x="114" y="17"/>
                  </a:lnTo>
                  <a:lnTo>
                    <a:pt x="114" y="307"/>
                  </a:lnTo>
                  <a:lnTo>
                    <a:pt x="1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26640" y="810720"/>
              <a:ext cx="253440" cy="439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24480" y="764280"/>
              <a:ext cx="253800" cy="378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28440" y="717840"/>
              <a:ext cx="249480" cy="331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26640" y="667800"/>
              <a:ext cx="249120" cy="306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32760" y="621360"/>
              <a:ext cx="243360" cy="2484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24480" y="577080"/>
              <a:ext cx="249480" cy="2160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3160" y="535320"/>
              <a:ext cx="0" cy="33444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2200" y="541440"/>
              <a:ext cx="0" cy="34272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2680" y="547200"/>
              <a:ext cx="0" cy="347760"/>
            </a:xfrm>
            <a:prstGeom prst="line">
              <a:avLst/>
            </a:prstGeom>
            <a:ln w="1800">
              <a:solidFill>
                <a:srgbClr val="ff5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9880" y="460440"/>
              <a:ext cx="298080" cy="29880"/>
            </a:xfrm>
            <a:custGeom>
              <a:avLst/>
              <a:gdLst/>
              <a:ahLst/>
              <a:rect l="l" t="t" r="r" b="b"/>
              <a:pathLst>
                <a:path w="147" h="25">
                  <a:moveTo>
                    <a:pt x="0" y="16"/>
                  </a:moveTo>
                  <a:lnTo>
                    <a:pt x="86" y="25"/>
                  </a:lnTo>
                  <a:lnTo>
                    <a:pt x="147" y="8"/>
                  </a:lnTo>
                  <a:lnTo>
                    <a:pt x="6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4480" y="470160"/>
              <a:ext cx="121320" cy="640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17"/>
                  </a:moveTo>
                  <a:lnTo>
                    <a:pt x="60" y="0"/>
                  </a:lnTo>
                  <a:lnTo>
                    <a:pt x="60" y="34"/>
                  </a:lnTo>
                  <a:lnTo>
                    <a:pt x="0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f1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19880" y="479520"/>
              <a:ext cx="174240" cy="5472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86" y="9"/>
                  </a:moveTo>
                  <a:lnTo>
                    <a:pt x="86" y="4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4000" y="488880"/>
              <a:ext cx="99720" cy="1296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0" y="0"/>
                  </a:moveTo>
                  <a:lnTo>
                    <a:pt x="49" y="4"/>
                  </a:lnTo>
                  <a:lnTo>
                    <a:pt x="49" y="11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40920" y="634320"/>
              <a:ext cx="476640" cy="11556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0" y="71"/>
                  </a:moveTo>
                  <a:lnTo>
                    <a:pt x="113" y="97"/>
                  </a:lnTo>
                  <a:lnTo>
                    <a:pt x="235" y="18"/>
                  </a:lnTo>
                  <a:lnTo>
                    <a:pt x="137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d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40920" y="718920"/>
              <a:ext cx="229320" cy="331920"/>
            </a:xfrm>
            <a:custGeom>
              <a:avLst/>
              <a:gdLst/>
              <a:ahLst/>
              <a:rect l="l" t="t" r="r" b="b"/>
              <a:pathLst>
                <a:path w="113" h="279">
                  <a:moveTo>
                    <a:pt x="0" y="0"/>
                  </a:moveTo>
                  <a:lnTo>
                    <a:pt x="113" y="25"/>
                  </a:lnTo>
                  <a:lnTo>
                    <a:pt x="113" y="279"/>
                  </a:lnTo>
                  <a:lnTo>
                    <a:pt x="0" y="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70600" y="655560"/>
              <a:ext cx="245160" cy="395280"/>
            </a:xfrm>
            <a:custGeom>
              <a:avLst/>
              <a:gdLst/>
              <a:ahLst/>
              <a:rect l="l" t="t" r="r" b="b"/>
              <a:pathLst>
                <a:path w="121" h="332">
                  <a:moveTo>
                    <a:pt x="0" y="79"/>
                  </a:moveTo>
                  <a:lnTo>
                    <a:pt x="0" y="332"/>
                  </a:lnTo>
                  <a:lnTo>
                    <a:pt x="121" y="212"/>
                  </a:lnTo>
                  <a:lnTo>
                    <a:pt x="121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9600" y="627120"/>
              <a:ext cx="362880" cy="86760"/>
            </a:xfrm>
            <a:custGeom>
              <a:avLst/>
              <a:gdLst/>
              <a:ahLst/>
              <a:rect l="l" t="t" r="r" b="b"/>
              <a:pathLst>
                <a:path w="179" h="73">
                  <a:moveTo>
                    <a:pt x="0" y="55"/>
                  </a:moveTo>
                  <a:lnTo>
                    <a:pt x="82" y="73"/>
                  </a:lnTo>
                  <a:lnTo>
                    <a:pt x="179" y="12"/>
                  </a:lnTo>
                  <a:lnTo>
                    <a:pt x="107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4120" y="642600"/>
              <a:ext cx="198720" cy="903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0" y="60"/>
                  </a:moveTo>
                  <a:lnTo>
                    <a:pt x="98" y="0"/>
                  </a:lnTo>
                  <a:lnTo>
                    <a:pt x="98" y="14"/>
                  </a:lnTo>
                  <a:lnTo>
                    <a:pt x="0" y="7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99600" y="692640"/>
              <a:ext cx="164160" cy="39240"/>
            </a:xfrm>
            <a:custGeom>
              <a:avLst/>
              <a:gdLst/>
              <a:ahLst/>
              <a:rect l="l" t="t" r="r" b="b"/>
              <a:pathLst>
                <a:path w="81" h="33">
                  <a:moveTo>
                    <a:pt x="81" y="18"/>
                  </a:moveTo>
                  <a:lnTo>
                    <a:pt x="81" y="3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1" y="18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53160" y="729720"/>
              <a:ext cx="204480" cy="3070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0"/>
                  </a:moveTo>
                  <a:lnTo>
                    <a:pt x="101" y="23"/>
                  </a:lnTo>
                  <a:lnTo>
                    <a:pt x="101" y="258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81240" y="733320"/>
              <a:ext cx="22320" cy="272520"/>
            </a:xfrm>
            <a:custGeom>
              <a:avLst/>
              <a:gdLst/>
              <a:ahLst/>
              <a:rect l="l" t="t" r="r" b="b"/>
              <a:pathLst>
                <a:path w="11" h="229">
                  <a:moveTo>
                    <a:pt x="0" y="0"/>
                  </a:moveTo>
                  <a:lnTo>
                    <a:pt x="0" y="225"/>
                  </a:lnTo>
                  <a:lnTo>
                    <a:pt x="11" y="229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38480" y="739080"/>
              <a:ext cx="21960" cy="277560"/>
            </a:xfrm>
            <a:custGeom>
              <a:avLst/>
              <a:gdLst/>
              <a:ahLst/>
              <a:rect l="l" t="t" r="r" b="b"/>
              <a:pathLst>
                <a:path w="11" h="233">
                  <a:moveTo>
                    <a:pt x="0" y="0"/>
                  </a:moveTo>
                  <a:lnTo>
                    <a:pt x="0" y="229"/>
                  </a:lnTo>
                  <a:lnTo>
                    <a:pt x="11" y="233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9320" y="748440"/>
              <a:ext cx="22320" cy="280080"/>
            </a:xfrm>
            <a:custGeom>
              <a:avLst/>
              <a:gdLst/>
              <a:ahLst/>
              <a:rect l="l" t="t" r="r" b="b"/>
              <a:pathLst>
                <a:path w="11" h="235">
                  <a:moveTo>
                    <a:pt x="0" y="0"/>
                  </a:moveTo>
                  <a:lnTo>
                    <a:pt x="0" y="230"/>
                  </a:lnTo>
                  <a:lnTo>
                    <a:pt x="11" y="23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20360" y="1066680"/>
              <a:ext cx="220680" cy="7596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0"/>
                  </a:moveTo>
                  <a:lnTo>
                    <a:pt x="0" y="19"/>
                  </a:lnTo>
                  <a:lnTo>
                    <a:pt x="109" y="64"/>
                  </a:lnTo>
                  <a:lnTo>
                    <a:pt x="10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41400" y="1021320"/>
              <a:ext cx="123480" cy="121320"/>
            </a:xfrm>
            <a:custGeom>
              <a:avLst/>
              <a:gdLst/>
              <a:ahLst/>
              <a:rect l="l" t="t" r="r" b="b"/>
              <a:pathLst>
                <a:path w="61" h="102">
                  <a:moveTo>
                    <a:pt x="0" y="82"/>
                  </a:moveTo>
                  <a:lnTo>
                    <a:pt x="0" y="102"/>
                  </a:lnTo>
                  <a:lnTo>
                    <a:pt x="61" y="16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71760" y="939240"/>
              <a:ext cx="442080" cy="186840"/>
            </a:xfrm>
            <a:custGeom>
              <a:avLst/>
              <a:gdLst/>
              <a:ahLst/>
              <a:rect l="l" t="t" r="r" b="b"/>
              <a:pathLst>
                <a:path w="218" h="157">
                  <a:moveTo>
                    <a:pt x="0" y="99"/>
                  </a:moveTo>
                  <a:lnTo>
                    <a:pt x="145" y="157"/>
                  </a:lnTo>
                  <a:lnTo>
                    <a:pt x="218" y="54"/>
                  </a:lnTo>
                  <a:lnTo>
                    <a:pt x="79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0280" y="823680"/>
              <a:ext cx="351000" cy="10584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14" y="89"/>
                  </a:moveTo>
                  <a:lnTo>
                    <a:pt x="173" y="3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14" y="89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86680" y="649800"/>
              <a:ext cx="121680" cy="12384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0" y="0"/>
                  </a:moveTo>
                  <a:lnTo>
                    <a:pt x="14" y="104"/>
                  </a:lnTo>
                  <a:lnTo>
                    <a:pt x="6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81200" y="648720"/>
              <a:ext cx="133560" cy="124920"/>
            </a:xfrm>
            <a:custGeom>
              <a:avLst/>
              <a:gdLst/>
              <a:ahLst/>
              <a:rect l="l" t="t" r="r" b="b"/>
              <a:pathLst>
                <a:path w="66" h="105">
                  <a:moveTo>
                    <a:pt x="52" y="0"/>
                  </a:moveTo>
                  <a:lnTo>
                    <a:pt x="66" y="105"/>
                  </a:lnTo>
                  <a:lnTo>
                    <a:pt x="0" y="9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81200" y="760680"/>
              <a:ext cx="133560" cy="151200"/>
            </a:xfrm>
            <a:custGeom>
              <a:avLst/>
              <a:gdLst/>
              <a:ahLst/>
              <a:rect l="l" t="t" r="r" b="b"/>
              <a:pathLst>
                <a:path w="66" h="127">
                  <a:moveTo>
                    <a:pt x="0" y="0"/>
                  </a:moveTo>
                  <a:lnTo>
                    <a:pt x="66" y="11"/>
                  </a:lnTo>
                  <a:lnTo>
                    <a:pt x="66" y="127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15120" y="732240"/>
              <a:ext cx="91440" cy="18072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35"/>
                  </a:moveTo>
                  <a:lnTo>
                    <a:pt x="45" y="0"/>
                  </a:lnTo>
                  <a:lnTo>
                    <a:pt x="45" y="109"/>
                  </a:lnTo>
                  <a:lnTo>
                    <a:pt x="0" y="15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10280" y="891720"/>
              <a:ext cx="228960" cy="20340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0" y="0"/>
                  </a:moveTo>
                  <a:lnTo>
                    <a:pt x="113" y="32"/>
                  </a:lnTo>
                  <a:lnTo>
                    <a:pt x="113" y="171"/>
                  </a:lnTo>
                  <a:lnTo>
                    <a:pt x="0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9600" y="859680"/>
              <a:ext cx="121680" cy="235440"/>
            </a:xfrm>
            <a:custGeom>
              <a:avLst/>
              <a:gdLst/>
              <a:ahLst/>
              <a:rect l="l" t="t" r="r" b="b"/>
              <a:pathLst>
                <a:path w="60" h="198">
                  <a:moveTo>
                    <a:pt x="0" y="59"/>
                  </a:moveTo>
                  <a:lnTo>
                    <a:pt x="60" y="0"/>
                  </a:lnTo>
                  <a:lnTo>
                    <a:pt x="60" y="118"/>
                  </a:lnTo>
                  <a:lnTo>
                    <a:pt x="0" y="19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2120" y="776160"/>
              <a:ext cx="18360" cy="42840"/>
            </a:xfrm>
            <a:custGeom>
              <a:avLst/>
              <a:gdLst/>
              <a:ahLst/>
              <a:rect l="l" t="t" r="r" b="b"/>
              <a:pathLst>
                <a:path w="28" h="123">
                  <a:moveTo>
                    <a:pt x="27" y="123"/>
                  </a:moveTo>
                  <a:cubicBezTo>
                    <a:pt x="27" y="120"/>
                    <a:pt x="28" y="117"/>
                    <a:pt x="28" y="114"/>
                  </a:cubicBezTo>
                  <a:cubicBezTo>
                    <a:pt x="28" y="53"/>
                    <a:pt x="16" y="3"/>
                    <a:pt x="2" y="0"/>
                  </a:cubicBezTo>
                  <a:lnTo>
                    <a:pt x="0" y="114"/>
                  </a:lnTo>
                  <a:lnTo>
                    <a:pt x="27" y="123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1520" y="774720"/>
              <a:ext cx="18360" cy="39240"/>
            </a:xfrm>
            <a:custGeom>
              <a:avLst/>
              <a:gdLst/>
              <a:ahLst/>
              <a:rect l="l" t="t" r="r" b="b"/>
              <a:pathLst>
                <a:path w="27" h="115">
                  <a:moveTo>
                    <a:pt x="27" y="1"/>
                  </a:moveTo>
                  <a:cubicBezTo>
                    <a:pt x="26" y="1"/>
                    <a:pt x="26" y="1"/>
                    <a:pt x="25" y="1"/>
                  </a:cubicBezTo>
                  <a:cubicBezTo>
                    <a:pt x="12" y="0"/>
                    <a:pt x="1" y="46"/>
                    <a:pt x="0" y="105"/>
                  </a:cubicBezTo>
                  <a:lnTo>
                    <a:pt x="25" y="115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24040" y="817560"/>
              <a:ext cx="15840" cy="3564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0" y="0"/>
                  </a:moveTo>
                  <a:lnTo>
                    <a:pt x="0" y="27"/>
                  </a:lnTo>
                  <a:lnTo>
                    <a:pt x="8" y="30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4280" y="822600"/>
              <a:ext cx="14040" cy="356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0" y="27"/>
                  </a:lnTo>
                  <a:lnTo>
                    <a:pt x="7" y="3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4920" y="978480"/>
              <a:ext cx="139680" cy="820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0"/>
                  </a:moveTo>
                  <a:lnTo>
                    <a:pt x="0" y="43"/>
                  </a:lnTo>
                  <a:lnTo>
                    <a:pt x="69" y="69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56720" y="934560"/>
              <a:ext cx="131760" cy="6192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0" y="0"/>
                  </a:moveTo>
                  <a:lnTo>
                    <a:pt x="0" y="30"/>
                  </a:lnTo>
                  <a:lnTo>
                    <a:pt x="65" y="52"/>
                  </a:lnTo>
                  <a:lnTo>
                    <a:pt x="65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4920" y="99072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كولا سيتي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447920" y="1066320"/>
            <a:ext cx="0" cy="20574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733920"/>
            <a:ext cx="1676520" cy="0"/>
          </a:xfrm>
          <a:prstGeom prst="line">
            <a:avLst/>
          </a:prstGeom>
          <a:ln w="82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733920" y="1295280"/>
            <a:ext cx="129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وسائل نقل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259092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إنتاج المشروبات الغاز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flipH="1" flipV="1" rot="5400000">
            <a:off x="2381760" y="1427400"/>
            <a:ext cx="1142280" cy="2248560"/>
          </a:xfrm>
          <a:prstGeom prst="bentConnector2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</p:cxn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716040" cy="758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2362320" y="5028840"/>
            <a:ext cx="609480" cy="7621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029200"/>
            <a:ext cx="609840" cy="53352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41148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محطات التوليد الكهرمائ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72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2590920"/>
            <a:ext cx="533520" cy="276480"/>
          </a:xfrm>
          <a:prstGeom prst="rect">
            <a:avLst/>
          </a:prstGeom>
          <a:solidFill>
            <a:srgbClr val="cce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1600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4648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914400"/>
            <a:ext cx="16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معالجة مياه الصرف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4038480"/>
            <a:ext cx="0" cy="160020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4038480"/>
            <a:ext cx="609480" cy="76212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495680" y="1371240"/>
            <a:ext cx="1676520" cy="6094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68320" y="601560"/>
            <a:ext cx="1255680" cy="1222560"/>
            <a:chOff x="6268320" y="601560"/>
            <a:chExt cx="1255680" cy="1222560"/>
          </a:xfrm>
        </p:grpSpPr>
        <p:sp>
          <p:nvSpPr>
            <p:cNvPr id="227" name=""/>
            <p:cNvSpPr/>
            <p:nvPr/>
          </p:nvSpPr>
          <p:spPr>
            <a:xfrm>
              <a:off x="6565320" y="601560"/>
              <a:ext cx="604440" cy="9540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07720" y="684360"/>
              <a:ext cx="713160" cy="5400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3600" y="1096920"/>
              <a:ext cx="968040" cy="52560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64080" y="1109520"/>
              <a:ext cx="862920" cy="43524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34200" y="1014480"/>
              <a:ext cx="815040" cy="46836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2360" y="792000"/>
              <a:ext cx="368640" cy="34632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77880" y="833400"/>
              <a:ext cx="219240" cy="3049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4960" y="1147680"/>
              <a:ext cx="886680" cy="50976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28480" y="1192320"/>
              <a:ext cx="671040" cy="46836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6360" y="949320"/>
              <a:ext cx="185760" cy="29376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78480" y="1004760"/>
              <a:ext cx="83160" cy="10188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62240" y="1441440"/>
              <a:ext cx="224640" cy="7956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62240" y="1441440"/>
              <a:ext cx="234000" cy="8244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74880" y="1011240"/>
              <a:ext cx="38880" cy="982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2720" y="731880"/>
              <a:ext cx="953280" cy="41904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69480" y="1222200"/>
              <a:ext cx="2376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62840" y="1082520"/>
              <a:ext cx="2952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08960" y="1441440"/>
              <a:ext cx="17676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6960" y="1414440"/>
              <a:ext cx="71640" cy="8568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4720" y="1168560"/>
              <a:ext cx="536400" cy="49212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32120" y="939960"/>
              <a:ext cx="191880" cy="30312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7360" y="1230480"/>
              <a:ext cx="163800" cy="1728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23120" y="936720"/>
              <a:ext cx="12312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0960" y="954000"/>
              <a:ext cx="187560" cy="28908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42360" y="1407960"/>
              <a:ext cx="2376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0440" y="977760"/>
              <a:ext cx="844560" cy="45720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07120" y="1117440"/>
              <a:ext cx="12348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65240" y="1144440"/>
              <a:ext cx="890640" cy="48132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92080" y="949320"/>
              <a:ext cx="647280" cy="41436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90320" y="782640"/>
              <a:ext cx="143640" cy="24624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4080" y="830160"/>
              <a:ext cx="7704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10120" y="824040"/>
              <a:ext cx="42480" cy="1537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6360" y="817560"/>
              <a:ext cx="38160" cy="19044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77320" y="909720"/>
              <a:ext cx="622800" cy="37152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6120" y="888840"/>
              <a:ext cx="123120" cy="10980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3120" y="711360"/>
              <a:ext cx="464400" cy="31752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26080" y="1150920"/>
              <a:ext cx="3114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12840" y="820800"/>
              <a:ext cx="77040" cy="205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65240" y="800280"/>
              <a:ext cx="8136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02960" y="933480"/>
              <a:ext cx="8100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19480" y="1174680"/>
              <a:ext cx="1105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31840" y="909720"/>
              <a:ext cx="8100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84840" y="851040"/>
              <a:ext cx="81000" cy="205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65240" y="865080"/>
              <a:ext cx="8136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64080" y="998640"/>
              <a:ext cx="8640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64080" y="1073160"/>
              <a:ext cx="77040" cy="172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15320" y="885960"/>
              <a:ext cx="58680" cy="11268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72480" y="836640"/>
              <a:ext cx="230400" cy="30492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9960" y="1185840"/>
              <a:ext cx="1195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40320" y="1014480"/>
              <a:ext cx="808920" cy="42048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67360" y="1014480"/>
              <a:ext cx="95760" cy="172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68320" y="865080"/>
              <a:ext cx="628560" cy="33048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46600" y="1168560"/>
              <a:ext cx="123120" cy="712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79720" y="1168560"/>
              <a:ext cx="182160" cy="982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10440" y="905040"/>
              <a:ext cx="575280" cy="30132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06840" y="946080"/>
              <a:ext cx="569880" cy="34128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857160"/>
              <a:ext cx="575280" cy="29376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36960" y="1434960"/>
              <a:ext cx="248760" cy="7488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7960" y="1432080"/>
              <a:ext cx="2376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66480" y="1424160"/>
              <a:ext cx="9936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24880" y="817560"/>
              <a:ext cx="81000" cy="1602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01120" y="776160"/>
              <a:ext cx="138240" cy="25272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34200" y="973080"/>
              <a:ext cx="815040" cy="39996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82440" y="1055520"/>
              <a:ext cx="748440" cy="4334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62840" y="880920"/>
              <a:ext cx="96120" cy="21276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68240" y="785880"/>
              <a:ext cx="254520" cy="619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1600" y="895320"/>
              <a:ext cx="536400" cy="2761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40320" y="933480"/>
              <a:ext cx="518040" cy="2970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61960" y="704880"/>
              <a:ext cx="365040" cy="8712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32720" y="1038240"/>
              <a:ext cx="10116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39360" y="741240"/>
              <a:ext cx="311400" cy="8568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69480" y="1271520"/>
              <a:ext cx="204840" cy="540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200" y="1090440"/>
              <a:ext cx="964800" cy="46044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2960" y="1308240"/>
              <a:ext cx="306000" cy="9180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61960" y="1185840"/>
              <a:ext cx="14904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99000" y="998640"/>
              <a:ext cx="71640" cy="21420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3880" y="1203480"/>
              <a:ext cx="7164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73720" y="833400"/>
              <a:ext cx="163800" cy="3816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7960" y="765000"/>
              <a:ext cx="8100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0960" y="738360"/>
              <a:ext cx="8100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24960" y="728640"/>
              <a:ext cx="8100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0200" y="744480"/>
              <a:ext cx="7776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97480" y="1257480"/>
              <a:ext cx="104760" cy="24588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7080" y="1536840"/>
              <a:ext cx="269280" cy="4752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7360" y="1260360"/>
              <a:ext cx="44280" cy="1238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77000" y="1195560"/>
              <a:ext cx="488160" cy="42372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96880" y="1465200"/>
              <a:ext cx="2196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79720" y="1182600"/>
              <a:ext cx="3276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9720" y="1523880"/>
              <a:ext cx="16740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6120" y="1521000"/>
              <a:ext cx="171360" cy="1458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30880" y="1560600"/>
              <a:ext cx="2772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0200" y="1697040"/>
              <a:ext cx="715320" cy="12708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65240" y="1649520"/>
              <a:ext cx="857520" cy="5868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V="1">
            <a:off x="5638680" y="1828440"/>
            <a:ext cx="1067040" cy="10666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1828800"/>
            <a:ext cx="0" cy="3581280"/>
          </a:xfrm>
          <a:prstGeom prst="line">
            <a:avLst/>
          </a:prstGeom>
          <a:ln w="127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41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838080"/>
            <a:ext cx="4114800" cy="0"/>
          </a:xfrm>
          <a:prstGeom prst="line">
            <a:avLst/>
          </a:prstGeom>
          <a:ln w="127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939960"/>
            <a:ext cx="635040" cy="4546440"/>
          </a:xfrm>
          <a:custGeom>
            <a:avLst/>
            <a:gdLst/>
            <a:ahLst/>
            <a:rect l="l" t="t" r="r" b="b"/>
            <a:pathLst>
              <a:path w="400" h="2864">
                <a:moveTo>
                  <a:pt x="16" y="2864"/>
                </a:moveTo>
                <a:lnTo>
                  <a:pt x="0" y="80"/>
                </a:lnTo>
                <a:lnTo>
                  <a:pt x="0" y="80"/>
                </a:lnTo>
                <a:lnTo>
                  <a:pt x="400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672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81280" y="3047760"/>
            <a:ext cx="0" cy="68580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19320" y="1905120"/>
            <a:ext cx="38088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74320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43828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 rot="10800000">
            <a:off x="228240" y="182808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8660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1676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5228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مساكن الحضر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ولا سيتي – جدول الاستخدام الماد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33520" y="1709640"/>
            <a:ext cx="83055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ولا سيتي – جدول العرض الماد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52280" y="1978200"/>
            <a:ext cx="8686800" cy="3660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590920" y="5943600"/>
            <a:ext cx="2666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فقاً للأمم المتحدة كل الخسائر تعود إلى المياه السطحية. وتتضمن خسائر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9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(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+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4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+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4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+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1" lang="ar-LB" sz="1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عائد المباش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457200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ولا سيتي- جدول الاستخدام والعرض الماد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91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او تاون</a:t>
            </a:r>
            <a:br>
              <a:rPr sz="4000"/>
            </a:br>
            <a:r>
              <a:rPr b="0" lang="ar-L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تقع فوق مجرى كولا سيتي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دينة ذات مصدرَين للمياه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نهر صودا (المياه السطحية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مياه الجوفي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-29484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قتصادها يعتمد على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زراعة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صناعة الغذائية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0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كهرباء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5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تجميع ومعالجة وعرض المياه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6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صرف الصحي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7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نقل (الأيزيك 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49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ar-LB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- المساكن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 rot="15228000">
            <a:off x="-1769040" y="3368880"/>
            <a:ext cx="9829800" cy="156672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4190400">
            <a:off x="2010960" y="3854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ccecff"/>
                </a:solidFill>
                <a:latin typeface="Arial"/>
                <a:cs typeface="Arial"/>
              </a:rPr>
              <a:t>نهر صود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590920" y="609480"/>
            <a:ext cx="304776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620120" y="1600200"/>
            <a:ext cx="539640" cy="612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077320" y="1600200"/>
            <a:ext cx="129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نقل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24680" y="4724280"/>
            <a:ext cx="121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زراعة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86600" y="2286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إنتاج الطاقة الكهربائ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43400" y="617220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معالجة مياه الصرف الصحي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914400" y="5486040"/>
            <a:ext cx="0" cy="76212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4800600"/>
            <a:ext cx="137160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728960" y="5162760"/>
            <a:ext cx="1057320" cy="1029600"/>
            <a:chOff x="4728960" y="5162760"/>
            <a:chExt cx="1057320" cy="1029600"/>
          </a:xfrm>
        </p:grpSpPr>
        <p:sp>
          <p:nvSpPr>
            <p:cNvPr id="361" name=""/>
            <p:cNvSpPr/>
            <p:nvPr/>
          </p:nvSpPr>
          <p:spPr>
            <a:xfrm>
              <a:off x="4979160" y="5162760"/>
              <a:ext cx="509040" cy="80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30920" y="5232240"/>
              <a:ext cx="600480" cy="4536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34800" y="5580000"/>
              <a:ext cx="815040" cy="44244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09600" y="5590440"/>
              <a:ext cx="726480" cy="36648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84760" y="5510520"/>
              <a:ext cx="686160" cy="39420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23040" y="5322960"/>
              <a:ext cx="310320" cy="2916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26560" y="5357880"/>
              <a:ext cx="184680" cy="25668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03200" y="5622840"/>
              <a:ext cx="746640" cy="42912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00920" y="5660280"/>
              <a:ext cx="564840" cy="39420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44360" y="5455440"/>
              <a:ext cx="156600" cy="24732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79640" y="5502240"/>
              <a:ext cx="69840" cy="8568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45120" y="5870160"/>
              <a:ext cx="189360" cy="6696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5120" y="5870160"/>
              <a:ext cx="196920" cy="6912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76760" y="5507640"/>
              <a:ext cx="32400" cy="8244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41560" y="5272560"/>
              <a:ext cx="802440" cy="35280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2080" y="5685480"/>
              <a:ext cx="19800" cy="14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8200" y="5567760"/>
              <a:ext cx="24840" cy="93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00120" y="5870160"/>
              <a:ext cx="148680" cy="5472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39640" y="5847480"/>
              <a:ext cx="60480" cy="7200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80760" y="5640120"/>
              <a:ext cx="451440" cy="41436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25000" y="5447880"/>
              <a:ext cx="161280" cy="25524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12400" y="5692320"/>
              <a:ext cx="137880" cy="1440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17080" y="5445000"/>
              <a:ext cx="103680" cy="2268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39680" y="5459400"/>
              <a:ext cx="158040" cy="243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44320" y="5842080"/>
              <a:ext cx="19800" cy="201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64600" y="5479560"/>
              <a:ext cx="711000" cy="38484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35280" y="5597280"/>
              <a:ext cx="104040" cy="2268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94920" y="5619960"/>
              <a:ext cx="749880" cy="40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49120" y="5455440"/>
              <a:ext cx="545040" cy="3488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68520" y="5315040"/>
              <a:ext cx="120960" cy="20736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8680" y="5355360"/>
              <a:ext cx="64800" cy="345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5440" y="5349960"/>
              <a:ext cx="35640" cy="1292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65280" y="5344560"/>
              <a:ext cx="32040" cy="16020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36880" y="5422320"/>
              <a:ext cx="524520" cy="31284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67240" y="5404680"/>
              <a:ext cx="103680" cy="9216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38360" y="5255280"/>
              <a:ext cx="390960" cy="26712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46400" y="5625360"/>
              <a:ext cx="262080" cy="10692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19120" y="5347440"/>
              <a:ext cx="64800" cy="1728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94920" y="5330160"/>
              <a:ext cx="68400" cy="14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42360" y="5442120"/>
              <a:ext cx="68040" cy="133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93360" y="5645520"/>
              <a:ext cx="93240" cy="81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51080" y="5422320"/>
              <a:ext cx="68040" cy="133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79960" y="5372640"/>
              <a:ext cx="6804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94920" y="5384520"/>
              <a:ext cx="6840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09600" y="5497200"/>
              <a:ext cx="72720" cy="158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9600" y="5559840"/>
              <a:ext cx="64800" cy="144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57880" y="5402160"/>
              <a:ext cx="49320" cy="9468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880" y="5360760"/>
              <a:ext cx="193680" cy="25668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92560" y="5654880"/>
              <a:ext cx="100440" cy="6804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9800" y="5510520"/>
              <a:ext cx="681120" cy="35388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33680" y="5510520"/>
              <a:ext cx="80280" cy="1440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28960" y="5384520"/>
              <a:ext cx="529200" cy="27828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63680" y="5640120"/>
              <a:ext cx="103680" cy="5976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91400" y="5640120"/>
              <a:ext cx="153360" cy="824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64600" y="5418360"/>
              <a:ext cx="484200" cy="25380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61360" y="5452920"/>
              <a:ext cx="479880" cy="28728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4600" y="5378040"/>
              <a:ext cx="484200" cy="24732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39640" y="5864760"/>
              <a:ext cx="20916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32080" y="5862240"/>
              <a:ext cx="19800" cy="651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4480" y="5855760"/>
              <a:ext cx="83520" cy="6912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97680" y="5344560"/>
              <a:ext cx="68040" cy="13464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77520" y="5309640"/>
              <a:ext cx="116280" cy="21276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84760" y="5475600"/>
              <a:ext cx="686160" cy="33660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25080" y="5545080"/>
              <a:ext cx="630000" cy="365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98200" y="5397840"/>
              <a:ext cx="80640" cy="1789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02520" y="5317920"/>
              <a:ext cx="214200" cy="5184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74320" y="5410080"/>
              <a:ext cx="451440" cy="23256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89800" y="5442120"/>
              <a:ext cx="435960" cy="24984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29000" y="5249520"/>
              <a:ext cx="307080" cy="730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20280" y="5530680"/>
              <a:ext cx="84960" cy="975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94160" y="5280480"/>
              <a:ext cx="262080" cy="7200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14280" y="5726880"/>
              <a:ext cx="172440" cy="4536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45240" y="5574600"/>
              <a:ext cx="812160" cy="38772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42360" y="5757840"/>
              <a:ext cx="257400" cy="7704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29000" y="5654880"/>
              <a:ext cx="125640" cy="16956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96920" y="5497200"/>
              <a:ext cx="60480" cy="18036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05600" y="5669640"/>
              <a:ext cx="60480" cy="424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91440" y="5357880"/>
              <a:ext cx="137880" cy="320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32080" y="5300280"/>
              <a:ext cx="68040" cy="172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60960" y="5277960"/>
              <a:ext cx="68040" cy="14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81920" y="5269680"/>
              <a:ext cx="68040" cy="158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66560" y="5283000"/>
              <a:ext cx="65160" cy="147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11600" y="5715360"/>
              <a:ext cx="88200" cy="2070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38480" y="5950440"/>
              <a:ext cx="226440" cy="39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12400" y="5717520"/>
              <a:ext cx="37080" cy="1040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57720" y="5663160"/>
              <a:ext cx="411120" cy="3567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58160" y="5890320"/>
              <a:ext cx="18360" cy="172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91400" y="5652000"/>
              <a:ext cx="27720" cy="172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70120" y="5939640"/>
              <a:ext cx="141120" cy="11736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67240" y="5937120"/>
              <a:ext cx="144360" cy="1227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55440" y="5970600"/>
              <a:ext cx="23400" cy="172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66560" y="6085440"/>
              <a:ext cx="602280" cy="10692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94920" y="6045480"/>
              <a:ext cx="721800" cy="4932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flipH="1">
            <a:off x="5638320" y="5943600"/>
            <a:ext cx="175284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4480" y="1905120"/>
            <a:ext cx="0" cy="30456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3657600"/>
            <a:ext cx="76212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5562720"/>
            <a:ext cx="167616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43600" y="220968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90720" y="3733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4080" y="3124080"/>
            <a:ext cx="1067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مساكن في كاو تاون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581280" y="3505320"/>
            <a:ext cx="1251000" cy="1218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 flipV="1">
            <a:off x="457200" y="1142640"/>
            <a:ext cx="0" cy="1143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14600" y="304920"/>
            <a:ext cx="3276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90920" y="1523880"/>
            <a:ext cx="1143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57800" y="4343400"/>
            <a:ext cx="0" cy="83808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666880" y="2057400"/>
            <a:ext cx="106704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3200400"/>
            <a:ext cx="685800" cy="53352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638680" y="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0" y="380880"/>
            <a:ext cx="1219320" cy="8334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/>
          <a:stretch/>
        </p:blipFill>
        <p:spPr>
          <a:xfrm>
            <a:off x="0" y="4267080"/>
            <a:ext cx="1467000" cy="11829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7391520" y="5029200"/>
            <a:ext cx="1171440" cy="11365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0" y="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الصناعة الغذائي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62720" y="1905120"/>
            <a:ext cx="1752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09120" y="609480"/>
            <a:ext cx="1143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3200400"/>
            <a:ext cx="0" cy="10666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066680"/>
            <a:ext cx="114300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1676520"/>
            <a:ext cx="68580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505320" y="2819520"/>
            <a:ext cx="914400" cy="0"/>
          </a:xfrm>
          <a:prstGeom prst="line">
            <a:avLst/>
          </a:prstGeom>
          <a:ln w="6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04920" y="6172200"/>
            <a:ext cx="1295280" cy="685800"/>
            <a:chOff x="304920" y="6172200"/>
            <a:chExt cx="1295280" cy="685800"/>
          </a:xfrm>
        </p:grpSpPr>
        <p:sp>
          <p:nvSpPr>
            <p:cNvPr id="480" name=""/>
            <p:cNvSpPr/>
            <p:nvPr/>
          </p:nvSpPr>
          <p:spPr>
            <a:xfrm>
              <a:off x="304920" y="6172200"/>
              <a:ext cx="129528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 rot="10800000">
              <a:off x="380880" y="6400080"/>
              <a:ext cx="1067040" cy="261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ccecff"/>
                  </a:solidFill>
                  <a:latin typeface="Arial"/>
                  <a:cs typeface="Arial"/>
                </a:rPr>
                <a:t>المياه الجوفي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447920" y="518148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 الزراعة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5715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15228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2280" y="32767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1905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13716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800240" y="403848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19720" y="2286000"/>
            <a:ext cx="0" cy="12193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17524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17524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54100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2438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14800" y="29718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48520" y="57913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28800" y="4191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791320" y="3733920"/>
            <a:ext cx="1295280" cy="685800"/>
            <a:chOff x="5791320" y="3733920"/>
            <a:chExt cx="1295280" cy="685800"/>
          </a:xfrm>
        </p:grpSpPr>
        <p:sp>
          <p:nvSpPr>
            <p:cNvPr id="499" name=""/>
            <p:cNvSpPr/>
            <p:nvPr/>
          </p:nvSpPr>
          <p:spPr>
            <a:xfrm>
              <a:off x="5791320" y="3733920"/>
              <a:ext cx="129528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 rot="10800000">
              <a:off x="5943240" y="3961800"/>
              <a:ext cx="1066680" cy="261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100" spc="-1" strike="noStrike">
                  <a:solidFill>
                    <a:srgbClr val="ccecff"/>
                  </a:solidFill>
                  <a:latin typeface="Arial"/>
                  <a:cs typeface="Arial"/>
                </a:rPr>
                <a:t>المياه الجوفي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V="1">
            <a:off x="8001000" y="6095880"/>
            <a:ext cx="0" cy="5335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6629400"/>
            <a:ext cx="38098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657396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295280" y="1523880"/>
            <a:ext cx="53352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46483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52480" y="46483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5335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1295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14400" y="4572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9144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19320" y="18288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38098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32767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95480" y="190512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657600" y="1371600"/>
            <a:ext cx="1904760" cy="914400"/>
            <a:chOff x="3657600" y="1371600"/>
            <a:chExt cx="1904760" cy="914400"/>
          </a:xfrm>
        </p:grpSpPr>
        <p:sp>
          <p:nvSpPr>
            <p:cNvPr id="516" name=""/>
            <p:cNvSpPr/>
            <p:nvPr/>
          </p:nvSpPr>
          <p:spPr>
            <a:xfrm>
              <a:off x="3657600" y="1371600"/>
              <a:ext cx="190476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تجميع ومعالجة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وعرض المياه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7"/>
            <a:stretch/>
          </p:blipFill>
          <p:spPr>
            <a:xfrm>
              <a:off x="4899600" y="1371600"/>
              <a:ext cx="63324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"/>
          <p:cNvGrpSpPr/>
          <p:nvPr/>
        </p:nvGrpSpPr>
        <p:grpSpPr>
          <a:xfrm>
            <a:off x="0" y="2286000"/>
            <a:ext cx="2057040" cy="914400"/>
            <a:chOff x="0" y="2286000"/>
            <a:chExt cx="2057040" cy="914400"/>
          </a:xfrm>
        </p:grpSpPr>
        <p:sp>
          <p:nvSpPr>
            <p:cNvPr id="519" name=""/>
            <p:cNvSpPr/>
            <p:nvPr/>
          </p:nvSpPr>
          <p:spPr>
            <a:xfrm>
              <a:off x="0" y="2286000"/>
              <a:ext cx="205704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تجميع ومعالجة وعرض المياه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8"/>
            <a:stretch/>
          </p:blipFill>
          <p:spPr>
            <a:xfrm>
              <a:off x="1341360" y="2286000"/>
              <a:ext cx="684000" cy="87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"/>
          <p:cNvSpPr/>
          <p:nvPr/>
        </p:nvSpPr>
        <p:spPr>
          <a:xfrm>
            <a:off x="7848720" y="2209680"/>
            <a:ext cx="0" cy="2514600"/>
          </a:xfrm>
          <a:prstGeom prst="line">
            <a:avLst/>
          </a:prstGeom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562720" y="4724280"/>
            <a:ext cx="2286000" cy="53352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38862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733560" y="5562720"/>
            <a:ext cx="1066680" cy="0"/>
          </a:xfrm>
          <a:prstGeom prst="line">
            <a:avLst/>
          </a:prstGeom>
          <a:ln w="64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541008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4648320" y="761760"/>
            <a:ext cx="1066680" cy="6094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76920" y="9144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4343400"/>
            <a:ext cx="457200" cy="0"/>
          </a:xfrm>
          <a:prstGeom prst="line">
            <a:avLst/>
          </a:prstGeom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20120" y="28195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90720" y="1447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95480" y="259092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100" spc="-1" strike="noStrike">
                <a:solidFill>
                  <a:srgbClr val="000000"/>
                </a:solidFill>
                <a:latin typeface="Arial"/>
                <a:cs typeface="Arial"/>
              </a:rPr>
              <a:t>خسائر </a:t>
            </a:r>
            <a:r>
              <a:rPr b="0" lang="ar-LB" sz="11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16:06:15Z</dcterms:created>
  <dc:creator>CMS.Installer</dc:creator>
  <dc:description/>
  <dc:language>en-US</dc:language>
  <cp:lastModifiedBy> </cp:lastModifiedBy>
  <dcterms:modified xsi:type="dcterms:W3CDTF">2008-08-04T06:24:06Z</dcterms:modified>
  <cp:revision>253</cp:revision>
  <dc:subject/>
  <dc:title>Slide 1</dc:title>
</cp:coreProperties>
</file>