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5A663-026D-40D3-B140-1B2186AF6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AA4F-0E7E-4094-9931-F71BB70C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B2EBE-9F0A-4BDD-9560-E256DC8BD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01FE7-20A2-4727-9C62-4B11356B6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9517B-859D-4310-9DBA-31F3CE773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401AD-B556-491E-AC94-B89A7E3E5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FBB2A-7BEC-4D0A-9900-A577EC834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430AC-E75E-45CF-9147-ABD813F66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320CC-8F77-4BCB-B1F6-23678B00C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3836-9D0C-4EEE-B6EE-5B178F2DA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A86D7-8A69-4608-B23A-AB8A5D35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CE83-0109-49C8-80E8-D7833BD65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FA4EE-14C6-4FF4-9221-29531C17F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C975-7195-4B9F-A5B2-4342E667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7904-82D9-4DEA-B295-4DBB454C4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2A73A-1BC6-412A-BD90-E465967B2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16BB4-16C4-4CC5-B8D7-02CE378FD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C3EA-2797-4757-8A9D-49C28B60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DC32D-3153-4A38-9319-07283D44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F162-B1ED-43C4-865C-13CEDD67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B20CD-D37D-4ADC-BD67-87B1A92C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8DA7-5832-4ACE-BCB1-94AD8CDF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748C-9167-4FB0-BABA-A02CCE80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E9D2A-3C2A-43FF-8D03-AAC4C2F3C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E44D-87D1-45C5-B89C-A8BCEDB243E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16F0-BBDC-44BC-83F4-C1CD17DD013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4100" spc="-1" strike="noStrike">
                <a:solidFill>
                  <a:srgbClr val="336666"/>
                </a:solidFill>
                <a:latin typeface="Arial Black"/>
              </a:rPr>
              <a:t> </a:t>
            </a:r>
            <a:r>
              <a:rPr b="0" lang="ar-JO" sz="4100" spc="-1" strike="noStrike">
                <a:solidFill>
                  <a:srgbClr val="336666"/>
                </a:solidFill>
                <a:latin typeface="Arial Black"/>
              </a:rPr>
              <a:t>دائرة الاحوال المدنية والجوازات</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258920" y="3645000"/>
            <a:ext cx="6400800" cy="175248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300" spc="-1" strike="noStrike">
                <a:solidFill>
                  <a:srgbClr val="000000"/>
                </a:solidFill>
                <a:latin typeface="Arial"/>
              </a:rPr>
              <a:t>نظام التسجيل المدني</a:t>
            </a:r>
            <a:r>
              <a:rPr b="1" lang="ar-AE" sz="3300" spc="-1" strike="noStrike">
                <a:solidFill>
                  <a:srgbClr val="000000"/>
                </a:solidFill>
                <a:latin typeface="Arial"/>
              </a:rPr>
              <a:t> </a:t>
            </a:r>
            <a:endParaRPr b="0" lang="en-US" sz="3300" spc="-1" strike="noStrike">
              <a:solidFill>
                <a:srgbClr val="000000"/>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300" spc="-1" strike="noStrike">
                <a:solidFill>
                  <a:srgbClr val="000000"/>
                </a:solidFill>
                <a:latin typeface="Arial"/>
              </a:rPr>
              <a:t>في</a:t>
            </a:r>
            <a:r>
              <a:rPr b="1" lang="ar-AE" sz="3300" spc="-1" strike="noStrike">
                <a:solidFill>
                  <a:srgbClr val="000000"/>
                </a:solidFill>
                <a:latin typeface="Arial"/>
              </a:rPr>
              <a:t> </a:t>
            </a:r>
            <a:endParaRPr b="0" lang="en-US" sz="3300" spc="-1" strike="noStrike">
              <a:solidFill>
                <a:srgbClr val="000000"/>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300" spc="-1" strike="noStrike">
                <a:solidFill>
                  <a:srgbClr val="000000"/>
                </a:solidFill>
                <a:latin typeface="Arial"/>
              </a:rPr>
              <a:t>المملكة الاردنية الهاشمية</a:t>
            </a:r>
            <a:endParaRPr b="0" lang="en-US" sz="3300" spc="-1" strike="noStrike">
              <a:solidFill>
                <a:srgbClr val="000000"/>
              </a:solidFill>
              <a:latin typeface="Arial"/>
            </a:endParaRPr>
          </a:p>
        </p:txBody>
      </p:sp>
      <p:pic>
        <p:nvPicPr>
          <p:cNvPr id="90" name="" descr=""/>
          <p:cNvPicPr/>
          <p:nvPr/>
        </p:nvPicPr>
        <p:blipFill>
          <a:blip r:embed="rId1"/>
          <a:stretch/>
        </p:blipFill>
        <p:spPr>
          <a:xfrm>
            <a:off x="3995640" y="692280"/>
            <a:ext cx="1198800" cy="133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3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3300" spc="-1" strike="noStrike" u="sng">
                <a:solidFill>
                  <a:srgbClr val="336666"/>
                </a:solidFill>
                <a:uFillTx/>
                <a:latin typeface="Arial Black"/>
              </a:rPr>
              <a:t>خدمات الدائرة:</a:t>
            </a:r>
            <a:endParaRPr b="0" lang="en-US" sz="3300" spc="-1" strike="noStrike">
              <a:solidFill>
                <a:srgbClr val="336666"/>
              </a:solidFill>
              <a:latin typeface="Arial Black"/>
            </a:endParaRPr>
          </a:p>
        </p:txBody>
      </p:sp>
      <p:sp>
        <p:nvSpPr>
          <p:cNvPr id="107" name="PlaceHolder 2"/>
          <p:cNvSpPr>
            <a:spLocks noGrp="1"/>
          </p:cNvSpPr>
          <p:nvPr>
            <p:ph/>
          </p:nvPr>
        </p:nvSpPr>
        <p:spPr>
          <a:xfrm>
            <a:off x="395280" y="1889280"/>
            <a:ext cx="8424720" cy="4968720"/>
          </a:xfrm>
          <a:prstGeom prst="rect">
            <a:avLst/>
          </a:prstGeom>
          <a:noFill/>
          <a:ln w="0">
            <a:noFill/>
          </a:ln>
        </p:spPr>
        <p:txBody>
          <a:bodyPr lIns="90000" rIns="90000" tIns="46800" bIns="46800" anchor="t">
            <a:normAutofit/>
          </a:bodyPr>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الرقم الوطني.</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واقعات الحيوية للمواطنين( ولادة، وفاة، زواج، طلاق) واصدار الشهادات الخاصة بكل منها.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واقعات الحيوية للأجانب التي تحدث على أرض المملكة ( ولادة، وفاة، زواج، طلاق ) واصدار الشهادات الخاصة بكل منها.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قرارات  قيد الولادة والوفاة واصدار الشهادات الخاصة بكل منها.</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صرف الشهادات لواقعات حيوية مسجلة سابقاً.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شهادات الولادة /الوفاة / الزواج باللغة الانجليزية.</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صورة القيد العائلي /وصورة القيد الفردي.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اسر الاردنية بالسجل المدني (اول مرة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اسر الاردنية بالسجل المدني وذلك بالفصل عن قيود مدنية.</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دفاتر عائلة  اول مرة / تجديد / بدل تالف / بدل فاقد.</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البطاقة الشخصية  اول مرة / تجديد / بدل تالف/بدل فاقد.</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لتصحيح / الاضافة على دفتر العائلة. </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نقل القيد المدني وتغيير مكان الاقامة.</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جواز السفر العادي لاول مرة/تجديد/بدل تالف/بدل فاقد.</a:t>
            </a:r>
            <a:endParaRPr b="0" lang="en-US" sz="1800" spc="-1" strike="noStrike">
              <a:solidFill>
                <a:srgbClr val="000000"/>
              </a:solidFill>
              <a:latin typeface="Arial"/>
            </a:endParaRPr>
          </a:p>
          <a:p>
            <a:pPr marL="590400" indent="-59040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جوازات السفر المؤقتة  للفلسطينيين من أبناء الضفة الغرب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2120" y="1699920"/>
            <a:ext cx="7696080" cy="460836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جوازات السفر المؤقتة لابناء قطاع غزة المقيمين على أرض المملك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بطاقات الاقامة المؤقتة لابناء قطاع غزه المقيمين على أرض المملك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جوازات السفر المؤقتة بقرار من رئيس الوزراء.</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جوازات السفر للمستثمرين.</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لإضافة/ التمديد على جواز السفر.</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قانونيه جنسيه طالب وثيقة السفر الاضطراري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شهادات الجنسيه الأردني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لتخلي عن الجنسيه الأردنية. </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ستعاده الجنسيه الأردني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تصديق صور الوثائق الصادرة عن الدائر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تسجيل الناخبين. </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عداد الجداول الانتخابية. </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تثبيت اسم الدائرة الانتخابية على البطاقة الشخصية.</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صدار القرارات بتصحيح اسم العائلة، واسم المولود غير الشرعي، واسم اللقيط.</a:t>
            </a:r>
            <a:endParaRPr b="0" lang="en-US" sz="2000" spc="-1" strike="noStrike">
              <a:solidFill>
                <a:srgbClr val="000000"/>
              </a:solidFill>
              <a:latin typeface="Arial"/>
            </a:endParaRPr>
          </a:p>
          <a:p>
            <a:pPr marL="308520" indent="-30852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اعداد الاحصائيات المختلفة المتعلقة بأعمال الدائرة وتزويد الجهات التي تطلبها.</a:t>
            </a:r>
            <a:endParaRPr b="0" lang="en-US" sz="2000" spc="-1" strike="noStrike">
              <a:solidFill>
                <a:srgbClr val="000000"/>
              </a:solidFill>
              <a:latin typeface="Arial"/>
            </a:endParaRPr>
          </a:p>
          <a:p>
            <a:pPr marL="308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300" spc="-1" strike="noStrike">
                <a:solidFill>
                  <a:srgbClr val="336666"/>
                </a:solidFill>
                <a:latin typeface="Arial Black"/>
              </a:rPr>
              <a:t>وتعمل الدائرة على تحقيق مايلي :</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8000"/>
          </a:bodyPr>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التسجيل المدني للاسر الاردنية وانشاء الرقم الوطني لكل مواطن اردني.</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الاحصاء الحيوي للواقعات الحيوية للمواطن الاردني اينما حدثت والواقعات الحيوية للاجنبي التي تحدث على ارض المملكة.</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توثيق الجنسية للأردنيين.</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تسهيل مرور الاردنيين عبر العالم.</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مساعدة المواطنين على ممارسة حقوقهم السياسية و نشر الديمقراطية.</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المحافظة على حقوق المواطنين و مكتسباتهم باصدار وثائق آمنه لهم تكفل تيسير شؤون حياتهم اليومية.</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تقديم خدمات الدائرة للمواطنين بأقل جهد و تكلفة و أقصر وقت.</a:t>
            </a:r>
            <a:endParaRPr b="0" lang="en-US" sz="2200" spc="-1" strike="noStrike">
              <a:solidFill>
                <a:srgbClr val="000000"/>
              </a:solidFill>
              <a:latin typeface="Arial"/>
            </a:endParaRPr>
          </a:p>
          <a:p>
            <a:pPr marL="519480" indent="-51948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انشاء وتطوير قاعدة بيانات شاملة ودقيقة تصلح للربط مع دوائر ومؤسسات الدولة وذلك من اجل اتمام مشروع الحكومة الالكترون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300" spc="-1" strike="noStrike">
                <a:solidFill>
                  <a:srgbClr val="336666"/>
                </a:solidFill>
                <a:latin typeface="Arial Black"/>
              </a:rPr>
              <a:t>الاعدادات التقنيه:</a:t>
            </a: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7697520" cy="4548240"/>
          </a:xfrm>
          <a:prstGeom prst="rect">
            <a:avLst/>
          </a:prstGeom>
          <a:noFill/>
          <a:ln w="0">
            <a:noFill/>
          </a:ln>
        </p:spPr>
        <p:txBody>
          <a:bodyPr lIns="90000" rIns="90000" tIns="46800" bIns="46800" anchor="t">
            <a:normAutofit fontScale="89000"/>
          </a:bodyPr>
          <a:p>
            <a:pPr marL="305280" indent="-3052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ترتبط جميع مكاتب الدائرة بشبكة حاسوبية بواسطة خطوط اتصال (</a:t>
            </a:r>
            <a:r>
              <a:rPr b="0" lang="en-US" sz="2000" spc="-1" strike="noStrike">
                <a:solidFill>
                  <a:srgbClr val="000000"/>
                </a:solidFill>
                <a:latin typeface="Arial"/>
              </a:rPr>
              <a:t>LEASEDLINE</a:t>
            </a:r>
            <a:r>
              <a:rPr b="0" lang="ar-AE" sz="2000" spc="-1" strike="noStrike">
                <a:solidFill>
                  <a:srgbClr val="000000"/>
                </a:solidFill>
                <a:latin typeface="Arial"/>
              </a:rPr>
              <a:t> ) مع اجهزة الحاسوب الرئيسية في مركز ادارة هذه الشبكة الموجود في عمان (ادارة الحاسب الالي ) ,وتتم عملية ادخال البيانات من خلال عدد من المستخدمين للشاشات الطرفية في الادارات والمديريات والمكاتب , حيث تتلقى الدائرة البيانات والتباليغ من خلال مكاتبها المنتشرة في المملكة او من خلال السفارات الاردنية ويتم ادخالها مباشرة الى الحاسب الالي ليتم معالجتها واصدار الوثائق بناء على ما تم تخزينه, ومع ذلك فلقد طورنا النظام الحاسوبي ليعمل بنظام </a:t>
            </a:r>
            <a:r>
              <a:rPr b="0" lang="en-US" sz="2000" spc="-1" strike="noStrike">
                <a:solidFill>
                  <a:srgbClr val="000000"/>
                </a:solidFill>
                <a:latin typeface="Arial"/>
              </a:rPr>
              <a:t>ORACLE 10 G</a:t>
            </a:r>
            <a:r>
              <a:rPr b="0" lang="en-US" sz="2000" spc="-1" strike="noStrike">
                <a:solidFill>
                  <a:srgbClr val="000000"/>
                </a:solidFill>
                <a:latin typeface="Arial"/>
              </a:rPr>
              <a:t> </a:t>
            </a:r>
            <a:r>
              <a:rPr b="0" lang="ar-AE" sz="2000" spc="-1" strike="noStrike">
                <a:solidFill>
                  <a:srgbClr val="000000"/>
                </a:solidFill>
                <a:latin typeface="Arial"/>
              </a:rPr>
              <a:t>ويستخدم اجهزة الكمبيوتر الشخصية بدلا من النظام الحالي الذي يعمل بالشاشات الطرفية </a:t>
            </a:r>
            <a:r>
              <a:rPr b="0" lang="en-US" sz="2000" spc="-1" strike="noStrike">
                <a:solidFill>
                  <a:srgbClr val="000000"/>
                </a:solidFill>
                <a:latin typeface="Arial"/>
              </a:rPr>
              <a:t>ORACLE 7</a:t>
            </a:r>
            <a:r>
              <a:rPr b="0" lang="en-US" sz="2000" spc="-1" strike="noStrike">
                <a:solidFill>
                  <a:srgbClr val="000000"/>
                </a:solidFill>
                <a:latin typeface="Arial"/>
              </a:rPr>
              <a:t> </a:t>
            </a:r>
            <a:r>
              <a:rPr b="0" lang="ar-AE" sz="2000" spc="-1" strike="noStrike">
                <a:solidFill>
                  <a:srgbClr val="000000"/>
                </a:solidFill>
                <a:latin typeface="Arial"/>
              </a:rPr>
              <a:t>. </a:t>
            </a:r>
            <a:endParaRPr b="0" lang="en-US" sz="2000" spc="-1" strike="noStrike">
              <a:solidFill>
                <a:srgbClr val="000000"/>
              </a:solidFill>
              <a:latin typeface="Arial"/>
            </a:endParaRPr>
          </a:p>
          <a:p>
            <a:pPr marL="305280" indent="-3052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كما اصبح لدى الدائرة القدرة على استخلاص الاحصاءات الحيوية من نظام الاحوال المدنية ووفق طلب المؤسسات والدوائر الاخرى , ولهذا الغرض قمنا بالتنسيق والتعاون مع صندوق الامم المتحدة للسكان ودربنا عددا من موظفينا على الاعمال الاحصائية وتطوير طرق دقيقة وسريعة  لاستخلاص البيانات والمؤشرات الاحصائية من الكم الهائل من المعلومات المخزنة لدى الدائرة والتي تم تجميعها طيلة السنوات الماضية .</a:t>
            </a:r>
            <a:endParaRPr b="0" lang="en-US" sz="2000" spc="-1" strike="noStrike">
              <a:solidFill>
                <a:srgbClr val="000000"/>
              </a:solidFill>
              <a:latin typeface="Arial"/>
            </a:endParaRPr>
          </a:p>
          <a:p>
            <a:pPr marL="305280" indent="-3052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كما يمكننا النظام من استخدام البيانات الخام سواء لغايات التخطيط او الامن او ....الخ من الطلبات , ولهذه الغاية طورنا نظاما خاصا بالدائرة اطلق عليه اسم (بوابة دائرة الاحوال المدنية والجوازات </a:t>
            </a:r>
            <a:r>
              <a:rPr b="0" lang="en-US" sz="2000" spc="-1" strike="noStrike">
                <a:solidFill>
                  <a:srgbClr val="000000"/>
                </a:solidFill>
                <a:latin typeface="Arial"/>
              </a:rPr>
              <a:t>CSPD PORTAL</a:t>
            </a:r>
            <a:r>
              <a:rPr b="0" lang="ar-AE" sz="2000" spc="-1" strike="noStrike">
                <a:solidFill>
                  <a:srgbClr val="000000"/>
                </a:solidFill>
                <a:latin typeface="Arial"/>
              </a:rPr>
              <a:t>) يمكن الدوائر من الحصول على البيانات وفق حاجتها وضمن المسموح لها وبشكل مباشر وآن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3300" spc="-1" strike="noStrike" u="sng">
                <a:solidFill>
                  <a:srgbClr val="336666"/>
                </a:solidFill>
                <a:uFillTx/>
                <a:latin typeface="Arial Black"/>
              </a:rPr>
              <a:t>الصعوبات والتحديات :</a:t>
            </a:r>
            <a:endParaRPr b="0" lang="en-US" sz="3300" spc="-1" strike="noStrike">
              <a:solidFill>
                <a:srgbClr val="336666"/>
              </a:solidFill>
              <a:latin typeface="Arial Black"/>
            </a:endParaRPr>
          </a:p>
        </p:txBody>
      </p:sp>
      <p:sp>
        <p:nvSpPr>
          <p:cNvPr id="114" name="PlaceHolder 2"/>
          <p:cNvSpPr>
            <a:spLocks noGrp="1"/>
          </p:cNvSpPr>
          <p:nvPr>
            <p:ph/>
          </p:nvPr>
        </p:nvSpPr>
        <p:spPr>
          <a:xfrm>
            <a:off x="394920" y="1700280"/>
            <a:ext cx="8280360" cy="4952880"/>
          </a:xfrm>
          <a:prstGeom prst="rect">
            <a:avLst/>
          </a:prstGeom>
          <a:noFill/>
          <a:ln w="0">
            <a:noFill/>
          </a:ln>
        </p:spPr>
        <p:txBody>
          <a:bodyPr lIns="90000" rIns="90000" tIns="46800" bIns="46800" anchor="t">
            <a:normAutofit fontScale="93000"/>
          </a:bodyPr>
          <a:p>
            <a:pPr marL="318960" indent="-318960" algn="just"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r>
              <a:rPr b="0" lang="ar-AE" sz="1600" spc="-1" strike="noStrike">
                <a:solidFill>
                  <a:srgbClr val="000000"/>
                </a:solidFill>
                <a:latin typeface="Arial"/>
              </a:rPr>
              <a:t>تسعى دائرة الأحوال المدنية والجوازات في المملكة الأردنية الهاشمية إلى تحقيق أهم أهداف وجودها والمتمثل بالتسجيل المدني وتسجيل الواقعات الحيوية سواء للمواطنين الأردنيين أو الأجانب المقيمين على ارض المملكة ومن لحظة حدوث الواقعة ومن المصادر التي تحدث في جهتها هذه الواقعات, وذلك بسبب أيمان الدائرة بأهمية الإحصاءات الحيوية واستخداماتها والمؤشرات التي يمكن التوصل إليها من خلالها والتي تقيس مدى تقدم وتطور المملكة في مختلف المجالات , وتأكيداً لدورها كمصدر رئيسي لهذه المعلومات والإحصائيات فقد نفذنا مشروع نشر وتعزيز استخدام الإحصاءات الحيوية بالتعاون مع صندوق الأمم المتحدة للسكان وبمشاركة كافة المعنيين من الجهات الرسمية والتطوعية وقد عقدت عدة ندوات وورش عمل لمناقشة آليات نشر وتعزيز استخدام الإحصاءات الحيوية والجداول التي تم إعدادها والمعيقات التي تواجه الدائرة لضمان جودة المعلومات والإحصائيات المتوفرة لديها واستخدامها من قبل العاملين في مجال التخطيط السكاني .</a:t>
            </a:r>
            <a:endParaRPr b="0" lang="en-US" sz="1600" spc="-1" strike="noStrike">
              <a:solidFill>
                <a:srgbClr val="000000"/>
              </a:solidFill>
              <a:latin typeface="Arial"/>
            </a:endParaRPr>
          </a:p>
          <a:p>
            <a:pPr marL="318960" indent="-318960" algn="just"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     ولقد تبين أن هناك عدة معيقات تقف حائلا دون اكتمال بيانات الدائرة للوصول الى احصاءات حيوية مثالية ومن اهمها :</a:t>
            </a:r>
            <a:endParaRPr b="0" lang="en-US" sz="1600" spc="-1" strike="noStrike">
              <a:solidFill>
                <a:srgbClr val="000000"/>
              </a:solidFill>
              <a:latin typeface="Arial"/>
            </a:endParaRPr>
          </a:p>
          <a:p>
            <a:pPr marL="318960" indent="-318960" algn="just"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عدم التبليغ عن بعض الواقعات اوالتأخر في التبليغ عنها  بالرغم من ارتفاع نسبة التبليغ بشكل عام وخاصة اذا تم مقارنته بمراحل سابقة من عمر الدائرة مما يؤشرالى تحسن في وعي المواطنيين بالاضافة الى ازدياد الحاجة الى الحصول على الوثائق والتي اصبحت تعتمد على الرقم الوطني والذي اساسه التبليغ عن الواقعة لغايات التسجيل المدني وتسجيل الواقعة , ونرى ان عدم اسباب عدم التبليغ عن واقعة الولادة مثلا - وهي نسبة ضئيلة -  تعود في مجملها اما الى ظروف اجتماعية (كوجود خلافات عائلية في الاسرة الواحدة )او اقتصادية (كالفقر والحاجة ) او بسب الجهل باهمية وضرورة التبليغ وتسجيل الواقعة او الاعتقاد ان الاخبار الذي يحصل عليه المواطن من الجهة المشرفة على الواقعة يغني عن التبليغ , او تشريعية (كفرض عقوبات مخففة للمتخلف عن التبليغ ) وقد يلعب العامل الجغرافي دورا في عدم التبليغ (كوجود مناطق نائية او بعيده عن مكتب الاحوال المدنية ) , اما واقعة الوفاة فان اهم اسباب عدم التبليغ بالاضافة الى ما ورد سابقا اعتماد شهادة الدفن الصادرة عن البلديات بدلا من شهادة الوفاة الصادرة عن الاحوال المدنية مما يؤدي الى الاعتقاد بعدم لزوم التبليغ , كذلك فان من الاسباب وجود مصلحة للمواطن بعدم التبليغ ( كالحصول على حصة المتوفى من التموين مثلا ) او انتفاء هذه المصلحة ( كعدم الحاجة الى الحصول على حصر ارث الذي يتطلب شهادة وفاة , او عدم التبليغ عن واقعة وفاة االطفل الذين يولد متوفيا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904760"/>
            <a:ext cx="7913520" cy="4763880"/>
          </a:xfrm>
          <a:prstGeom prst="rect">
            <a:avLst/>
          </a:prstGeom>
          <a:noFill/>
          <a:ln w="0">
            <a:noFill/>
          </a:ln>
        </p:spPr>
        <p:txBody>
          <a:bodyPr lIns="90000" rIns="90000" tIns="46800" bIns="46800" anchor="t">
            <a:normAutofit fontScale="95000"/>
          </a:bodyPr>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وفي حالة حدوث واقعة الوفاة لطفل قبل القيام بالتبليغ عن واقعة ولادته فإنه في هذه الحالة لا يتم التبليغ عن واقعة الولادة ولا واقعة الوفاة وذلك لانتفاء المصلحة في التبليغ في كلتا الحالتين.</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ومن الاسباب المؤدية الى التأخر في التبليغ عن الواقعات ان الدائرة تتلقي التبليغات من المواطن صاحب العلاقة وتعطيه الاولوية في التبليغ دون ان تقرن ذلك بضرورة تبليغ الجهة المشرفة على الواقعة ويؤدي ذلك ايضا الى حجب مصادر مهمة للحصول على المعلومات عن الدائرة.</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ومن المعيقات ايضا قيام البعض بترحيل نسبة من واقعات الولادة التي تحدث في بداية العام ( في شهر كانون ثاني) إلى شهر كانون أول من العام السابق.</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قد يسلك المواطن سلوكاً ملتوياً بحصوله على أكثر من تبليغ بهدف اكساب الطفل سنة دراسية وهذا يؤثر على مواليد شهر كانون أول من العام بترحيل نسبة من مواليد هذا الشهر للشهر الذي يسبقه ( شهر كانون ثاني) من العام السابق.</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كذلك هناك نسبة وهي قليلة حيث لا يتم التبليغ عن واقعات الولادة والوفاة وذلك لوجود خلافات أسرية أو لأسباب الجهل والفقر التي تعاني منها بعض الأسر.</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أما الجانب الاجرائي والقانوني والذي يتعلق بالدائرة فيتمثل بما يلي:</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إعتماد الدائرة في توثيق معلوماتها على المواطن صاحب العلاقة مما سيحصر مصادر معلومات الدائرة على المواطن فقط.</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رتب القانون المبلغين حسب تسلسل معين بحيث تكون مسؤولية التبليغ متدرجة حسب التسلسل الوارد في القانون، مما حرم هذه الفئات من المسؤولية المباشرة وأعفاها من دورها ضمنياً.</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عدم وجود قنوات اتصال بين الدائرة والمؤسسات الطبية وغيرها التي تشرف على هذه الواقعات مما أدى إلى عدم الرقابة على التباليغ المقدمة إلى الدائرة.</a:t>
            </a:r>
            <a:endParaRPr b="0" lang="en-US" sz="1600" spc="-1" strike="noStrike">
              <a:solidFill>
                <a:srgbClr val="000000"/>
              </a:solidFill>
              <a:latin typeface="Arial"/>
            </a:endParaRPr>
          </a:p>
          <a:p>
            <a:pPr marL="325800" indent="-325800" algn="r" rtl="1">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00000"/>
                </a:solidFill>
                <a:latin typeface="Arial"/>
              </a:rPr>
              <a:t>أما من الناحية الفنية فإنه لا يوجد برامج مساندة للبرامج الحاسوبية للدائرة حيث يتم التخزين الأولي لهذه الواقعات بعيداً عن برامج الدائرة المعتمدة ويتم التدقيق من خلالها.</a:t>
            </a:r>
            <a:endParaRPr b="0" lang="en-US" sz="1600" spc="-1" strike="noStrike">
              <a:solidFill>
                <a:srgbClr val="000000"/>
              </a:solidFill>
              <a:latin typeface="Arial"/>
            </a:endParaRPr>
          </a:p>
          <a:p>
            <a:pPr marL="3258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18864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400" spc="-1" strike="noStrike" u="sng">
                <a:solidFill>
                  <a:srgbClr val="336666"/>
                </a:solidFill>
                <a:uFillTx/>
                <a:latin typeface="Arial Black"/>
              </a:rPr>
              <a:t>مقدمة:</a:t>
            </a:r>
            <a:endParaRPr b="0" lang="en-US" sz="5400" spc="-1" strike="noStrike">
              <a:solidFill>
                <a:srgbClr val="336666"/>
              </a:solidFill>
              <a:latin typeface="Arial Black"/>
            </a:endParaRPr>
          </a:p>
        </p:txBody>
      </p:sp>
      <p:sp>
        <p:nvSpPr>
          <p:cNvPr id="92" name="PlaceHolder 2"/>
          <p:cNvSpPr>
            <a:spLocks noGrp="1"/>
          </p:cNvSpPr>
          <p:nvPr>
            <p:ph/>
          </p:nvPr>
        </p:nvSpPr>
        <p:spPr>
          <a:xfrm>
            <a:off x="684360" y="1700280"/>
            <a:ext cx="7697520" cy="4967280"/>
          </a:xfrm>
          <a:prstGeom prst="rect">
            <a:avLst/>
          </a:prstGeom>
          <a:noFill/>
          <a:ln w="0">
            <a:noFill/>
          </a:ln>
        </p:spPr>
        <p:txBody>
          <a:bodyPr lIns="90000" rIns="90000" tIns="46800" bIns="46800" anchor="t">
            <a:normAutofit fontScale="92000"/>
          </a:bodyPr>
          <a:p>
            <a:pPr marL="315360" indent="-315360" algn="just"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كانت عملية التسجيل المدني والاحصاء الحيوي في الاردن مبعثرة بين عدة جهات وكانت هذه العملية عند تأسيس الدولة عام </a:t>
            </a:r>
            <a:r>
              <a:rPr b="0" lang="ar-AE" sz="1800" spc="-1" strike="noStrike">
                <a:solidFill>
                  <a:srgbClr val="000000"/>
                </a:solidFill>
                <a:latin typeface="Arial"/>
              </a:rPr>
              <a:t>1921</a:t>
            </a:r>
            <a:r>
              <a:rPr b="0" lang="ar-AE" sz="1800" spc="-1" strike="noStrike">
                <a:solidFill>
                  <a:srgbClr val="000000"/>
                </a:solidFill>
                <a:latin typeface="Arial"/>
              </a:rPr>
              <a:t> من مسؤولية دائرة النفوس العثماني , استنادا الى قانون النفوس العثماني الصادر بتاريخ </a:t>
            </a:r>
            <a:r>
              <a:rPr b="0" lang="ar-AE" sz="1800" spc="-1" strike="noStrike">
                <a:solidFill>
                  <a:srgbClr val="000000"/>
                </a:solidFill>
                <a:latin typeface="Arial"/>
              </a:rPr>
              <a:t>13</a:t>
            </a:r>
            <a:r>
              <a:rPr b="0" lang="ar-AE" sz="1800" spc="-1" strike="noStrike">
                <a:solidFill>
                  <a:srgbClr val="000000"/>
                </a:solidFill>
                <a:latin typeface="Arial"/>
              </a:rPr>
              <a:t>/أغسطس </a:t>
            </a:r>
            <a:r>
              <a:rPr b="0" lang="ar-AE" sz="1800" spc="-1" strike="noStrike">
                <a:solidFill>
                  <a:srgbClr val="000000"/>
                </a:solidFill>
                <a:latin typeface="Arial"/>
              </a:rPr>
              <a:t>1330</a:t>
            </a:r>
            <a:r>
              <a:rPr b="0" lang="ar-AE" sz="1800" spc="-1" strike="noStrike">
                <a:solidFill>
                  <a:srgbClr val="000000"/>
                </a:solidFill>
                <a:latin typeface="Arial"/>
              </a:rPr>
              <a:t> هجرية , وبعد ذلك اصبحت موزعة بين وزارة الصحة حيث كانت مسؤولة عن تسجيل المواليد والوفيات بينما كانت المحاكم الشرعية والكنسية مسؤولة عن تسجيل الزواج والطلاق فكان المواطن المسلم يسجل زواجه او طلاقه في المحكمة الشرعية والمواطن المسيحي امام الجهات الكنسية , اما دائرة الاحصاءات فكانت مسؤولة عن الاحصاء الحيوي , ودائرة الجوازات عن البطاقات الشخصية وجوازات السفر .</a:t>
            </a:r>
            <a:endParaRPr b="0" lang="en-US" sz="1800" spc="-1" strike="noStrike">
              <a:solidFill>
                <a:srgbClr val="000000"/>
              </a:solidFill>
              <a:latin typeface="Arial"/>
            </a:endParaRPr>
          </a:p>
          <a:p>
            <a:pPr marL="315360" indent="-315360" algn="just"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ن تنوع مجالات نشاط الدولة وتعدد واجباتها وتشعب مهامها ومسؤولياتها وتفرع صنوف الخدمات التي تقدمها للأفراد عن طريق المرافق العامة التي تتولى إنشائها وإدارتها ولان التخطيط السليم يحتاج إلى عمليات تنظيم ومعلومات إحصائية حيوية دقيقة تمكن الدولة من معرفة عدد السكان ومعدلات النمو ومراكز التجمعات السكانية من اجل توزيع الخدمات وإنشاء المشاريع الإنتاجية والاقتصادية لتحقيق التنمية الاقتصادية والاجتماعية والثقافية وحيث كانت هذه الإحصاءات وعناصر التخطيط مبعثرة وموزعة على عدة جهات تتولى إدارتها وإصدار الوثائق الخاصة بها ونتيجة للإحساس المتزايد للدولة لتطوير هذه الخدمات والتخطيط لإظهارها بشكل أفضل فقد برزت الحاجة إلى جمع هذه العناصر وجعل أمر متابعتها محصورة بجهة واحدة تكون قاعدة حقيقية لهذا التخطيط وتكون بياناتها جاهزة تحت تصرفها في أي وقت فقد برزت فكرة إنشاء دائرة للأحوال المدنية لتقوم بجميع هذه المهام , وتحقيقا لذلك صدر قانون الاحوال المدنية رقم </a:t>
            </a:r>
            <a:r>
              <a:rPr b="0" lang="ar-AE" sz="1800" spc="-1" strike="noStrike">
                <a:solidFill>
                  <a:srgbClr val="000000"/>
                </a:solidFill>
                <a:latin typeface="Arial"/>
              </a:rPr>
              <a:t>32</a:t>
            </a:r>
            <a:r>
              <a:rPr b="0" lang="ar-AE" sz="1800" spc="-1" strike="noStrike">
                <a:solidFill>
                  <a:srgbClr val="000000"/>
                </a:solidFill>
                <a:latin typeface="Arial"/>
              </a:rPr>
              <a:t> لسنة </a:t>
            </a:r>
            <a:r>
              <a:rPr b="0" lang="ar-AE" sz="1800" spc="-1" strike="noStrike">
                <a:solidFill>
                  <a:srgbClr val="000000"/>
                </a:solidFill>
                <a:latin typeface="Arial"/>
              </a:rPr>
              <a:t>1966</a:t>
            </a:r>
            <a:r>
              <a:rPr b="0" lang="ar-AE" sz="1800" spc="-1" strike="noStrike">
                <a:solidFill>
                  <a:srgbClr val="000000"/>
                </a:solidFill>
                <a:latin typeface="Arial"/>
              </a:rPr>
              <a:t> والذي اوجد دائرة مستقلة سماها دائرة الاحوال المدنية اناط بها هذه المسؤوليات جميعها وربطها بوزير الداخلية , ولكن هذه الدائرة لم تستطيع القيام بالمهام المطلوبة منها الا جزئيا بسبب ظروف تلك الفترة واستمر هذا الوضع حتى بعد صدور قانون جديد للاحوال المدنية رقم </a:t>
            </a:r>
            <a:r>
              <a:rPr b="0" lang="ar-AE" sz="1800" spc="-1" strike="noStrike">
                <a:solidFill>
                  <a:srgbClr val="000000"/>
                </a:solidFill>
                <a:latin typeface="Arial"/>
              </a:rPr>
              <a:t>34</a:t>
            </a:r>
            <a:r>
              <a:rPr b="0" lang="ar-AE" sz="1800" spc="-1" strike="noStrike">
                <a:solidFill>
                  <a:srgbClr val="000000"/>
                </a:solidFill>
                <a:latin typeface="Arial"/>
              </a:rPr>
              <a:t> لسنة </a:t>
            </a:r>
            <a:r>
              <a:rPr b="0" lang="ar-AE" sz="1800" spc="-1" strike="noStrike">
                <a:solidFill>
                  <a:srgbClr val="000000"/>
                </a:solidFill>
                <a:latin typeface="Arial"/>
              </a:rPr>
              <a:t>1973</a:t>
            </a:r>
            <a:r>
              <a:rPr b="0" lang="ar-A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50920" y="1628640"/>
            <a:ext cx="8642160" cy="6129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ستقرت الامور في المنطقة عام </a:t>
            </a:r>
            <a:r>
              <a:rPr b="0" lang="ar-AE" sz="1800" spc="-1" strike="noStrike">
                <a:solidFill>
                  <a:srgbClr val="000000"/>
                </a:solidFill>
                <a:latin typeface="Arial"/>
              </a:rPr>
              <a:t>1977</a:t>
            </a:r>
            <a:r>
              <a:rPr b="0" lang="ar-AE" sz="1800" spc="-1" strike="noStrike">
                <a:solidFill>
                  <a:srgbClr val="000000"/>
                </a:solidFill>
                <a:latin typeface="Arial"/>
              </a:rPr>
              <a:t> فبدأ عمل الدائرة فعليا وكان التحدي الكبير هو تسجيل المواطنين مدنياً وتوثيق كافة بياناتهم والواقعات الحيوية التي تحدث لهم في سجلات الدائرة ، واصدار الوثائق المتعلقة بها اعتماداً على هذه البيانات ولتحقيق هذا الهدف قامت الدائرة بإنشاء مكاتبها لتغطي كافة التجمعات السكانية الكبيرة، حيث بدأت عملها من خلال (</a:t>
            </a:r>
            <a:r>
              <a:rPr b="0" lang="ar-AE" sz="1800" spc="-1" strike="noStrike">
                <a:solidFill>
                  <a:srgbClr val="000000"/>
                </a:solidFill>
                <a:latin typeface="Arial"/>
              </a:rPr>
              <a:t>39</a:t>
            </a:r>
            <a:r>
              <a:rPr b="0" lang="ar-AE" sz="1800" spc="-1" strike="noStrike">
                <a:solidFill>
                  <a:srgbClr val="000000"/>
                </a:solidFill>
                <a:latin typeface="Arial"/>
              </a:rPr>
              <a:t>) مكتباً غطت جميع محافظات المملكة ،وشكلت اللجان وتعاونت مع الحكام الاداريين وخاصة في المناطق النائية التي لا يوجد فيها مكاتب للدائرة في ذلك الوقت لتسجيل المواطنين الذين لا يحملون وثائق ثبوتية واعتماد آلية رسمية لتسجيلهم مدنياً.</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     ونتيجة لهذه الجهود اخذت نسبة تسجيل المواطنين في الارتفاع واصبح لدى الدائرة كم مقبول من البيانات والمعلومات لمواطني المملكة، ولكن الدائرة واجهت ايضا في هذه المرحلة تحدياً جديداً تمثل في جودة و دقة المعلومة وكيفية الاستفادة منها ، حيث كان السجل المدني مجزءاً على مستوى المكتب ومجزءاً على مستوى التجمع السكاني ضمن المكتب الواحد وليس على مستوى المملكة فحسب، مما أثر ذلك سلباً في جودة و دقة المعلومات والاحصائيات اليدوية الناتجة عن هذا العمل وعدم اعتمادها من قبل الدولة للغايات التي تعد من اجلها.</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     ولمواجهة هذا التحدي اتجهت الدائرة نحو الحوسبة منذ عام </a:t>
            </a:r>
            <a:r>
              <a:rPr b="0" lang="ar-AE" sz="1800" spc="-1" strike="noStrike">
                <a:solidFill>
                  <a:srgbClr val="000000"/>
                </a:solidFill>
                <a:latin typeface="Arial"/>
              </a:rPr>
              <a:t>1983</a:t>
            </a:r>
            <a:r>
              <a:rPr b="0" lang="ar-AE" sz="1800" spc="-1" strike="noStrike">
                <a:solidFill>
                  <a:srgbClr val="000000"/>
                </a:solidFill>
                <a:latin typeface="Arial"/>
              </a:rPr>
              <a:t> حيث بدأت مرحلة تخزين بيانات المواطن على الحاسب الآلي، و قد استمرت هذه المرحلة بايجابياتها و سلبياتها حتى منتصف عام </a:t>
            </a:r>
            <a:r>
              <a:rPr b="0" lang="ar-AE" sz="1800" spc="-1" strike="noStrike">
                <a:solidFill>
                  <a:srgbClr val="000000"/>
                </a:solidFill>
                <a:latin typeface="Arial"/>
              </a:rPr>
              <a:t>1997</a:t>
            </a:r>
            <a:r>
              <a:rPr b="0" lang="ar-AE" sz="1800" spc="-1" strike="noStrike">
                <a:solidFill>
                  <a:srgbClr val="000000"/>
                </a:solidFill>
                <a:latin typeface="Arial"/>
              </a:rPr>
              <a:t> ،وامتازت هذه المرحلة بدمج دائرة الجوازات العامة مع دائرة الاحوال المدنية لتصبح دائرة واحدة وتحت مسمى دائرة الاحوال المدنية والجوازات في عام </a:t>
            </a:r>
            <a:r>
              <a:rPr b="0" lang="ar-AE" sz="1800" spc="-1" strike="noStrike">
                <a:solidFill>
                  <a:srgbClr val="000000"/>
                </a:solidFill>
                <a:latin typeface="Arial"/>
              </a:rPr>
              <a:t>1988</a:t>
            </a:r>
            <a:r>
              <a:rPr b="0" lang="ar-AE" sz="1800" spc="-1" strike="noStrike">
                <a:solidFill>
                  <a:srgbClr val="000000"/>
                </a:solidFill>
                <a:latin typeface="Arial"/>
              </a:rPr>
              <a:t> وبظهور الرقم الوطني: وهو عبارة عن رمز رقمي يتكون من عشرة خانات يتم استحداثه مع ادخال كل فرد جديد الى الحاسب الالي , وقد بدأ بتدوينه على الوثائق الصادرة للمواطنين اعتبارا من </a:t>
            </a:r>
            <a:r>
              <a:rPr b="0" lang="ar-AE" sz="1800" spc="-1" strike="noStrike">
                <a:solidFill>
                  <a:srgbClr val="000000"/>
                </a:solidFill>
                <a:latin typeface="Arial"/>
              </a:rPr>
              <a:t>15</a:t>
            </a:r>
            <a:r>
              <a:rPr b="0" lang="ar-AE" sz="1800" spc="-1" strike="noStrike">
                <a:solidFill>
                  <a:srgbClr val="000000"/>
                </a:solidFill>
                <a:latin typeface="Arial"/>
              </a:rPr>
              <a:t>-</a:t>
            </a:r>
            <a:r>
              <a:rPr b="0" lang="ar-AE" sz="1800" spc="-1" strike="noStrike">
                <a:solidFill>
                  <a:srgbClr val="000000"/>
                </a:solidFill>
                <a:latin typeface="Arial"/>
              </a:rPr>
              <a:t>3</a:t>
            </a:r>
            <a:r>
              <a:rPr b="0" lang="ar-AE" sz="1800" spc="-1" strike="noStrike">
                <a:solidFill>
                  <a:srgbClr val="000000"/>
                </a:solidFill>
                <a:latin typeface="Arial"/>
              </a:rPr>
              <a:t>-</a:t>
            </a:r>
            <a:r>
              <a:rPr b="0" lang="ar-AE" sz="1800" spc="-1" strike="noStrike">
                <a:solidFill>
                  <a:srgbClr val="000000"/>
                </a:solidFill>
                <a:latin typeface="Arial"/>
              </a:rPr>
              <a:t>1992</a:t>
            </a:r>
            <a:r>
              <a:rPr b="0" lang="ar-AE" sz="1800" spc="-1" strike="noStrike">
                <a:solidFill>
                  <a:srgbClr val="000000"/>
                </a:solidFill>
                <a:latin typeface="Arial"/>
              </a:rPr>
              <a:t> واضيفت اليه خانة واحدة تسمى خانة التدقيق </a:t>
            </a:r>
            <a:r>
              <a:rPr b="0" lang="en-US" sz="1800" spc="-1" strike="noStrike">
                <a:solidFill>
                  <a:srgbClr val="000000"/>
                </a:solidFill>
                <a:latin typeface="Arial"/>
              </a:rPr>
              <a:t>check digit</a:t>
            </a:r>
            <a:r>
              <a:rPr b="0" lang="en-US" sz="1800" spc="-1" strike="noStrike">
                <a:solidFill>
                  <a:srgbClr val="000000"/>
                </a:solidFill>
                <a:latin typeface="Arial"/>
              </a:rPr>
              <a:t> </a:t>
            </a:r>
            <a:r>
              <a:rPr b="0" lang="ar-AE" sz="1800" spc="-1" strike="noStrike">
                <a:solidFill>
                  <a:srgbClr val="000000"/>
                </a:solidFill>
                <a:latin typeface="Arial"/>
              </a:rPr>
              <a:t>وقد حقق استخدام الرقم الوطني المزايا التال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عدم التكرار</a:t>
            </a:r>
            <a:r>
              <a:rPr b="0" lang="ar-AE" sz="2000" spc="-1" strike="noStrike">
                <a:solidFill>
                  <a:srgbClr val="000000"/>
                </a:solidFill>
                <a:latin typeface="Arial"/>
              </a:rPr>
              <a:t> : فللفرد الواحد رقم واحد حتى لو تطابقت الاسماء او المعلومات الشخصية الاخرى مع الافراد الاخرين , وان لا يحمل نفس الرقم اكثر من مواطن واحد .</a:t>
            </a:r>
            <a:endParaRPr b="0" lang="en-US" sz="2000" spc="-1" strike="noStrike">
              <a:solidFill>
                <a:srgbClr val="000000"/>
              </a:solidFill>
              <a:latin typeface="Arial"/>
            </a:endParaRPr>
          </a:p>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عدم التغيير</a:t>
            </a:r>
            <a:r>
              <a:rPr b="0" lang="ar-AE" sz="2000" spc="-1" strike="noStrike">
                <a:solidFill>
                  <a:srgbClr val="000000"/>
                </a:solidFill>
                <a:latin typeface="Arial"/>
              </a:rPr>
              <a:t> : فالرقم الوطني لا يتغيير حتى ولو تغيرت البيانات الخاصة بالفرد حامل الرقم  بسبب ما سيترتب على الرقم الوطني من حقوق والتزامات . </a:t>
            </a:r>
            <a:endParaRPr b="0" lang="en-US" sz="2000" spc="-1" strike="noStrike">
              <a:solidFill>
                <a:srgbClr val="000000"/>
              </a:solidFill>
              <a:latin typeface="Arial"/>
            </a:endParaRPr>
          </a:p>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سهولة ودقة الاستعمال</a:t>
            </a:r>
            <a:r>
              <a:rPr b="0" lang="ar-AE" sz="2000" spc="-1" strike="noStrike">
                <a:solidFill>
                  <a:srgbClr val="000000"/>
                </a:solidFill>
                <a:latin typeface="Arial"/>
              </a:rPr>
              <a:t> : وذلك في تخزين المعلومات في الحاسب او عند استرجاعها بدلا من استعمال الاسماء والحروف .</a:t>
            </a:r>
            <a:endParaRPr b="0" lang="en-US" sz="2000" spc="-1" strike="noStrike">
              <a:solidFill>
                <a:srgbClr val="000000"/>
              </a:solidFill>
              <a:latin typeface="Arial"/>
            </a:endParaRPr>
          </a:p>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توحيد جهة التعامل</a:t>
            </a:r>
            <a:r>
              <a:rPr b="0" lang="ar-AE" sz="2000" spc="-1" strike="noStrike">
                <a:solidFill>
                  <a:srgbClr val="000000"/>
                </a:solidFill>
                <a:latin typeface="Arial"/>
              </a:rPr>
              <a:t> : اذ يكون الرقم الوطني للفرد هو الرقم الوحيد المعتمد للرجوع اليه في جميع الجهات المستخدمة له مما يوفر امكانية الحصول على جميع المعلومات الخاصة بالفرد لدى الجهات المختلفة .</a:t>
            </a:r>
            <a:endParaRPr b="0" lang="en-US" sz="2000" spc="-1" strike="noStrike">
              <a:solidFill>
                <a:srgbClr val="000000"/>
              </a:solidFill>
              <a:latin typeface="Arial"/>
            </a:endParaRPr>
          </a:p>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الشمولية </a:t>
            </a:r>
            <a:r>
              <a:rPr b="0" lang="ar-AE" sz="2000" spc="-1" strike="noStrike">
                <a:solidFill>
                  <a:srgbClr val="000000"/>
                </a:solidFill>
                <a:latin typeface="Arial"/>
              </a:rPr>
              <a:t>: اي منح الرقم الوطني لكل من يحمل الجنسية الاردنية وبغض النظر عن مكان اقامته وان يتم التعامل مع المواطن من قبل جميع الدوائر والمؤسسات من خلال الرقم الوطني مما يسهل عليها الحصول على البيانات وتدقيقها والتحقق من صحتها .</a:t>
            </a:r>
            <a:endParaRPr b="0" lang="en-US" sz="2000" spc="-1" strike="noStrike">
              <a:solidFill>
                <a:srgbClr val="000000"/>
              </a:solidFill>
              <a:latin typeface="Arial"/>
            </a:endParaRPr>
          </a:p>
          <a:p>
            <a:pPr marL="301680" indent="-301680" algn="just"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u="sng">
                <a:solidFill>
                  <a:srgbClr val="000000"/>
                </a:solidFill>
                <a:uFillTx/>
                <a:latin typeface="Arial"/>
              </a:rPr>
              <a:t>الاستمرارية</a:t>
            </a:r>
            <a:r>
              <a:rPr b="0" lang="ar-AE" sz="2000" spc="-1" strike="noStrike">
                <a:solidFill>
                  <a:srgbClr val="000000"/>
                </a:solidFill>
                <a:latin typeface="Arial"/>
              </a:rPr>
              <a:t> : ذلك ان سهولة استخدام الرقم الوطني ومنحه للمواطنيين يتم بطريقة سلسة وبسيطة مما يبررويعزز الدافع بالاستمرار بمنحه لجميع المواطنين اولا باول .</a:t>
            </a:r>
            <a:endParaRPr b="0" lang="en-US" sz="2000" spc="-1" strike="noStrike">
              <a:solidFill>
                <a:srgbClr val="000000"/>
              </a:solidFill>
              <a:latin typeface="Arial"/>
            </a:endParaRPr>
          </a:p>
          <a:p>
            <a:pPr marL="3016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000" spc="-1" strike="noStrike">
                <a:solidFill>
                  <a:srgbClr val="000000"/>
                </a:solidFill>
                <a:latin typeface="Arial"/>
              </a:rPr>
              <a:t>وكان هذا الرقم اساس التحول من العمل اليدوي الى العمل الحاسوبي الذي انجزناه في عام </a:t>
            </a:r>
            <a:r>
              <a:rPr b="0" lang="ar-AE" sz="2000" spc="-1" strike="noStrike">
                <a:solidFill>
                  <a:srgbClr val="000000"/>
                </a:solidFill>
                <a:latin typeface="Arial"/>
              </a:rPr>
              <a:t>1996</a:t>
            </a:r>
            <a:r>
              <a:rPr b="0" lang="ar-AE" sz="2000" spc="-1" strike="noStrike">
                <a:solidFill>
                  <a:srgbClr val="000000"/>
                </a:solidFill>
                <a:latin typeface="Arial"/>
              </a:rPr>
              <a:t> فاصبحت كافة اعمال الدائرة والوثائق الصادرة عنها تصدر حاسوبيا مما تتطلب تطوير القانون ليتناسب مع الواقع الجديد حيث صدر القانون رقم </a:t>
            </a:r>
            <a:r>
              <a:rPr b="0" lang="ar-AE" sz="2000" spc="-1" strike="noStrike">
                <a:solidFill>
                  <a:srgbClr val="000000"/>
                </a:solidFill>
                <a:latin typeface="Arial"/>
              </a:rPr>
              <a:t>9</a:t>
            </a:r>
            <a:r>
              <a:rPr b="0" lang="ar-AE" sz="2000" spc="-1" strike="noStrike">
                <a:solidFill>
                  <a:srgbClr val="000000"/>
                </a:solidFill>
                <a:latin typeface="Arial"/>
              </a:rPr>
              <a:t> لسنة </a:t>
            </a:r>
            <a:r>
              <a:rPr b="0" lang="ar-AE" sz="2000" spc="-1" strike="noStrike">
                <a:solidFill>
                  <a:srgbClr val="000000"/>
                </a:solidFill>
                <a:latin typeface="Arial"/>
              </a:rPr>
              <a:t>2001</a:t>
            </a:r>
            <a:r>
              <a:rPr b="0" lang="ar-AE" sz="2000" spc="-1" strike="noStrike">
                <a:solidFill>
                  <a:srgbClr val="000000"/>
                </a:solidFill>
                <a:latin typeface="Arial"/>
              </a:rPr>
              <a:t> والذي اعتمد فيه سجل الحاسب الالي كسجل شامل لكافة السجلات التي نص عليها قانون الاحوال والتي تعمل الدائرة من خلالها كالسجل المدني وسجل الواقعات ...الخ وادخل على نص هذا القانون عددا من التعديلات منها تخويل الدائرة صلاحيات كانت في الاساس من صلاحيات القضاء التصحيح  في اسم العائلة التي اصبحت من اختصاص لجنة تم تشكيلها في الدائرة . وفي عام </a:t>
            </a:r>
            <a:r>
              <a:rPr b="0" lang="ar-AE" sz="2000" spc="-1" strike="noStrike">
                <a:solidFill>
                  <a:srgbClr val="000000"/>
                </a:solidFill>
                <a:latin typeface="Arial"/>
              </a:rPr>
              <a:t>2001</a:t>
            </a:r>
            <a:r>
              <a:rPr b="0" lang="ar-AE" sz="2000" spc="-1" strike="noStrike">
                <a:solidFill>
                  <a:srgbClr val="000000"/>
                </a:solidFill>
                <a:latin typeface="Arial"/>
              </a:rPr>
              <a:t> ايضا وبسبب الثقة في دقة البيانات والسرعة في الانجاز اضيف الى الدائرة مهمة جديدة تمثلت في التسجيل الانتخابي واعداد الجداول الانتخابية واصدار البطاقة الشخصية الانتخابية حيث تتوفر لدى الدائرة المعلومات الشخصية وامكانية اضافة الافراد الذين يكملون السن القانونية الى الجداول الانتخابية اولا باول كما يمكنها حذف من لا يحق له الانتخاب او حالات الوفاة وبسرعة مدهشة , مما سهل مهمة القائمين على الانتخابات سواء النيابية او البلدية , وفي عام </a:t>
            </a:r>
            <a:r>
              <a:rPr b="0" lang="ar-AE" sz="2000" spc="-1" strike="noStrike">
                <a:solidFill>
                  <a:srgbClr val="000000"/>
                </a:solidFill>
                <a:latin typeface="Arial"/>
              </a:rPr>
              <a:t>2006</a:t>
            </a:r>
            <a:r>
              <a:rPr b="0" lang="ar-AE" sz="2000" spc="-1" strike="noStrike">
                <a:solidFill>
                  <a:srgbClr val="000000"/>
                </a:solidFill>
                <a:latin typeface="Arial"/>
              </a:rPr>
              <a:t> بدات الدائرة مرحلة جديدة فادخلت نظام الارشفة الالكترونية لكافة الوثائق المحفوظة لديها وتقدر ب</a:t>
            </a:r>
            <a:r>
              <a:rPr b="0" lang="ar-AE" sz="2000" spc="-1" strike="noStrike">
                <a:solidFill>
                  <a:srgbClr val="000000"/>
                </a:solidFill>
                <a:latin typeface="Arial"/>
              </a:rPr>
              <a:t>5</a:t>
            </a:r>
            <a:r>
              <a:rPr b="0" lang="ar-AE" sz="2000" spc="-1" strike="noStrike">
                <a:solidFill>
                  <a:srgbClr val="000000"/>
                </a:solidFill>
                <a:latin typeface="Arial"/>
              </a:rPr>
              <a:t> مليون ملف اكثر من </a:t>
            </a:r>
            <a:r>
              <a:rPr b="0" lang="ar-AE" sz="2000" spc="-1" strike="noStrike">
                <a:solidFill>
                  <a:srgbClr val="000000"/>
                </a:solidFill>
                <a:latin typeface="Arial"/>
              </a:rPr>
              <a:t>120</a:t>
            </a:r>
            <a:r>
              <a:rPr b="0" lang="ar-AE" sz="2000" spc="-1" strike="noStrike">
                <a:solidFill>
                  <a:srgbClr val="000000"/>
                </a:solidFill>
                <a:latin typeface="Arial"/>
              </a:rPr>
              <a:t> مليون وثيقة , وبهذه الخطوة تستكمل حلقة العمل الحاسوبي في الدائرة وتصبح كافة اعمالها تتم بطريقة الية .</a:t>
            </a:r>
            <a:endParaRPr b="0" lang="en-US" sz="2000" spc="-1" strike="noStrike">
              <a:solidFill>
                <a:srgbClr val="000000"/>
              </a:solidFill>
              <a:latin typeface="Arial"/>
            </a:endParaRPr>
          </a:p>
          <a:p>
            <a:pPr marL="3052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3300" spc="-1" strike="noStrike" u="sng">
                <a:solidFill>
                  <a:srgbClr val="336666"/>
                </a:solidFill>
                <a:uFillTx/>
                <a:latin typeface="Arial Black"/>
              </a:rPr>
              <a:t>الهيكل التنظيمي والانتشار الجغرافي للدائرة</a:t>
            </a: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4000"/>
          </a:bodyPr>
          <a:p>
            <a:pPr marL="322200" indent="-322200" algn="just"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دائرة الاحوال المدنية والجوازات مؤسسة حكومية ترتبط بمعالي وزير الداخلية ويديرها مدير عام يعاونه مساعدين ويرتبط بهما مدراء إدارات يتكون منهم جميعا لجنه تسمى"لجنـة التخطيط" وتشـرف علـى وضـع الخطـط الادارية والاجـراءات اللازمـة لتيسيـر أعمـال الدائـرة وتطويرها والاشراف على تنفيذها .</a:t>
            </a:r>
            <a:endParaRPr b="0" lang="en-US" sz="2200" spc="-1" strike="noStrike">
              <a:solidFill>
                <a:srgbClr val="000000"/>
              </a:solidFill>
              <a:latin typeface="Arial"/>
            </a:endParaRPr>
          </a:p>
          <a:p>
            <a:pPr marL="322200" indent="-322200" algn="just"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أما المهام التنفيذية فيقوم بها من جهة الادارات في المركز  وهي :</a:t>
            </a:r>
            <a:endParaRPr b="0" lang="en-US" sz="2200" spc="-1" strike="noStrike">
              <a:solidFill>
                <a:srgbClr val="000000"/>
              </a:solidFill>
              <a:latin typeface="Arial"/>
            </a:endParaRPr>
          </a:p>
          <a:p>
            <a:pPr marL="322200" indent="-322200" algn="just"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ادارة شؤون الموظفين  , ادارة الشؤون الادارية , ادارة الشؤون المالية , ادارة الشؤون القانونية , ادارة التطوير الاداري والتدريب , ادارة الحاسب الالي , ادارة الرقابة والتفتيش الداخلي </a:t>
            </a:r>
            <a:endParaRPr b="0" lang="en-US" sz="2200" spc="-1" strike="noStrike">
              <a:solidFill>
                <a:srgbClr val="000000"/>
              </a:solidFill>
              <a:latin typeface="Arial"/>
            </a:endParaRPr>
          </a:p>
          <a:p>
            <a:pPr marL="322200" indent="-322200" algn="just"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200" spc="-1" strike="noStrike">
                <a:solidFill>
                  <a:srgbClr val="000000"/>
                </a:solidFill>
                <a:latin typeface="Arial"/>
              </a:rPr>
              <a:t> ومن جهة اخرى المديريات :ففي كل محافظة مديرية يراسها مدير تم تفويضه بجزء كبير من صلاحيات المدير العام ويتبع له عددا من المكاتب  , وقد بلغ عدد هذه المكاتب </a:t>
            </a:r>
            <a:r>
              <a:rPr b="0" lang="ar-AE" sz="2200" spc="-1" strike="noStrike">
                <a:solidFill>
                  <a:srgbClr val="000000"/>
                </a:solidFill>
                <a:latin typeface="Arial"/>
              </a:rPr>
              <a:t>74</a:t>
            </a:r>
            <a:r>
              <a:rPr b="0" lang="ar-AE" sz="2200" spc="-1" strike="noStrike">
                <a:solidFill>
                  <a:srgbClr val="000000"/>
                </a:solidFill>
                <a:latin typeface="Arial"/>
              </a:rPr>
              <a:t> مكتبا موزعة في كافة انحاء المملكة لاداء الخدمات المختلفة وفق المهام التي حددها القانون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300" spc="-1" strike="noStrike">
                <a:solidFill>
                  <a:srgbClr val="336666"/>
                </a:solidFill>
                <a:latin typeface="Arial Black"/>
              </a:rPr>
              <a:t>الاطار القانوني لعمل الدائرة </a:t>
            </a:r>
            <a:r>
              <a:rPr b="0" lang="ar-JO" sz="3300" spc="-1" strike="noStrike">
                <a:solidFill>
                  <a:srgbClr val="336666"/>
                </a:solidFill>
                <a:latin typeface="Arial Black"/>
              </a:rPr>
              <a:t>:</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5000"/>
          </a:bodyPr>
          <a:p>
            <a:pPr marL="291600" indent="-29160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اما </a:t>
            </a:r>
            <a:r>
              <a:rPr b="1" i="1" lang="ar-AE" sz="3100" spc="-1" strike="noStrike" u="sng">
                <a:solidFill>
                  <a:srgbClr val="000000"/>
                </a:solidFill>
                <a:uFillTx/>
                <a:latin typeface="Arial"/>
              </a:rPr>
              <a:t>الاطار القانوني</a:t>
            </a:r>
            <a:r>
              <a:rPr b="0" lang="ar-AE" sz="3100" spc="-1" strike="noStrike">
                <a:solidFill>
                  <a:srgbClr val="000000"/>
                </a:solidFill>
                <a:latin typeface="Arial"/>
              </a:rPr>
              <a:t> لعمل الدائرة فيشمل بالاضافة الى عدد من الانظمة والتعليمات القوانين التالية :</a:t>
            </a:r>
            <a:endParaRPr b="0" lang="en-US" sz="3100" spc="-1" strike="noStrike">
              <a:solidFill>
                <a:srgbClr val="000000"/>
              </a:solidFill>
              <a:latin typeface="Arial"/>
            </a:endParaRPr>
          </a:p>
          <a:p>
            <a:pPr marL="291600" indent="-29160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قانون الجنسية رقم ( </a:t>
            </a:r>
            <a:r>
              <a:rPr b="0" lang="ar-AE" sz="3100" spc="-1" strike="noStrike">
                <a:solidFill>
                  <a:srgbClr val="000000"/>
                </a:solidFill>
                <a:latin typeface="Arial"/>
              </a:rPr>
              <a:t>6</a:t>
            </a:r>
            <a:r>
              <a:rPr b="0" lang="ar-AE" sz="3100" spc="-1" strike="noStrike">
                <a:solidFill>
                  <a:srgbClr val="000000"/>
                </a:solidFill>
                <a:latin typeface="Arial"/>
              </a:rPr>
              <a:t>) لسنه </a:t>
            </a:r>
            <a:r>
              <a:rPr b="0" lang="ar-AE" sz="3100" spc="-1" strike="noStrike">
                <a:solidFill>
                  <a:srgbClr val="000000"/>
                </a:solidFill>
                <a:latin typeface="Arial"/>
              </a:rPr>
              <a:t>1954</a:t>
            </a:r>
            <a:r>
              <a:rPr b="0" lang="ar-AE" sz="3100" spc="-1" strike="noStrike">
                <a:solidFill>
                  <a:srgbClr val="000000"/>
                </a:solidFill>
                <a:latin typeface="Arial"/>
              </a:rPr>
              <a:t> وتعديلاته .</a:t>
            </a:r>
            <a:endParaRPr b="0" lang="en-US" sz="3100" spc="-1" strike="noStrike">
              <a:solidFill>
                <a:srgbClr val="000000"/>
              </a:solidFill>
              <a:latin typeface="Arial"/>
            </a:endParaRPr>
          </a:p>
          <a:p>
            <a:pPr marL="291600" indent="-29160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قانون الاحوال المدنية رقم (</a:t>
            </a:r>
            <a:r>
              <a:rPr b="0" lang="ar-AE" sz="3100" spc="-1" strike="noStrike">
                <a:solidFill>
                  <a:srgbClr val="000000"/>
                </a:solidFill>
                <a:latin typeface="Arial"/>
              </a:rPr>
              <a:t>9</a:t>
            </a:r>
            <a:r>
              <a:rPr b="0" lang="ar-AE" sz="3100" spc="-1" strike="noStrike">
                <a:solidFill>
                  <a:srgbClr val="000000"/>
                </a:solidFill>
                <a:latin typeface="Arial"/>
              </a:rPr>
              <a:t>) لسنه </a:t>
            </a:r>
            <a:r>
              <a:rPr b="0" lang="ar-AE" sz="3100" spc="-1" strike="noStrike">
                <a:solidFill>
                  <a:srgbClr val="000000"/>
                </a:solidFill>
                <a:latin typeface="Arial"/>
              </a:rPr>
              <a:t>2001</a:t>
            </a:r>
            <a:r>
              <a:rPr b="0" lang="ar-AE" sz="3100" spc="-1" strike="noStrike">
                <a:solidFill>
                  <a:srgbClr val="000000"/>
                </a:solidFill>
                <a:latin typeface="Arial"/>
              </a:rPr>
              <a:t> وتعديلاته. </a:t>
            </a:r>
            <a:endParaRPr b="0" lang="en-US" sz="3100" spc="-1" strike="noStrike">
              <a:solidFill>
                <a:srgbClr val="000000"/>
              </a:solidFill>
              <a:latin typeface="Arial"/>
            </a:endParaRPr>
          </a:p>
          <a:p>
            <a:pPr marL="291600" indent="-29160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قانون جوازات السفر رقم (</a:t>
            </a:r>
            <a:r>
              <a:rPr b="0" lang="ar-AE" sz="3100" spc="-1" strike="noStrike">
                <a:solidFill>
                  <a:srgbClr val="000000"/>
                </a:solidFill>
                <a:latin typeface="Arial"/>
              </a:rPr>
              <a:t>5</a:t>
            </a:r>
            <a:r>
              <a:rPr b="0" lang="ar-AE" sz="3100" spc="-1" strike="noStrike">
                <a:solidFill>
                  <a:srgbClr val="000000"/>
                </a:solidFill>
                <a:latin typeface="Arial"/>
              </a:rPr>
              <a:t>) لسنه </a:t>
            </a:r>
            <a:r>
              <a:rPr b="0" lang="ar-AE" sz="3100" spc="-1" strike="noStrike">
                <a:solidFill>
                  <a:srgbClr val="000000"/>
                </a:solidFill>
                <a:latin typeface="Arial"/>
              </a:rPr>
              <a:t>2003</a:t>
            </a:r>
            <a:r>
              <a:rPr b="0" lang="ar-AE" sz="3100" spc="-1" strike="noStrike">
                <a:solidFill>
                  <a:srgbClr val="000000"/>
                </a:solidFill>
                <a:latin typeface="Arial"/>
              </a:rPr>
              <a:t> وتعديلاته.</a:t>
            </a:r>
            <a:endParaRPr b="0" lang="en-US" sz="3100" spc="-1" strike="noStrike">
              <a:solidFill>
                <a:srgbClr val="000000"/>
              </a:solidFill>
              <a:latin typeface="Arial"/>
            </a:endParaRPr>
          </a:p>
          <a:p>
            <a:pPr marL="291600" indent="-29160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قانون الانتخابات لمجلس النواب رقم (</a:t>
            </a:r>
            <a:r>
              <a:rPr b="0" lang="ar-AE" sz="3100" spc="-1" strike="noStrike">
                <a:solidFill>
                  <a:srgbClr val="000000"/>
                </a:solidFill>
                <a:latin typeface="Arial"/>
              </a:rPr>
              <a:t>34</a:t>
            </a:r>
            <a:r>
              <a:rPr b="0" lang="ar-AE" sz="3100" spc="-1" strike="noStrike">
                <a:solidFill>
                  <a:srgbClr val="000000"/>
                </a:solidFill>
                <a:latin typeface="Arial"/>
              </a:rPr>
              <a:t>) لسنة </a:t>
            </a:r>
            <a:r>
              <a:rPr b="0" lang="ar-AE" sz="3100" spc="-1" strike="noStrike">
                <a:solidFill>
                  <a:srgbClr val="000000"/>
                </a:solidFill>
                <a:latin typeface="Arial"/>
              </a:rPr>
              <a:t>2001</a:t>
            </a:r>
            <a:r>
              <a:rPr b="0" lang="ar-AE" sz="3100" spc="-1" strike="noStrike">
                <a:solidFill>
                  <a:srgbClr val="000000"/>
                </a:solidFill>
                <a:latin typeface="Arial"/>
              </a:rPr>
              <a:t> وتعديلاته.</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300" spc="-1" strike="noStrike">
                <a:solidFill>
                  <a:srgbClr val="336666"/>
                </a:solidFill>
                <a:latin typeface="Arial Black"/>
              </a:rPr>
              <a:t>المهام والواجبات المحددة بحسب التشريعات</a:t>
            </a:r>
            <a:br>
              <a:rPr sz="3300"/>
            </a:b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33224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بيانات الخاصة بالاسر الأردنية واصدار دفتر عائلة لكل أسرة وإنشاء  رقم وطني لكل مواطن اردني.</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وتخزين الواقعات الحيوية للمواطنين اينما حدثت ( ولادة، وفاة، زواج، طلاق) واصدار الشهادات الخاصة لكل منها. </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وتخزين الواقعات الحيوية للاجانب اذا حدثت داخل المملكة واصدار الشهادات الخاصه لكل منها.</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إصدار وتجديد جواز السفر العادي .</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إصدار جوازات السفر المؤقتة لابناء الضفة الغربية</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جوازات السفر المؤقتة لأبناء قطاع غزة المقيمين على ارض المملكة.</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صدار بطاقة الاقامة المؤقتة لأبناء قطاع غزة المقيمين على أرض المملكة.</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إصدار البطاقات الشخصية للمواطنين. </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تسجيل الناخبين واعداد الجداول الانتخابية وتثبيت اسم الدائرة الانتخابية على البطاقة الشخصية.</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اعداد نماذج الطلبات والوثائق والسجلات والبرامج الحاسوبية الخاصة بأعمال الدائرة.</a:t>
            </a:r>
            <a:endParaRPr b="0" lang="en-US" sz="1800" spc="-1" strike="noStrike">
              <a:solidFill>
                <a:srgbClr val="000000"/>
              </a:solidFill>
              <a:latin typeface="Arial"/>
            </a:endParaRPr>
          </a:p>
          <a:p>
            <a:pPr marL="343080" indent="-343080" algn="r" rtl="1">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00000"/>
                </a:solidFill>
                <a:latin typeface="Arial"/>
              </a:rPr>
              <a:t>.</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300" spc="-1" strike="noStrike">
                <a:solidFill>
                  <a:srgbClr val="336666"/>
                </a:solidFill>
                <a:latin typeface="Arial Black"/>
              </a:rPr>
              <a:t>مهام وواجبات أخرى:</a:t>
            </a:r>
            <a:br>
              <a:rPr sz="3300"/>
            </a:b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86000"/>
          </a:bodyPr>
          <a:p>
            <a:pPr marL="294840" indent="-294840" algn="r" rtl="1">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التنسيق والتعاون مع الدوائر والمؤسسات الرسمية وتوفير البيانات والمعلومات اللازمه لاداء اعمالها. </a:t>
            </a:r>
            <a:endParaRPr b="0" lang="en-US" sz="3100" spc="-1" strike="noStrike">
              <a:solidFill>
                <a:srgbClr val="000000"/>
              </a:solidFill>
              <a:latin typeface="Arial"/>
            </a:endParaRPr>
          </a:p>
          <a:p>
            <a:pPr marL="294840" indent="-294840" algn="r" rtl="1">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توفير المعلومات والاحصائيات المتعلقة بأعمال الدائرة للاستفادة منها من قبل المخططين والدارسين.</a:t>
            </a:r>
            <a:endParaRPr b="0" lang="en-US" sz="3100" spc="-1" strike="noStrike">
              <a:solidFill>
                <a:srgbClr val="000000"/>
              </a:solidFill>
              <a:latin typeface="Arial"/>
            </a:endParaRPr>
          </a:p>
          <a:p>
            <a:pPr marL="294840" indent="-294840" algn="r" rtl="1">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توفير فرص التدريب لطلبة المعاهد والجامعات في الدائرة.</a:t>
            </a:r>
            <a:endParaRPr b="0" lang="en-US" sz="3100" spc="-1" strike="noStrike">
              <a:solidFill>
                <a:srgbClr val="000000"/>
              </a:solidFill>
              <a:latin typeface="Arial"/>
            </a:endParaRPr>
          </a:p>
          <a:p>
            <a:pPr marL="294840" indent="-294840" algn="r" rtl="1">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100" spc="-1" strike="noStrike">
                <a:solidFill>
                  <a:srgbClr val="000000"/>
                </a:solidFill>
                <a:latin typeface="Arial"/>
              </a:rPr>
              <a:t>الاشتراك في اللجان الرسمية والمساهمة في اعداد التقارير السنوية الصادرة عنها مثل:  اللجنة الوطنية للسكان، واللجنة الوطنية للمرأة وغيرها</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1:47:49Z</dcterms:created>
  <dc:creator>AHMAD</dc:creator>
  <dc:description/>
  <dc:language>en-US</dc:language>
  <cp:lastModifiedBy>kamal2</cp:lastModifiedBy>
  <dcterms:modified xsi:type="dcterms:W3CDTF">2007-11-26T10:46:20Z</dcterms:modified>
  <cp:revision>2</cp:revision>
  <dc:subject/>
  <dc:title> دائرة الاحوال المدنية والجوازات</dc:title>
</cp:coreProperties>
</file>